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E63-5A2C-4BE9-857B-3B0B9708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340-9ECE-4E74-9042-A2AF45C7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8A6-510A-462F-8468-6AFDF389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94C-D8DA-45E1-88BD-C64A46C9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FAD-85E1-4B59-8B2F-39BF8FB7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5FA-377B-414E-AA80-00A823E9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EC3-BD9F-4C39-9B39-A12B48B4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605-161A-4671-AD68-7F15AEE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E18-B9BD-4E40-811E-BA35413B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EA9-3080-435D-AE97-B40F243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551-2D6D-4422-B9AE-2741A0EC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73F-29B6-4EFB-86A9-52C70F3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AF5F-D3C9-4B30-AEB0-706F8950F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406440"/>
            <a:ext cx="6343560" cy="8280360"/>
            <a:chOff x="285840" y="406440"/>
            <a:chExt cx="6343560" cy="8280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18732" r="1562" b="11452"/>
            <a:stretch/>
          </p:blipFill>
          <p:spPr>
            <a:xfrm>
              <a:off x="285840" y="406440"/>
              <a:ext cx="6343560" cy="34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8732" r="1562" b="11188"/>
            <a:stretch/>
          </p:blipFill>
          <p:spPr>
            <a:xfrm>
              <a:off x="304920" y="3782880"/>
              <a:ext cx="6324480" cy="330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18732" r="1562" b="47308"/>
            <a:stretch/>
          </p:blipFill>
          <p:spPr>
            <a:xfrm>
              <a:off x="304920" y="7086600"/>
              <a:ext cx="632448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04920"/>
            <a:ext cx="6400800" cy="7238520"/>
            <a:chOff x="228600" y="304920"/>
            <a:chExt cx="6400800" cy="72385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51083" r="1562" b="15497"/>
            <a:stretch/>
          </p:blipFill>
          <p:spPr>
            <a:xfrm>
              <a:off x="228600" y="304920"/>
              <a:ext cx="640080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rcRect l="0" t="25203" r="1562" b="37063"/>
            <a:stretch/>
          </p:blipFill>
          <p:spPr>
            <a:xfrm>
              <a:off x="228600" y="1850400"/>
              <a:ext cx="6400800" cy="18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rcRect l="0" t="26283" r="1562" b="15497"/>
            <a:stretch/>
          </p:blipFill>
          <p:spPr>
            <a:xfrm>
              <a:off x="228600" y="3550680"/>
              <a:ext cx="6400800" cy="27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53238" r="1562" b="19813"/>
            <a:stretch/>
          </p:blipFill>
          <p:spPr>
            <a:xfrm>
              <a:off x="228600" y="6255360"/>
              <a:ext cx="6400800" cy="128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9:36:32Z</dcterms:created>
  <dc:creator>SSoB</dc:creator>
  <dc:description/>
  <dc:language>en-US</dc:language>
  <cp:lastModifiedBy>SSoB</cp:lastModifiedBy>
  <dcterms:modified xsi:type="dcterms:W3CDTF">2006-04-17T20:01:23Z</dcterms:modified>
  <cp:revision>3</cp:revision>
  <dc:subject/>
  <dc:title>Slide 1</dc:title>
</cp:coreProperties>
</file>