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D948-0D8E-4B49-B1B3-6AE045AD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16F4-ED70-4E0D-9A26-02D040DE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CF3E-A2F2-4B67-BA4F-627F2F22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7D4D-C412-4A45-B37B-B85BF02D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360A-F547-43F8-9925-96FFD986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96BB-EB21-42B7-9E56-8D15FB77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FB35-B1A4-463B-820A-56EE87B3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7D00-98E9-49A2-B7ED-44065F62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66DC-C5A5-4046-8217-20F1B306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A17B-31C1-4E17-BDCE-02998B9B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2F20-0300-4103-8B29-CEDB138D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7D1F-035B-4631-ABF3-A4E1700D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78EB-5D9D-486A-BE54-8A4E2708E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85840" y="406440"/>
            <a:ext cx="6343560" cy="8280360"/>
            <a:chOff x="285840" y="406440"/>
            <a:chExt cx="6343560" cy="828036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0" t="18732" r="1562" b="11452"/>
            <a:stretch/>
          </p:blipFill>
          <p:spPr>
            <a:xfrm>
              <a:off x="285840" y="406440"/>
              <a:ext cx="6343560" cy="343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rcRect l="0" t="18732" r="1562" b="11188"/>
            <a:stretch/>
          </p:blipFill>
          <p:spPr>
            <a:xfrm>
              <a:off x="304920" y="3782880"/>
              <a:ext cx="6324480" cy="330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rcRect l="0" t="18732" r="1562" b="47308"/>
            <a:stretch/>
          </p:blipFill>
          <p:spPr>
            <a:xfrm>
              <a:off x="304920" y="7086600"/>
              <a:ext cx="632448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28600" y="304920"/>
            <a:ext cx="6400800" cy="7238520"/>
            <a:chOff x="228600" y="304920"/>
            <a:chExt cx="6400800" cy="7238520"/>
          </a:xfrm>
        </p:grpSpPr>
        <p:pic>
          <p:nvPicPr>
            <p:cNvPr id="46" name="" descr=""/>
            <p:cNvPicPr/>
            <p:nvPr/>
          </p:nvPicPr>
          <p:blipFill>
            <a:blip r:embed="rId1"/>
            <a:srcRect l="0" t="51083" r="1562" b="15497"/>
            <a:stretch/>
          </p:blipFill>
          <p:spPr>
            <a:xfrm>
              <a:off x="228600" y="304920"/>
              <a:ext cx="6400800" cy="15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2"/>
            <a:srcRect l="0" t="25203" r="1562" b="37063"/>
            <a:stretch/>
          </p:blipFill>
          <p:spPr>
            <a:xfrm>
              <a:off x="228600" y="1850400"/>
              <a:ext cx="6400800" cy="180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3"/>
            <a:srcRect l="0" t="26283" r="1562" b="15497"/>
            <a:stretch/>
          </p:blipFill>
          <p:spPr>
            <a:xfrm>
              <a:off x="228600" y="3550680"/>
              <a:ext cx="6400800" cy="27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rcRect l="0" t="53238" r="1562" b="19813"/>
            <a:stretch/>
          </p:blipFill>
          <p:spPr>
            <a:xfrm>
              <a:off x="228600" y="6255360"/>
              <a:ext cx="6400800" cy="128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19:36:32Z</dcterms:created>
  <dc:creator>SSoB</dc:creator>
  <dc:description/>
  <dc:language>en-US</dc:language>
  <cp:lastModifiedBy>SSoB</cp:lastModifiedBy>
  <dcterms:modified xsi:type="dcterms:W3CDTF">2006-04-17T20:01:23Z</dcterms:modified>
  <cp:revision>3</cp:revision>
  <dc:subject/>
  <dc:title>Slide 1</dc:title>
</cp:coreProperties>
</file>