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2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113-5894-4750-A4FB-43B8BA5D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595-EC28-428E-B749-2B407B8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CCF-2912-4363-9199-97C69D6D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895-2801-4D9F-9D61-989D054F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37D4-A8E5-41A5-BBC3-3ADF300A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255-5F0C-431C-B3DF-48696B3C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6055-BD6F-4CD5-B626-6C36EB54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0606-26FC-4AA8-9D1A-CF4EA3A2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393-5B85-45F8-A4BE-8C81FCFE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7019-D05F-4B07-BD95-369CA971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1099-00AB-4287-9985-A7A392DC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670-F687-4D25-9631-50EAE10C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D878-42F1-42FA-9535-7CA6483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9642-958F-4D08-A09D-63B6DA4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1AD2-75A7-4ACD-A33F-2D3F05F9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A46-E338-4F0A-93B7-96DDC504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B37-5762-4E1F-A58F-6ADBC6A4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683-18DA-4B9D-AEE9-15BCE6CE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780-CA44-4DA5-AF97-60DABC73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945-0E97-49AA-A2ED-E75C99C0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C23-C0CB-4954-9A0F-F1B2442F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D0D-2861-4E69-A9AE-E9C562C8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B67-4C54-438D-B52E-90FAD1A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B7A-A185-4F65-A15F-24EF8C7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d7e6c5"/>
              </a:gs>
              <a:gs pos="50000">
                <a:srgbClr val="fefefe"/>
              </a:gs>
              <a:gs pos="100000">
                <a:srgbClr val="d7e6c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d7e6c5"/>
              </a:gs>
              <a:gs pos="50000">
                <a:srgbClr val="fefefe"/>
              </a:gs>
              <a:gs pos="100000">
                <a:srgbClr val="d7e6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8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7893-18C0-4182-B020-7514B73F2873}" type="slidenum">
              <a:rPr b="0" lang="en-US" sz="1400" spc="-1" strike="noStrike">
                <a:solidFill>
                  <a:srgbClr val="2f8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d7e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7aba05"/>
                  </a:gs>
                  <a:gs pos="100000">
                    <a:srgbClr val="c5e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2f8b20"/>
                  </a:gs>
                  <a:gs pos="100000">
                    <a:srgbClr val="92c2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c5e093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d7e6c5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7ab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fa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2f8b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f8b2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BB02-2C4B-4101-8F9A-865BF6FE5267}" type="slidenum">
              <a:rPr b="0" lang="en-US" sz="1400" spc="-1" strike="noStrike">
                <a:solidFill>
                  <a:srgbClr val="2f8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d7e6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7aba05"/>
                  </a:gs>
                  <a:gs pos="100000">
                    <a:srgbClr val="c5e0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2f8b20"/>
                  </a:gs>
                  <a:gs pos="100000">
                    <a:srgbClr val="92c2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c5e093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d7e6c5"/>
                  </a:gs>
                  <a:gs pos="100000">
                    <a:srgbClr val="7aba0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7aba05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faf18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2f8b2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>
            <a:off x="-457200" y="-762120"/>
            <a:ext cx="10287000" cy="792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Option Macro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Trading Strategi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374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-5400" y="4132800"/>
            <a:ext cx="8844120" cy="2496240"/>
            <a:chOff x="-5400" y="4132800"/>
            <a:chExt cx="8844120" cy="2496240"/>
          </a:xfrm>
        </p:grpSpPr>
        <p:sp>
          <p:nvSpPr>
            <p:cNvPr id="149" name=""/>
            <p:cNvSpPr/>
            <p:nvPr/>
          </p:nvSpPr>
          <p:spPr>
            <a:xfrm>
              <a:off x="749880" y="4736520"/>
              <a:ext cx="8088840" cy="18925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13600">
              <a:off x="3240" y="4570560"/>
              <a:ext cx="31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ption Strate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Trading Strategi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280" y="1776240"/>
            <a:ext cx="883944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Results of Trading Strategi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ing a Cal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ing a Pu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ullish Call Sprea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earish Put Sprea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lling a Stradd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lling a Butterfly Sprea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80880" y="1905120"/>
            <a:ext cx="4038480" cy="3912840"/>
            <a:chOff x="380880" y="1905120"/>
            <a:chExt cx="4038480" cy="3912840"/>
          </a:xfrm>
        </p:grpSpPr>
        <p:grpSp>
          <p:nvGrpSpPr>
            <p:cNvPr id="157" name=""/>
            <p:cNvGrpSpPr/>
            <p:nvPr/>
          </p:nvGrpSpPr>
          <p:grpSpPr>
            <a:xfrm>
              <a:off x="380880" y="1905120"/>
              <a:ext cx="4038480" cy="3912840"/>
              <a:chOff x="380880" y="1905120"/>
              <a:chExt cx="4038480" cy="39128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3040" y="1905120"/>
                <a:ext cx="0" cy="391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3040" y="3974040"/>
                <a:ext cx="36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24840" y="3986280"/>
                <a:ext cx="794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96760" y="3938040"/>
                <a:ext cx="6019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0880" y="3350520"/>
                <a:ext cx="1753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134440" y="3350520"/>
                <a:ext cx="1403640" cy="1623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27600" y="3886560"/>
                <a:ext cx="0" cy="7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33520" y="2194560"/>
              <a:ext cx="102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4341600" cy="26971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Writing a Call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410080" y="1914480"/>
            <a:ext cx="2837160" cy="1895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34120" y="7086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24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Writing a Put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5800" y="2133720"/>
            <a:ext cx="3429000" cy="3276360"/>
            <a:chOff x="685800" y="2133720"/>
            <a:chExt cx="3429000" cy="3276360"/>
          </a:xfrm>
        </p:grpSpPr>
        <p:sp>
          <p:nvSpPr>
            <p:cNvPr id="172" name=""/>
            <p:cNvSpPr/>
            <p:nvPr/>
          </p:nvSpPr>
          <p:spPr>
            <a:xfrm>
              <a:off x="685800" y="213372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3876840"/>
              <a:ext cx="315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5120" y="2370240"/>
              <a:ext cx="1417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35480" y="3886200"/>
              <a:ext cx="679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3320" y="3933720"/>
              <a:ext cx="42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5800" y="3044520"/>
              <a:ext cx="1481040" cy="167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84480" y="3044880"/>
              <a:ext cx="1098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60720" y="380052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341600" cy="26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37160" cy="1895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34120" y="6858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242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8b20"/>
                </a:solidFill>
                <a:latin typeface="Lucida Grande"/>
              </a:rPr>
              <a:t>MO MONEY – Bullish Call Spread </a:t>
            </a:r>
            <a:endParaRPr b="1" lang="en-US" sz="4000" spc="-1" strike="noStrike">
              <a:solidFill>
                <a:srgbClr val="2f8b20"/>
              </a:solidFill>
              <a:latin typeface="Lucida Grande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1240" y="1905120"/>
            <a:ext cx="3809520" cy="3352680"/>
            <a:chOff x="381240" y="1905120"/>
            <a:chExt cx="3809520" cy="3352680"/>
          </a:xfrm>
        </p:grpSpPr>
        <p:sp>
          <p:nvSpPr>
            <p:cNvPr id="185" name=""/>
            <p:cNvSpPr/>
            <p:nvPr/>
          </p:nvSpPr>
          <p:spPr>
            <a:xfrm>
              <a:off x="392040" y="19051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040" y="3581280"/>
              <a:ext cx="373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09280" y="351144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26160" y="3511440"/>
              <a:ext cx="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33240" y="3553560"/>
              <a:ext cx="53928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44840" y="3553560"/>
              <a:ext cx="1068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240" y="194724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82880" y="3022560"/>
              <a:ext cx="407880" cy="11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709280" y="2743200"/>
              <a:ext cx="1316880" cy="167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709280" y="2044080"/>
              <a:ext cx="2194560" cy="279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92040" y="4838400"/>
              <a:ext cx="1316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92040" y="4419360"/>
              <a:ext cx="1316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38760" y="2754720"/>
              <a:ext cx="878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2040" y="316224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26160" y="3162240"/>
              <a:ext cx="877680" cy="1117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65040" y="5373720"/>
            <a:ext cx="3063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call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call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33920" y="4086360"/>
            <a:ext cx="4433760" cy="27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837160" cy="1895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410080" y="7238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24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8b20"/>
                </a:solidFill>
                <a:latin typeface="Lucida Grande"/>
              </a:rPr>
              <a:t>MO MONEY – Bearish Put Spread </a:t>
            </a:r>
            <a:endParaRPr b="1" lang="en-US" sz="40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05" name=""/>
          <p:cNvSpPr/>
          <p:nvPr/>
        </p:nvSpPr>
        <p:spPr>
          <a:xfrm>
            <a:off x="365040" y="5373720"/>
            <a:ext cx="3063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put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put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1752480"/>
            <a:ext cx="4603680" cy="3428640"/>
            <a:chOff x="0" y="1752480"/>
            <a:chExt cx="4603680" cy="3428640"/>
          </a:xfrm>
        </p:grpSpPr>
        <p:sp>
          <p:nvSpPr>
            <p:cNvPr id="207" name=""/>
            <p:cNvSpPr/>
            <p:nvPr/>
          </p:nvSpPr>
          <p:spPr>
            <a:xfrm>
              <a:off x="0" y="1752480"/>
              <a:ext cx="324108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6120" y="2188800"/>
              <a:ext cx="0" cy="29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6120" y="3684960"/>
              <a:ext cx="408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806840" y="3622320"/>
              <a:ext cx="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47200" y="3622320"/>
              <a:ext cx="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1800" y="36604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2160" y="366048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4240" y="222660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83480" y="366048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680" y="2936880"/>
              <a:ext cx="144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14400" y="2936880"/>
              <a:ext cx="1440360" cy="1496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54760" y="4433400"/>
              <a:ext cx="1020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916200" y="2376000"/>
              <a:ext cx="2340720" cy="243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7280" y="4807440"/>
              <a:ext cx="1020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5840" y="3310920"/>
              <a:ext cx="1440360" cy="1496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16560" y="3310920"/>
              <a:ext cx="2460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4086360"/>
            <a:ext cx="4341600" cy="2695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410080" y="2019240"/>
            <a:ext cx="2837160" cy="1895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257800" y="7238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242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Sell Straddle 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27" name=""/>
          <p:cNvSpPr/>
          <p:nvPr/>
        </p:nvSpPr>
        <p:spPr>
          <a:xfrm>
            <a:off x="365040" y="537372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call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put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828800"/>
            <a:ext cx="4138200" cy="3048120"/>
            <a:chOff x="304920" y="1828800"/>
            <a:chExt cx="4138200" cy="3048120"/>
          </a:xfrm>
        </p:grpSpPr>
        <p:sp>
          <p:nvSpPr>
            <p:cNvPr id="229" name=""/>
            <p:cNvSpPr/>
            <p:nvPr/>
          </p:nvSpPr>
          <p:spPr>
            <a:xfrm>
              <a:off x="317520" y="18288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7520" y="3352680"/>
              <a:ext cx="39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4920" y="186696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79000" y="33591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389320" y="3289320"/>
              <a:ext cx="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04640" y="3359160"/>
              <a:ext cx="456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12480" y="2971800"/>
              <a:ext cx="2073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58800" y="2971800"/>
              <a:ext cx="17272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86080" y="2971800"/>
              <a:ext cx="172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2385720" y="2971800"/>
              <a:ext cx="17254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04920" y="2463480"/>
              <a:ext cx="2081160" cy="2260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361960" y="2463480"/>
              <a:ext cx="2081160" cy="2260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433760" cy="2752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837160" cy="1895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34120" y="6858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242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– Sell Butterfly 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105520"/>
            <a:ext cx="3063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call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a put at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call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put a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9760" y="4114800"/>
            <a:ext cx="4341960" cy="269568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152280" y="1828800"/>
            <a:ext cx="4214160" cy="3048120"/>
            <a:chOff x="152280" y="1828800"/>
            <a:chExt cx="4214160" cy="3048120"/>
          </a:xfrm>
        </p:grpSpPr>
        <p:sp>
          <p:nvSpPr>
            <p:cNvPr id="248" name=""/>
            <p:cNvSpPr/>
            <p:nvPr/>
          </p:nvSpPr>
          <p:spPr>
            <a:xfrm flipV="1">
              <a:off x="1142640" y="327672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00040" y="327672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640" y="327672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99880" y="3276720"/>
              <a:ext cx="57384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4880" y="18288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4880" y="3353040"/>
              <a:ext cx="39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2280" y="1866960"/>
              <a:ext cx="1132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f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26360" y="3359160"/>
              <a:ext cx="520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236320" y="3288960"/>
              <a:ext cx="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2000" y="3359160"/>
              <a:ext cx="456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59840" y="2971800"/>
              <a:ext cx="2073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06160" y="2971800"/>
              <a:ext cx="17272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33440" y="2971800"/>
              <a:ext cx="172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233080" y="2971800"/>
              <a:ext cx="1725480" cy="1905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66320" y="403884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152280" y="2971800"/>
              <a:ext cx="96336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280" y="411480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200040" y="2819520"/>
              <a:ext cx="1143000" cy="1295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2233080" y="2057400"/>
              <a:ext cx="990360" cy="198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76040" y="403884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23440" y="403884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090440" y="2057400"/>
              <a:ext cx="1143000" cy="198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2837160" cy="1895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410080" y="71629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242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</a:t>
            </a:r>
            <a:br>
              <a:rPr sz="4400"/>
            </a:b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A Simulation-Based Test</a:t>
            </a:r>
            <a:br>
              <a:rPr sz="4400"/>
            </a:b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of Black-Schole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epared by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eg Goodm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rijesh Gulat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ike Keslosk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agesh Thukr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14800" y="73152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Conclusion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17400" y="1893960"/>
            <a:ext cx="7917120" cy="4354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7238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4000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Overview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el Mechanic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andom Walk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ption Macr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ding Strategy Calcul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af1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view of Various Trading Strateg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aba0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4120" y="68580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4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535120" cy="2735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 - INTRODUCTION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64796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OD!!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THINK ALL THIS FINANCE THEORY IS WACC!!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KNOW HOW TO MAKE THE EASY MONE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523880"/>
            <a:ext cx="4724280" cy="2210040"/>
          </a:xfrm>
          <a:prstGeom prst="wedgeRectCallout">
            <a:avLst>
              <a:gd name="adj1" fmla="val -91597"/>
              <a:gd name="adj2" fmla="val 30819"/>
            </a:avLst>
          </a:prstGeom>
          <a:noFill/>
          <a:ln w="57240">
            <a:solidFill>
              <a:srgbClr val="7ab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400800" y="3809880"/>
            <a:ext cx="2192400" cy="264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66680" y="4876920"/>
            <a:ext cx="4191120" cy="1523880"/>
          </a:xfrm>
          <a:prstGeom prst="wedgeRectCallout">
            <a:avLst>
              <a:gd name="adj1" fmla="val 92009"/>
              <a:gd name="adj2" fmla="val -30625"/>
            </a:avLst>
          </a:prstGeom>
          <a:noFill/>
          <a:ln w="57240">
            <a:solidFill>
              <a:srgbClr val="7ab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4876920"/>
            <a:ext cx="4114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IC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ETS USE EUROPEAN OPTIONS AND BECOME AMERICA’s NEXT TOP MODE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 MONEY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08296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21040" cy="243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81280" y="1828800"/>
            <a:ext cx="4419720" cy="1828800"/>
          </a:xfrm>
          <a:prstGeom prst="wedgeRectCallout">
            <a:avLst>
              <a:gd name="adj1" fmla="val -93101"/>
              <a:gd name="adj2" fmla="val 20314"/>
            </a:avLst>
          </a:prstGeom>
          <a:solidFill>
            <a:srgbClr val="7aba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Europea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qualify Us from America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Top Mode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just go for Europe’s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ode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181480" y="71629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4495680"/>
            <a:ext cx="3809880" cy="1828800"/>
          </a:xfrm>
          <a:prstGeom prst="cloudCallout">
            <a:avLst>
              <a:gd name="adj1" fmla="val 105750"/>
              <a:gd name="adj2" fmla="val -30032"/>
            </a:avLst>
          </a:prstGeom>
          <a:solidFill>
            <a:srgbClr val="7aba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nder if thi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reall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24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Model Input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43400" y="4419720"/>
            <a:ext cx="53352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05240" y="2666880"/>
            <a:ext cx="876240" cy="457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Random Walk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1880" y="2405160"/>
            <a:ext cx="7678800" cy="42242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52280" y="1600200"/>
            <a:ext cx="2667240" cy="3505320"/>
            <a:chOff x="152280" y="1600200"/>
            <a:chExt cx="2667240" cy="3505320"/>
          </a:xfrm>
        </p:grpSpPr>
        <p:sp>
          <p:nvSpPr>
            <p:cNvPr id="133" name=""/>
            <p:cNvSpPr/>
            <p:nvPr/>
          </p:nvSpPr>
          <p:spPr>
            <a:xfrm>
              <a:off x="152280" y="160020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dom Wa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1981080"/>
              <a:ext cx="38124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90720" y="2514600"/>
              <a:ext cx="1600200" cy="25909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Random Walk Results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76200" y="2133720"/>
            <a:ext cx="6572520" cy="407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57800" y="70866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24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8b20"/>
                </a:solidFill>
                <a:latin typeface="Lucida Grande"/>
              </a:rPr>
              <a:t>The Model – Option Calculation</a:t>
            </a:r>
            <a:endParaRPr b="1" lang="en-US" sz="4400" spc="-1" strike="noStrike">
              <a:solidFill>
                <a:srgbClr val="2f8b20"/>
              </a:solidFill>
              <a:latin typeface="Lucida Gran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009880"/>
            <a:ext cx="8537400" cy="46958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3581280" y="1600200"/>
            <a:ext cx="5181840" cy="3200400"/>
            <a:chOff x="3581280" y="1600200"/>
            <a:chExt cx="5181840" cy="3200400"/>
          </a:xfrm>
        </p:grpSpPr>
        <p:sp>
          <p:nvSpPr>
            <p:cNvPr id="142" name=""/>
            <p:cNvSpPr/>
            <p:nvPr/>
          </p:nvSpPr>
          <p:spPr>
            <a:xfrm>
              <a:off x="3581280" y="1947960"/>
              <a:ext cx="5181840" cy="28526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67400" y="1600200"/>
              <a:ext cx="30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tion Calcul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8:01:51Z</dcterms:created>
  <dc:creator>Gregory Goodman</dc:creator>
  <dc:description/>
  <dc:language>en-US</dc:language>
  <cp:lastModifiedBy>Michael Keslosky</cp:lastModifiedBy>
  <dcterms:modified xsi:type="dcterms:W3CDTF">2006-04-24T17:21:13Z</dcterms:modified>
  <cp:revision>24</cp:revision>
  <dc:subject/>
  <dc:title>MO MONEY</dc:title>
</cp:coreProperties>
</file>