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E25A-8E47-4F83-8785-4E139C2E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A003-A831-4E3C-A345-B219690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67AF-F975-4D9C-BD79-0BE61B55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46C0-95D2-4F99-A6E0-75E7B993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525-70D8-418C-BFF4-672ABEB2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F990-CAF7-4A8F-AB88-DADA1985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57CD-A6A5-469B-B349-EE765460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8D9F-AAEB-4E89-BB68-3E983F46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309-0B2B-4191-8CE2-F7A6242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AA5E-4C8A-405C-9CBA-0335C608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49E-D51D-4696-B195-CFF84AE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15ED-8871-443E-B69E-95F0D906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8808-E040-4616-AB7A-985AD556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607E-A159-49D8-885A-8C81EA5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411B-E020-434A-8DAE-96E86912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44FC-EA58-40E7-B044-119D9CBF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ED88-242E-4B9E-983A-B00F4B89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02E8-6056-4835-95E6-3EBAD31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04FA-72A8-4A42-B5B3-894A592A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9080-D599-4797-9C43-0F1E9C1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1F741-F1B9-4243-932C-CB6B90CD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8EBC-D484-4D0F-84D0-9D815DF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E1BE-D896-4446-82E2-7E9BFAB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A9C6-2434-4A45-8800-BC2314A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747C-8CFB-4962-8181-2C6039B851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283-7DF3-4360-B8D3-CD21952B4B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38080" y="1981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 Perspectives on the Job Market…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2666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Now that Excel is Our BITCH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4419720"/>
            <a:ext cx="441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am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dam Bec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Jason Riss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ichael Smo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hilip Sof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lly Tho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3595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pril 24, 2006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s: 1 period = 6 months ; Salaries = USD$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838080" y="2514600"/>
            <a:ext cx="3578400" cy="3816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4876920" y="2438280"/>
            <a:ext cx="38098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 English, this mea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nvesment Bank jobs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pen on ave. once every 5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riods (it’s the inver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Office Space Dude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rom. happen once every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 perio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IB jobs have less prom.,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t steeper rai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-Only the best and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atient can be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ltimate Male Model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79246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Variables and Timing 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304920" y="1859040"/>
            <a:ext cx="853416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Vlookup” to find salary at any given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n interest based on random normally distributed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ssumed a career has 74 perio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37 years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. student age 28 means retirement @ 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simulate random exponential variables for hiring/promotion times and normal variables for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100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rystal Ball to keep track of ending salary so can com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udent Perspective Model Resul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445752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PRISE!!!: In this case, “settling” produces more income, with less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isk-loving, shoot for the sta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the ULTIMATE MALE MODELER!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609480" y="1252440"/>
            <a:ext cx="77724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Student Perspective Model Result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Trial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4419720" y="1600200"/>
            <a:ext cx="3581280" cy="2432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581280" cy="2432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38862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 and Q&amp;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Perspective model relies on exponentially distributed waiting time variables to see if “worth” the wait for better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for school selection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 is now officially our bitch!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CD way of lif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 to hear what students have to 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the recruiters just happ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as little real work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udent Perspecti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me the mone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it or Sett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allocation model (think MBA tea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olutionary Solv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ay, “ooooh”, we sa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b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of Jobs 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 Attributes (Self Selected or Inpu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Formu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Variables = Job Al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Function = Penalty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imize weighted average of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 hiring (can’t hire more than open– highly weighted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SzPct val="128673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ssing attributes (can’t fulfill all requirements- lightly weighted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Attributes: Company Entered, Allocating 7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Attributes: Self Selected or OCD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838080" y="1905120"/>
            <a:ext cx="7315200" cy="25257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4"/>
          <a:stretch/>
        </p:blipFill>
        <p:spPr>
          <a:xfrm>
            <a:off x="838080" y="4952880"/>
            <a:ext cx="731520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9640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if Box (The black box where calc’s get ma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285640" y="228600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23623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772400" y="23623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610480" y="4495680"/>
            <a:ext cx="1526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629400" y="5334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CD’s Model Resul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jobs open are f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tty low maintena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al input from 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get student input to maintain pret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mployment “job” gives you flexibility with regard to possible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unemployed are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Student Persp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couldn’t care about O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 how do students view the job 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udents see three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hing (ie. Top notch Investment Ba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tling (ie. Office Space Du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-REACH (i.e., Decision Models Prof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ka “The ULTIMATE Male Modeler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 YOU CHOOSE WHICH ONE TO PURSUE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6781680" y="2514600"/>
            <a:ext cx="15051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Student Perspectiv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any variables to consider, includ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ften does each job open u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banker opening more rare than Office Space Dude.  Ultimate Male Modeler most rare of al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often does one get promoted in each job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one’s salary trajectory look like at each promo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ny of these variables correlated?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ay, “ooooh”, we say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udent Perspective Mode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you to consider all these variables and see which job produces the highest lifetime after-tax in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finding &amp; promotion variables are modeled as exponentially distributed random interarrival times (think catalog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ookup allows you to find relevant salary at a give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lifetime after-tax income simulated in Crystal ball (think 401k/retirement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23:19:44Z</dcterms:created>
  <dc:creator>Stern Business School</dc:creator>
  <dc:description/>
  <dc:language>en-US</dc:language>
  <cp:lastModifiedBy>Michael J. Smolow</cp:lastModifiedBy>
  <dcterms:modified xsi:type="dcterms:W3CDTF">2006-04-24T18:49:51Z</dcterms:modified>
  <cp:revision>17</cp:revision>
  <dc:subject/>
  <dc:title>Slide 1</dc:title>
</cp:coreProperties>
</file>