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media/image7.pct" ContentType="image/x-pict"/>
  <Override PartName="/ppt/media/image12.pct" ContentType="image/x-pict"/>
  <Override PartName="/ppt/media/image8.pct" ContentType="image/x-pict"/>
  <Override PartName="/ppt/media/image13.pct" ContentType="image/x-pict"/>
  <Override PartName="/ppt/media/image9.pct" ContentType="image/x-pi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5835B-EE8D-4684-A2AB-FF298382A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07BC3-B35C-469C-B0FF-6543E7046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8A837-F3B9-4815-933E-FB28FC97A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51B68-F378-4343-AA5D-549F12E3E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84ABA-2506-4A73-8F59-7DE61580B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21013-3BAF-41FE-9A62-7185AE2C3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BCC07-1171-4AB1-BCD8-F82EFE0F9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4932C-837B-4B93-8C14-F3ABB836D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057040" y="274320"/>
            <a:ext cx="6629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C37B2-0F9B-47F2-ADF1-48BF91BBF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F5D35-304A-424F-AA34-12ED1ED38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01470-AD06-4259-A786-F4EE90F5F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74078-26BB-4E12-9F4F-D8EF51652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e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780B3-301B-4519-AD44-BC94F129DD8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61800" y="139680"/>
            <a:ext cx="1009800" cy="1308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ct"/><Relationship Id="rId2" Type="http://schemas.openxmlformats.org/officeDocument/2006/relationships/image" Target="../media/image11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ct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ct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image" Target="../media/image6.pct"/><Relationship Id="rId3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e0000"/>
                </a:solidFill>
                <a:latin typeface="Arial"/>
              </a:rPr>
              <a:t>Decision Models:</a:t>
            </a:r>
            <a:br>
              <a:rPr sz="3600"/>
            </a:br>
            <a:r>
              <a:rPr b="0" lang="en-US" sz="3600" spc="-1" strike="noStrike">
                <a:solidFill>
                  <a:srgbClr val="ee0000"/>
                </a:solidFill>
                <a:latin typeface="Arial"/>
              </a:rPr>
              <a:t>Movie Selection</a:t>
            </a:r>
            <a:endParaRPr b="0" lang="en-US" sz="3600" spc="-1" strike="noStrike">
              <a:solidFill>
                <a:srgbClr val="ee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666880"/>
            <a:ext cx="8229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udson Copl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tt Kel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ulo Larumb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rk Spelb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niel Weisled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0000"/>
                </a:solidFill>
                <a:latin typeface="Arial"/>
              </a:rPr>
              <a:t>The Model</a:t>
            </a:r>
            <a:endParaRPr b="0" lang="en-US" sz="4400" spc="-1" strike="noStrike">
              <a:solidFill>
                <a:srgbClr val="ee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80880" y="1600200"/>
            <a:ext cx="8610840" cy="487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09480" y="1752480"/>
            <a:ext cx="5496120" cy="212436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2743200" y="4191120"/>
            <a:ext cx="6105600" cy="21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0000"/>
                </a:solidFill>
                <a:latin typeface="Arial"/>
              </a:rPr>
              <a:t>Evolutionary Solver</a:t>
            </a:r>
            <a:endParaRPr b="0" lang="en-US" sz="4400" spc="-1" strike="noStrike">
              <a:solidFill>
                <a:srgbClr val="ee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520" y="182880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this is where the movie magic happe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3003480"/>
            <a:ext cx="9144000" cy="26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0000"/>
                </a:solidFill>
                <a:latin typeface="Arial"/>
              </a:rPr>
              <a:t>Result</a:t>
            </a:r>
            <a:endParaRPr b="0" lang="en-US" sz="4400" spc="-1" strike="noStrike">
              <a:solidFill>
                <a:srgbClr val="ee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91440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0000"/>
                </a:solidFill>
                <a:latin typeface="Arial"/>
              </a:rPr>
              <a:t>Demonstration</a:t>
            </a:r>
            <a:endParaRPr b="0" lang="en-US" sz="4400" spc="-1" strike="noStrike">
              <a:solidFill>
                <a:srgbClr val="ee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ck to our troubled couple.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about if you are single, alone, unsocial, and have no friends?.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 Mission is Impossible for this mod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00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e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tter than Netflix, TiV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ousands of relationships will be sav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ppiness will grow in the worl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have made our contribution to Humanit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deserve a big, fat “A+” for i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1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10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10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2000"/>
                            </p:stCondLst>
                            <p:childTnLst>
                              <p:par>
                                <p:cTn id="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1000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3000"/>
                            </p:stCondLst>
                            <p:childTnLst>
                              <p:par>
                                <p:cTn id="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100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8381880" y="53341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restart="whenNotActive" nodeType="interactiveSeq" fill="hold">
                <p:stCondLst>
                  <p:cond evt="onClick">
                    <p:tgtEl>
                      <p:spTgt spid="86"/>
                    </p:tgtEl>
                  </p:cond>
                </p:stCondLst>
                <p:childTnLst>
                  <p:par>
                    <p:cTn id="96" fill="hold">
                      <p:stCondLst>
                        <p:cond evt="onClick">
                          <p:tgtEl>
                            <p:spTgt spid="86"/>
                          </p:tgtEl>
                        </p:cond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9" dur="203579" fill="hold"/>
                                        <p:tgtEl>
                                          <p:spTgt spid="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1880" y="53341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03579" fill="hold"/>
                                        <p:tgtEl>
                                          <p:spTgt spid="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0000"/>
                </a:solidFill>
                <a:latin typeface="Arial"/>
              </a:rPr>
              <a:t>Agenda</a:t>
            </a:r>
            <a:endParaRPr b="0" lang="en-US" sz="4400" spc="-1" strike="noStrike">
              <a:solidFill>
                <a:srgbClr val="ee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Mod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Evil that is…Evolutionary Sol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monst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500"/>
                            </p:stCondLst>
                            <p:childTnLst>
                              <p:par>
                                <p:cTn id="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2500"/>
                            </p:stCondLst>
                            <p:childTnLst>
                              <p:par>
                                <p:cTn id="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3500"/>
                            </p:stCondLst>
                            <p:childTnLst>
                              <p:par>
                                <p:cTn id="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4500"/>
                            </p:stCondLst>
                            <p:childTnLst>
                              <p:par>
                                <p:cTn id="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0000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ee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problem? A common on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ismatching preferen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earch for Common Ground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t how? Can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Die Har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Pretty Woman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uly coexist on a Friday nigh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0000"/>
                </a:solidFill>
                <a:latin typeface="Arial"/>
              </a:rPr>
              <a:t>Data</a:t>
            </a:r>
            <a:endParaRPr b="0" lang="en-US" sz="4400" spc="-1" strike="noStrike">
              <a:solidFill>
                <a:srgbClr val="ee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ur experts researched hundreds of movies to make a solid mode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compiled a sample of 300 to give you a glimpse of what this is about, and how it work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hold…the DATA!!!!!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20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0000"/>
                </a:solidFill>
                <a:latin typeface="Arial"/>
              </a:rPr>
              <a:t>Data</a:t>
            </a:r>
            <a:endParaRPr b="0" lang="en-US" sz="4400" spc="-1" strike="noStrike">
              <a:solidFill>
                <a:srgbClr val="ee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ach movie was categorized based on its Budget, Genre, Rating, Runtime, Year, and Oscar succes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52280" y="3581280"/>
            <a:ext cx="899172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0000"/>
                </a:solidFill>
                <a:latin typeface="Arial"/>
              </a:rPr>
              <a:t>The Model</a:t>
            </a:r>
            <a:endParaRPr b="0" lang="en-US" sz="4400" spc="-1" strike="noStrike">
              <a:solidFill>
                <a:srgbClr val="ee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 then ask the user(s) which of these criteria they prefer in their “ultimate” movie sele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609480" y="2963880"/>
            <a:ext cx="3591000" cy="35132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5029200" y="2971800"/>
            <a:ext cx="3591000" cy="351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0000"/>
                </a:solidFill>
                <a:latin typeface="Arial"/>
              </a:rPr>
              <a:t>The Model</a:t>
            </a:r>
            <a:endParaRPr b="0" lang="en-US" sz="4400" spc="-1" strike="noStrike">
              <a:solidFill>
                <a:srgbClr val="ee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53452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 a final step, we ask the user(s) to allocate a set of 100 points among each of their preferences.  We call this the “Willingness to Compromise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838080" y="3048120"/>
            <a:ext cx="3057480" cy="38098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5095800" y="3048120"/>
            <a:ext cx="30574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0000"/>
                </a:solidFill>
                <a:latin typeface="Arial"/>
              </a:rPr>
              <a:t>The Model</a:t>
            </a:r>
            <a:endParaRPr b="0" lang="en-US" sz="4400" spc="-1" strike="noStrike">
              <a:solidFill>
                <a:srgbClr val="ee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1447560"/>
            <a:ext cx="91440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model matches user selections and weights to the actual characteristics of the movies in our data 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nalties = how far user selections stray from actual movie characteristics AND how much these selections are weighted.  This is done for each fil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63480" y="4191120"/>
            <a:ext cx="7678800" cy="2514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762120" y="4260960"/>
            <a:ext cx="7467480" cy="236844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1193760" y="5334120"/>
            <a:ext cx="914400" cy="76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6T23:20:15Z</dcterms:created>
  <dc:creator>Mark Spelber</dc:creator>
  <dc:description/>
  <dc:language>en-US</dc:language>
  <cp:lastModifiedBy>Judson Coplan</cp:lastModifiedBy>
  <dcterms:modified xsi:type="dcterms:W3CDTF">2006-04-23T21:39:07Z</dcterms:modified>
  <cp:revision>22</cp:revision>
  <dc:subject/>
  <dc:title>Slide 1</dc:title>
</cp:coreProperties>
</file>