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B83-8E9D-4802-8BA8-D64B546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661-A111-43E2-AC40-D21590E3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ADA-0A0B-40D1-9ACE-CE365545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C75-9C2D-454F-840D-4041F301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56E-29F3-43CF-B5B6-63563F3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C91-FFD3-4D35-928D-549B6C5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8B0-BD8F-4DF1-97C0-5BD25FF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ED3-8301-4C76-A874-944CAFD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CC1-0773-42F7-8948-3FA583E5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1F2-8EFD-42C0-ADE3-D3B55C7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CB2-CF6B-4C21-B5A6-4E04C4B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815-DF5C-45A2-BD38-9289E94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D47-8C0C-4637-9934-3A053254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this.close()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0/Game_of_life_boar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0/Game_of_life_boar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rn’s Game of Lif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Rich or Die T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467320"/>
            <a:ext cx="22100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e Arca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d 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 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467320"/>
            <a:ext cx="18288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y 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an Lev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 Sh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71600" y="79200"/>
          <a:ext cx="624852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9200"/>
                    <a:ext cx="624852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jective/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814" t="6157" r="1814" b="3511"/>
          <a:stretch/>
        </p:blipFill>
        <p:spPr>
          <a:xfrm>
            <a:off x="4191120" y="1728720"/>
            <a:ext cx="43434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re many factors that determine your amount of savings at retirement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6576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ab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551664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32306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5352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r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880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4983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mo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72400" y="46022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y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9164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8862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v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191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3736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Real Domino Screenshot"/>
          <p:cNvPicPr/>
          <p:nvPr/>
        </p:nvPicPr>
        <p:blipFill>
          <a:blip r:embed="rId1"/>
          <a:stretch/>
        </p:blipFill>
        <p:spPr>
          <a:xfrm>
            <a:off x="2819520" y="3124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1543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i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 - Inpu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# of K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retionary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ing Sal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ions/Ra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of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 Lo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folio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vings 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 Br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dollar amount of savings based on user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predict chance of reaching retiremen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ca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Circum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447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n the wheel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712880"/>
            <a:ext cx="63244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ssible enhancemen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luence at bi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urban/Urb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Sw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lations between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– Divorc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ce of being fired – Market Retu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Real Domino Screenshot"/>
          <p:cNvPicPr/>
          <p:nvPr/>
        </p:nvPicPr>
        <p:blipFill>
          <a:blip r:embed="rId1"/>
          <a:stretch/>
        </p:blipFill>
        <p:spPr>
          <a:xfrm>
            <a:off x="6172200" y="3276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you go bankrupt or amass a fortune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 to find ou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286000"/>
          <a:ext cx="533412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533412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3:39Z</dcterms:created>
  <dc:creator>Kobla</dc:creator>
  <dc:description/>
  <dc:language>en-US</dc:language>
  <cp:lastModifiedBy>BLevitan</cp:lastModifiedBy>
  <dcterms:modified xsi:type="dcterms:W3CDTF">2006-05-01T18:04:26Z</dcterms:modified>
  <cp:revision>99</cp:revision>
  <dc:subject/>
  <dc:title>Slide 1</dc:title>
</cp:coreProperties>
</file>