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26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2.jpeg" ContentType="image/jpeg"/>
  <Override PartName="/ppt/media/image23.png" ContentType="image/png"/>
  <Override PartName="/ppt/media/image22.wmf" ContentType="image/x-wmf"/>
  <Override PartName="/ppt/media/image21.jpeg" ContentType="image/jpeg"/>
  <Override PartName="/ppt/media/image15.wmf" ContentType="image/x-wmf"/>
  <Override PartName="/ppt/media/image20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152063" cy="758825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F3D-8E56-48DF-85CF-E9A43E61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854064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71640" y="3714840"/>
            <a:ext cx="854064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71D-F6D6-4D69-81F6-4A82043F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7164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816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2F5-FA4E-45AA-9BA6-B97ADDB9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59200" y="15620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46760" y="15620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71640" y="37148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59200" y="37148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46760" y="37148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75B-A312-422F-8763-54F8786C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0CCB-170B-4735-A754-FD6213DB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8485-E7BB-4AE9-926C-DD3FA9D0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0DD2-2F0F-4CA9-906C-62A04642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12A5-63D1-4E06-A709-E5A6F4ED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8363-DEC0-4036-9346-B2B24818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18160" y="10080"/>
            <a:ext cx="8693280" cy="32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1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51AC-FB31-49EA-BBC1-29FA8F51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164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D519-7A02-4403-B8D3-3C466243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48D-60B2-45A4-B0E6-1F9F1252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4816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A202-C8E2-4E3A-86C1-0E5D55EC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71640" y="3714840"/>
            <a:ext cx="854064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4891-0A36-474B-A561-3D9B0173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854064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71640" y="3714840"/>
            <a:ext cx="854064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3B8A-B404-48AF-AA4D-2DE04E2F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7164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4816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A8EA-2ABB-4548-B804-0044E570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59200" y="15620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46760" y="15620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71640" y="37148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59200" y="37148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746760" y="3714840"/>
            <a:ext cx="274968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E1FA-AA96-49C8-A151-23A9D809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620-A09D-4C07-BA7E-D0D7C432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21B-4CCA-4756-B176-DD2D1643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1F4-0C75-44C4-BA6F-F53CAA4F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8160" y="10080"/>
            <a:ext cx="8693280" cy="32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1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285-DB0B-4F8B-ACB6-181BB1A0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164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842-C3D8-43C8-A86C-D117ED41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8160" y="37148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365-1FE4-4BBF-B414-A26FAA08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8160" y="1562040"/>
            <a:ext cx="416772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714840"/>
            <a:ext cx="8540640" cy="1965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A69-B5A7-4F30-B976-758334F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22320"/>
            <a:ext cx="844560" cy="758196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6520" y="-28440"/>
            <a:ext cx="8240760" cy="14634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3800" y="843120"/>
            <a:ext cx="8493120" cy="353520"/>
            <a:chOff x="253800" y="843120"/>
            <a:chExt cx="8493120" cy="353520"/>
          </a:xfrm>
        </p:grpSpPr>
        <p:sp>
          <p:nvSpPr>
            <p:cNvPr id="3" name=""/>
            <p:cNvSpPr/>
            <p:nvPr/>
          </p:nvSpPr>
          <p:spPr>
            <a:xfrm>
              <a:off x="691560" y="843120"/>
              <a:ext cx="8055360" cy="351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53440" y="843120"/>
              <a:ext cx="452520" cy="353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Click to edit the outline text format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lvl="1" marL="824040" indent="-317520">
              <a:spcBef>
                <a:spcPts val="774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Second Outline Le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lvl="2" marL="1266840" indent="-25236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Third Outline Le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lvl="3" marL="1773360" indent="-252360">
              <a:spcBef>
                <a:spcPts val="774"/>
              </a:spcBef>
              <a:buClr>
                <a:srgbClr val="003366"/>
              </a:buClr>
              <a:buSzPct val="80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Fourth Outline Le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lvl="4" marL="2281320" indent="-254160">
              <a:spcBef>
                <a:spcPts val="774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Fifth Outline Le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lvl="5" marL="2281320" indent="-254160">
              <a:spcBef>
                <a:spcPts val="774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Sixth Outline Le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lvl="6" marL="2281320" indent="-254160">
              <a:spcBef>
                <a:spcPts val="774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Seventh Outline Le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2706840" y="6914880"/>
            <a:ext cx="2365200" cy="525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3366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429240" y="6914880"/>
            <a:ext cx="3214800" cy="525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3366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93240" y="6908400"/>
            <a:ext cx="652680" cy="539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1" lang="en-US" sz="29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9D41618B-B908-49E8-AFC0-15D4E41A88FB}" type="slidenum">
              <a:rPr b="1" lang="en-US" sz="29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910720" y="0"/>
            <a:ext cx="1133280" cy="13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6513120" cy="7589520"/>
            <a:chOff x="0" y="0"/>
            <a:chExt cx="6513120" cy="75895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5075280" cy="75895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1040" y="1096200"/>
              <a:ext cx="5752080" cy="2107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032000" y="5411880"/>
            <a:ext cx="5413320" cy="352080"/>
            <a:chOff x="4032000" y="5411880"/>
            <a:chExt cx="5413320" cy="352080"/>
          </a:xfrm>
        </p:grpSpPr>
        <p:sp>
          <p:nvSpPr>
            <p:cNvPr id="51" name=""/>
            <p:cNvSpPr/>
            <p:nvPr/>
          </p:nvSpPr>
          <p:spPr>
            <a:xfrm flipH="1">
              <a:off x="4031640" y="5411880"/>
              <a:ext cx="5134680" cy="35064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156600" y="5411880"/>
              <a:ext cx="288720" cy="3520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706840" y="6914880"/>
            <a:ext cx="2365200" cy="525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6429240" y="6914880"/>
            <a:ext cx="3214800" cy="525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600" spc="-1" strike="noStrike">
                <a:solidFill>
                  <a:srgbClr val="003366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Book Antiqu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84240" y="6914880"/>
            <a:ext cx="652320" cy="54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1" lang="en-US" sz="29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345E90A4-FD46-4083-A5A0-F628AB5CE2BC}" type="slidenum">
              <a:rPr b="1" lang="en-US" sz="29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1070280" y="1405440"/>
            <a:ext cx="8517240" cy="1491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Book Antiqua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507600" y="1775520"/>
            <a:ext cx="9136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6666"/>
                </a:solidFill>
                <a:latin typeface="Book Antiqua"/>
              </a:rPr>
              <a:t>Click to edit the outline text format</a:t>
            </a:r>
            <a:endParaRPr b="0" lang="en-US" sz="3100" spc="-1" strike="noStrike">
              <a:solidFill>
                <a:srgbClr val="006666"/>
              </a:solidFill>
              <a:latin typeface="Book Antiqua"/>
            </a:endParaRPr>
          </a:p>
          <a:p>
            <a:pPr lvl="1" marL="506520" indent="0"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Second Outline Level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  <a:p>
            <a:pPr lvl="2" marL="1014480" algn="ctr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lvl="3" marL="1521000" algn="ctr">
              <a:spcBef>
                <a:spcPts val="499"/>
              </a:spcBef>
              <a:buClr>
                <a:srgbClr val="003366"/>
              </a:buClr>
              <a:buSzPct val="80000"/>
              <a:buFont typeface="Book Antiqua"/>
              <a:buChar char="–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4" marL="2027160" algn="ctr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5" marL="202716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6" marL="202716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rknessandlight.co.uk/london_pictures/fs-sep/big-ben-london-2006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arknessandlight.co.uk/london_pictures/fs-sep/big-ben-london-2006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81080" y="1203480"/>
            <a:ext cx="10547280" cy="79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Book Antiqua"/>
              </a:rPr>
              <a:t>Summer Break Planning</a:t>
            </a:r>
            <a:endParaRPr b="1" lang="en-US" sz="36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9280" y="2066400"/>
            <a:ext cx="9539280" cy="576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Book Antiqua"/>
              </a:rPr>
              <a:t>Decision Models Project Spring 2006</a:t>
            </a:r>
            <a:endParaRPr b="0" lang="en-US" sz="3100" spc="-1" strike="noStrike">
              <a:solidFill>
                <a:srgbClr val="006666"/>
              </a:solidFill>
              <a:latin typeface="Book Antiqua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514760"/>
            <a:ext cx="251460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Team 17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Shehzad Ajm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Brian Angel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Michael Wol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635280" y="2930400"/>
            <a:ext cx="5832720" cy="4445280"/>
            <a:chOff x="3635280" y="2930400"/>
            <a:chExt cx="5832720" cy="4445280"/>
          </a:xfrm>
        </p:grpSpPr>
        <p:pic>
          <p:nvPicPr>
            <p:cNvPr id="98" name="" descr="big ben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635280" y="3821040"/>
              <a:ext cx="279900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4859280" y="2930400"/>
              <a:ext cx="2624040" cy="18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6299280" y="3994200"/>
              <a:ext cx="2373120" cy="17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4788000" y="5522760"/>
              <a:ext cx="277632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6"/>
            <a:stretch/>
          </p:blipFill>
          <p:spPr>
            <a:xfrm>
              <a:off x="7059600" y="5157720"/>
              <a:ext cx="2408400" cy="180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8451-2363-49FD-B9A1-6337542C88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Single City Constraint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9640" y="1851120"/>
          <a:ext cx="9288720" cy="196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51120"/>
                    <a:ext cx="92887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1EE-AB89-45A4-9FCD-93885B5F69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668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Train Cost &amp; Travel Time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61920" y="1825560"/>
          <a:ext cx="893772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825560"/>
                    <a:ext cx="8937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6AEE-44A9-451C-A258-1D9C7A48DD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668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Hotel Cost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71640" y="2016000"/>
          <a:ext cx="8712000" cy="135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16000"/>
                    <a:ext cx="871200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021-0E72-4AE8-B6FC-F8EB205B1D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02960"/>
            <a:ext cx="879660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Flight Penaltie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71640" y="1274760"/>
          <a:ext cx="8496360" cy="49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74760"/>
                    <a:ext cx="849636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971640" y="6407280"/>
          <a:ext cx="7777080" cy="102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6407280"/>
                    <a:ext cx="77770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7EC-F0F1-4F27-A8CE-439437A8A2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668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Train Penaltie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6560" y="1490760"/>
          <a:ext cx="9217080" cy="51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490760"/>
                    <a:ext cx="9217080" cy="51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5A9-F12C-4B2F-9A56-74B5348077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6680" y="103320"/>
            <a:ext cx="8796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rain / Plane Choic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25320" y="1933560"/>
          <a:ext cx="9345600" cy="21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933560"/>
                    <a:ext cx="934560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871-B697-46DE-A49B-F296E3FD74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77920" y="1706400"/>
          <a:ext cx="9693000" cy="289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1706400"/>
                    <a:ext cx="969300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668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Hotel Penaltie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62F-D887-4094-8EB3-D4832ECB69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216000" y="1566720"/>
          <a:ext cx="9828000" cy="395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566720"/>
                    <a:ext cx="98280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668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Day Penaltie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F07-4F0B-4416-8A70-64CDD7D0CC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66680" y="2027160"/>
          <a:ext cx="9345600" cy="158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2027160"/>
                    <a:ext cx="93456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66680" y="103320"/>
            <a:ext cx="8796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Objective Function: Minimize Cost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3CA-1BE7-47E5-81FB-4ACC76AEC8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43000" y="2643120"/>
            <a:ext cx="6704280" cy="40546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976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Solver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"/>
          <p:cNvSpPr/>
          <p:nvPr/>
        </p:nvSpPr>
        <p:spPr>
          <a:xfrm>
            <a:off x="4491000" y="914400"/>
            <a:ext cx="3602160" cy="934920"/>
          </a:xfrm>
          <a:prstGeom prst="wedgeRoundRectCallout">
            <a:avLst>
              <a:gd name="adj1" fmla="val 56041"/>
              <a:gd name="adj2" fmla="val 201018"/>
              <a:gd name="adj3" fmla="val 1666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OLVE IT !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9AF-273A-429E-888F-4766DEB5AD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Presentation Outline</a:t>
            </a: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Managerial Problem Definition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Our Mod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Problems and Conclusions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710-3A4F-42BB-90F2-C6DDFE72C6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18160" y="2916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Problem 1: “Problem too Large for Solver”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98560" y="2354040"/>
            <a:ext cx="4194000" cy="4120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Frontline offers premium solvers that can handle unlimited decision variables and constraints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For a fee (we downloaded the 15 day trial version)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75280" y="1927080"/>
            <a:ext cx="483228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B48-66F6-4B4D-8BB2-8DB95EC5CD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805" t="30565" r="14950" b="0"/>
          <a:stretch/>
        </p:blipFill>
        <p:spPr>
          <a:xfrm>
            <a:off x="1546200" y="1353960"/>
            <a:ext cx="7489800" cy="61851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239400"/>
            <a:ext cx="773928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Problem 2: Sub-Tour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"/>
          <p:cNvSpPr/>
          <p:nvPr/>
        </p:nvSpPr>
        <p:spPr>
          <a:xfrm>
            <a:off x="6445080" y="2138400"/>
            <a:ext cx="790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ou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67280" y="566748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5019840"/>
            <a:ext cx="3311640" cy="718920"/>
          </a:xfrm>
          <a:custGeom>
            <a:avLst/>
            <a:gdLst/>
            <a:ahLst/>
            <a:rect l="l" t="t" r="r" b="b"/>
            <a:pathLst>
              <a:path w="2086" h="453">
                <a:moveTo>
                  <a:pt x="0" y="0"/>
                </a:moveTo>
                <a:cubicBezTo>
                  <a:pt x="393" y="7"/>
                  <a:pt x="786" y="15"/>
                  <a:pt x="1134" y="90"/>
                </a:cubicBezTo>
                <a:cubicBezTo>
                  <a:pt x="1482" y="165"/>
                  <a:pt x="1784" y="309"/>
                  <a:pt x="2086" y="453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6243480"/>
            <a:ext cx="1081080" cy="287640"/>
          </a:xfrm>
          <a:prstGeom prst="wedgeRectCallout">
            <a:avLst>
              <a:gd name="adj1" fmla="val 2569"/>
              <a:gd name="adj2" fmla="val -2113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Barcelon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738760"/>
            <a:ext cx="14472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62560" y="480384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0200" y="4154400"/>
            <a:ext cx="144360" cy="14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62200" y="581184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573876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321948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3506760"/>
            <a:ext cx="14472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3290760"/>
            <a:ext cx="144720" cy="14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83280" y="6170760"/>
            <a:ext cx="1081080" cy="287280"/>
          </a:xfrm>
          <a:prstGeom prst="wedgeRectCallout">
            <a:avLst>
              <a:gd name="adj1" fmla="val -63800"/>
              <a:gd name="adj2" fmla="val -18093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Rom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4227480"/>
            <a:ext cx="1081080" cy="287280"/>
          </a:xfrm>
          <a:prstGeom prst="wedgeRectCallout">
            <a:avLst>
              <a:gd name="adj1" fmla="val -46768"/>
              <a:gd name="adj2" fmla="val 17375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Mil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2560" y="4586400"/>
            <a:ext cx="1081080" cy="287280"/>
          </a:xfrm>
          <a:prstGeom prst="wedgeRectCallout">
            <a:avLst>
              <a:gd name="adj1" fmla="val -17546"/>
              <a:gd name="adj2" fmla="val -16381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Par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8560" y="5307120"/>
            <a:ext cx="1081080" cy="287280"/>
          </a:xfrm>
          <a:prstGeom prst="wedgeRectCallout">
            <a:avLst>
              <a:gd name="adj1" fmla="val 36782"/>
              <a:gd name="adj2" fmla="val 14723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Lisb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79640" y="6315120"/>
            <a:ext cx="1081080" cy="287280"/>
          </a:xfrm>
          <a:prstGeom prst="wedgeRectCallout">
            <a:avLst>
              <a:gd name="adj1" fmla="val 34287"/>
              <a:gd name="adj2" fmla="val -2190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Madri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14920" y="2714760"/>
            <a:ext cx="1297080" cy="287280"/>
          </a:xfrm>
          <a:prstGeom prst="wedgeRectCallout">
            <a:avLst>
              <a:gd name="adj1" fmla="val -30907"/>
              <a:gd name="adj2" fmla="val 1350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Amsterda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3651120"/>
            <a:ext cx="1081080" cy="287640"/>
          </a:xfrm>
          <a:prstGeom prst="wedgeRectCallout">
            <a:avLst>
              <a:gd name="adj1" fmla="val 33111"/>
              <a:gd name="adj2" fmla="val -87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Bruss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2200" y="2570040"/>
            <a:ext cx="1081080" cy="287640"/>
          </a:xfrm>
          <a:prstGeom prst="wedgeRectCallout">
            <a:avLst>
              <a:gd name="adj1" fmla="val -6092"/>
              <a:gd name="adj2" fmla="val 21463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Lond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08480" y="3362400"/>
            <a:ext cx="730080" cy="2376360"/>
          </a:xfrm>
          <a:custGeom>
            <a:avLst/>
            <a:gdLst/>
            <a:ahLst/>
            <a:rect l="l" t="t" r="r" b="b"/>
            <a:pathLst>
              <a:path w="460" h="1497">
                <a:moveTo>
                  <a:pt x="460" y="1497"/>
                </a:moveTo>
                <a:cubicBezTo>
                  <a:pt x="237" y="1213"/>
                  <a:pt x="14" y="930"/>
                  <a:pt x="7" y="681"/>
                </a:cubicBezTo>
                <a:cubicBezTo>
                  <a:pt x="0" y="432"/>
                  <a:pt x="207" y="216"/>
                  <a:pt x="415" y="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3219480"/>
            <a:ext cx="647640" cy="324000"/>
          </a:xfrm>
          <a:custGeom>
            <a:avLst/>
            <a:gdLst/>
            <a:ahLst/>
            <a:rect l="l" t="t" r="r" b="b"/>
            <a:pathLst>
              <a:path w="408" h="204">
                <a:moveTo>
                  <a:pt x="0" y="68"/>
                </a:moveTo>
                <a:cubicBezTo>
                  <a:pt x="79" y="34"/>
                  <a:pt x="159" y="0"/>
                  <a:pt x="227" y="23"/>
                </a:cubicBezTo>
                <a:cubicBezTo>
                  <a:pt x="295" y="46"/>
                  <a:pt x="351" y="125"/>
                  <a:pt x="408" y="204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19520" y="3243240"/>
            <a:ext cx="239760" cy="335160"/>
          </a:xfrm>
          <a:custGeom>
            <a:avLst/>
            <a:gdLst/>
            <a:ahLst/>
            <a:rect l="l" t="t" r="r" b="b"/>
            <a:pathLst>
              <a:path w="151" h="211">
                <a:moveTo>
                  <a:pt x="60" y="211"/>
                </a:moveTo>
                <a:cubicBezTo>
                  <a:pt x="30" y="135"/>
                  <a:pt x="0" y="60"/>
                  <a:pt x="15" y="30"/>
                </a:cubicBezTo>
                <a:cubicBezTo>
                  <a:pt x="30" y="0"/>
                  <a:pt x="90" y="15"/>
                  <a:pt x="151" y="3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93960" y="3290760"/>
            <a:ext cx="2136960" cy="2521080"/>
          </a:xfrm>
          <a:custGeom>
            <a:avLst/>
            <a:gdLst/>
            <a:ahLst/>
            <a:rect l="l" t="t" r="r" b="b"/>
            <a:pathLst>
              <a:path w="1346" h="1588">
                <a:moveTo>
                  <a:pt x="1346" y="0"/>
                </a:moveTo>
                <a:cubicBezTo>
                  <a:pt x="885" y="26"/>
                  <a:pt x="424" y="53"/>
                  <a:pt x="212" y="318"/>
                </a:cubicBezTo>
                <a:cubicBezTo>
                  <a:pt x="0" y="583"/>
                  <a:pt x="38" y="1085"/>
                  <a:pt x="76" y="1588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35280" y="5511960"/>
            <a:ext cx="1079280" cy="371160"/>
          </a:xfrm>
          <a:custGeom>
            <a:avLst/>
            <a:gdLst/>
            <a:ahLst/>
            <a:rect l="l" t="t" r="r" b="b"/>
            <a:pathLst>
              <a:path w="680" h="234">
                <a:moveTo>
                  <a:pt x="680" y="189"/>
                </a:moveTo>
                <a:cubicBezTo>
                  <a:pt x="555" y="94"/>
                  <a:pt x="430" y="0"/>
                  <a:pt x="317" y="7"/>
                </a:cubicBezTo>
                <a:cubicBezTo>
                  <a:pt x="204" y="14"/>
                  <a:pt x="102" y="124"/>
                  <a:pt x="0" y="234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35280" y="4167360"/>
            <a:ext cx="2447640" cy="1715760"/>
          </a:xfrm>
          <a:custGeom>
            <a:avLst/>
            <a:gdLst/>
            <a:ahLst/>
            <a:rect l="l" t="t" r="r" b="b"/>
            <a:pathLst>
              <a:path w="1542" h="1081">
                <a:moveTo>
                  <a:pt x="0" y="1081"/>
                </a:moveTo>
                <a:cubicBezTo>
                  <a:pt x="234" y="714"/>
                  <a:pt x="469" y="348"/>
                  <a:pt x="726" y="174"/>
                </a:cubicBezTo>
                <a:cubicBezTo>
                  <a:pt x="983" y="0"/>
                  <a:pt x="1262" y="19"/>
                  <a:pt x="1542" y="38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3890880"/>
            <a:ext cx="3456000" cy="336600"/>
          </a:xfrm>
          <a:custGeom>
            <a:avLst/>
            <a:gdLst/>
            <a:ahLst/>
            <a:rect l="l" t="t" r="r" b="b"/>
            <a:pathLst>
              <a:path w="2177" h="212">
                <a:moveTo>
                  <a:pt x="2177" y="212"/>
                </a:moveTo>
                <a:cubicBezTo>
                  <a:pt x="1610" y="136"/>
                  <a:pt x="1043" y="60"/>
                  <a:pt x="680" y="30"/>
                </a:cubicBezTo>
                <a:cubicBezTo>
                  <a:pt x="317" y="0"/>
                  <a:pt x="158" y="15"/>
                  <a:pt x="0" y="3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51400" y="4875120"/>
            <a:ext cx="587520" cy="936720"/>
          </a:xfrm>
          <a:custGeom>
            <a:avLst/>
            <a:gdLst/>
            <a:ahLst/>
            <a:rect l="l" t="t" r="r" b="b"/>
            <a:pathLst>
              <a:path w="370" h="590">
                <a:moveTo>
                  <a:pt x="53" y="0"/>
                </a:moveTo>
                <a:cubicBezTo>
                  <a:pt x="26" y="132"/>
                  <a:pt x="0" y="265"/>
                  <a:pt x="53" y="363"/>
                </a:cubicBezTo>
                <a:cubicBezTo>
                  <a:pt x="106" y="461"/>
                  <a:pt x="238" y="525"/>
                  <a:pt x="370" y="59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5435280" y="4875120"/>
            <a:ext cx="587160" cy="936720"/>
          </a:xfrm>
          <a:custGeom>
            <a:avLst/>
            <a:gdLst/>
            <a:ahLst/>
            <a:rect l="l" t="t" r="r" b="b"/>
            <a:pathLst>
              <a:path w="370" h="590">
                <a:moveTo>
                  <a:pt x="53" y="0"/>
                </a:moveTo>
                <a:cubicBezTo>
                  <a:pt x="26" y="132"/>
                  <a:pt x="0" y="265"/>
                  <a:pt x="53" y="363"/>
                </a:cubicBezTo>
                <a:cubicBezTo>
                  <a:pt x="106" y="461"/>
                  <a:pt x="238" y="525"/>
                  <a:pt x="370" y="59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861-698C-4AB6-9A58-FD229691CB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Resolving Sub-Tours: Be Smarter than Solver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971640" y="156168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In order to solve sub-tours add a constraint that doesn’t allow solver to take that trip.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14560" y="3468600"/>
          <a:ext cx="8856360" cy="3111480"/>
        </p:xfrm>
        <a:graphic>
          <a:graphicData uri="http://schemas.openxmlformats.org/drawingml/2006/table">
            <a:tbl>
              <a:tblPr/>
              <a:tblGrid>
                <a:gridCol w="6913440"/>
                <a:gridCol w="194292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Sub –Tour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7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Rome     Milan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NYC     Barcelona     London     Brussels     Amsterdam     Madrid     Lisbon     Paris     NYC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4354560" y="444348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537840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2920" y="538020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38920" y="538020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94560" y="537840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19640" y="573876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02200" y="574056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573876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94560" y="5738760"/>
            <a:ext cx="360360" cy="287280"/>
          </a:xfrm>
          <a:prstGeom prst="rightArrow">
            <a:avLst>
              <a:gd name="adj1" fmla="val 40333"/>
              <a:gd name="adj2" fmla="val 6133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531280" y="408312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Book Antiqua"/>
                <a:ea typeface="Arial"/>
              </a:rPr>
              <a:t>X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31280" y="543240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Book Antiqua"/>
                <a:ea typeface="Arial"/>
              </a:rPr>
              <a:t>X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D73-EC49-4A34-8B2F-4861A31BB8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The Final Trip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"/>
          <p:cNvSpPr/>
          <p:nvPr/>
        </p:nvSpPr>
        <p:spPr>
          <a:xfrm>
            <a:off x="6445080" y="2138400"/>
            <a:ext cx="790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ou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12000" y="2427120"/>
            <a:ext cx="7923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ky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805" t="30565" r="14950" b="0"/>
          <a:stretch/>
        </p:blipFill>
        <p:spPr>
          <a:xfrm>
            <a:off x="1546200" y="1353960"/>
            <a:ext cx="7489800" cy="6185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067280" y="566748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5019840"/>
            <a:ext cx="3311640" cy="718920"/>
          </a:xfrm>
          <a:custGeom>
            <a:avLst/>
            <a:gdLst/>
            <a:ahLst/>
            <a:rect l="l" t="t" r="r" b="b"/>
            <a:pathLst>
              <a:path w="2086" h="453">
                <a:moveTo>
                  <a:pt x="0" y="0"/>
                </a:moveTo>
                <a:cubicBezTo>
                  <a:pt x="393" y="7"/>
                  <a:pt x="786" y="15"/>
                  <a:pt x="1134" y="90"/>
                </a:cubicBezTo>
                <a:cubicBezTo>
                  <a:pt x="1482" y="165"/>
                  <a:pt x="1784" y="309"/>
                  <a:pt x="2086" y="453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2200" y="6243480"/>
            <a:ext cx="1081080" cy="287640"/>
          </a:xfrm>
          <a:prstGeom prst="wedgeRectCallout">
            <a:avLst>
              <a:gd name="adj1" fmla="val 2569"/>
              <a:gd name="adj2" fmla="val -2113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Barcelon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5738760"/>
            <a:ext cx="14472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2560" y="480384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10200" y="4154400"/>
            <a:ext cx="144360" cy="14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62200" y="581184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43280" y="573876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3219480"/>
            <a:ext cx="14436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43280" y="3506760"/>
            <a:ext cx="144720" cy="14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95640" y="3290760"/>
            <a:ext cx="144720" cy="14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3280" y="6170760"/>
            <a:ext cx="1081080" cy="287280"/>
          </a:xfrm>
          <a:prstGeom prst="wedgeRectCallout">
            <a:avLst>
              <a:gd name="adj1" fmla="val -63800"/>
              <a:gd name="adj2" fmla="val -180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Rom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38560" y="5162400"/>
            <a:ext cx="1081080" cy="287640"/>
          </a:xfrm>
          <a:prstGeom prst="wedgeRectCallout">
            <a:avLst>
              <a:gd name="adj1" fmla="val 62921"/>
              <a:gd name="adj2" fmla="val -14447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Mil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22560" y="4586400"/>
            <a:ext cx="1081080" cy="287280"/>
          </a:xfrm>
          <a:prstGeom prst="wedgeRectCallout">
            <a:avLst>
              <a:gd name="adj1" fmla="val -17546"/>
              <a:gd name="adj2" fmla="val -16381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Par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8560" y="5307120"/>
            <a:ext cx="1081080" cy="287280"/>
          </a:xfrm>
          <a:prstGeom prst="wedgeRectCallout">
            <a:avLst>
              <a:gd name="adj1" fmla="val 36782"/>
              <a:gd name="adj2" fmla="val 14723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Lisb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79640" y="6315120"/>
            <a:ext cx="1081080" cy="287280"/>
          </a:xfrm>
          <a:prstGeom prst="wedgeRectCallout">
            <a:avLst>
              <a:gd name="adj1" fmla="val 34287"/>
              <a:gd name="adj2" fmla="val -2190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Madri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14920" y="2714760"/>
            <a:ext cx="1297080" cy="287280"/>
          </a:xfrm>
          <a:prstGeom prst="wedgeRectCallout">
            <a:avLst>
              <a:gd name="adj1" fmla="val -30907"/>
              <a:gd name="adj2" fmla="val 1350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Amsterda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91280" y="3290760"/>
            <a:ext cx="1081080" cy="287640"/>
          </a:xfrm>
          <a:prstGeom prst="wedgeRectCallout">
            <a:avLst>
              <a:gd name="adj1" fmla="val -100365"/>
              <a:gd name="adj2" fmla="val 3729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Bruss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62200" y="2570040"/>
            <a:ext cx="1081080" cy="287640"/>
          </a:xfrm>
          <a:prstGeom prst="wedgeRectCallout">
            <a:avLst>
              <a:gd name="adj1" fmla="val -6092"/>
              <a:gd name="adj2" fmla="val 21463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Arial"/>
              </a:rPr>
              <a:t>Lond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08480" y="3362400"/>
            <a:ext cx="730080" cy="2376360"/>
          </a:xfrm>
          <a:custGeom>
            <a:avLst/>
            <a:gdLst/>
            <a:ahLst/>
            <a:rect l="l" t="t" r="r" b="b"/>
            <a:pathLst>
              <a:path w="460" h="1497">
                <a:moveTo>
                  <a:pt x="460" y="1497"/>
                </a:moveTo>
                <a:cubicBezTo>
                  <a:pt x="237" y="1213"/>
                  <a:pt x="14" y="930"/>
                  <a:pt x="7" y="681"/>
                </a:cubicBezTo>
                <a:cubicBezTo>
                  <a:pt x="0" y="432"/>
                  <a:pt x="207" y="216"/>
                  <a:pt x="415" y="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19520" y="3243240"/>
            <a:ext cx="239760" cy="335160"/>
          </a:xfrm>
          <a:custGeom>
            <a:avLst/>
            <a:gdLst/>
            <a:ahLst/>
            <a:rect l="l" t="t" r="r" b="b"/>
            <a:pathLst>
              <a:path w="151" h="211">
                <a:moveTo>
                  <a:pt x="60" y="211"/>
                </a:moveTo>
                <a:cubicBezTo>
                  <a:pt x="30" y="135"/>
                  <a:pt x="0" y="60"/>
                  <a:pt x="15" y="30"/>
                </a:cubicBezTo>
                <a:cubicBezTo>
                  <a:pt x="30" y="0"/>
                  <a:pt x="90" y="15"/>
                  <a:pt x="151" y="3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93960" y="3290760"/>
            <a:ext cx="2136960" cy="2521080"/>
          </a:xfrm>
          <a:custGeom>
            <a:avLst/>
            <a:gdLst/>
            <a:ahLst/>
            <a:rect l="l" t="t" r="r" b="b"/>
            <a:pathLst>
              <a:path w="1346" h="1588">
                <a:moveTo>
                  <a:pt x="1346" y="0"/>
                </a:moveTo>
                <a:cubicBezTo>
                  <a:pt x="885" y="26"/>
                  <a:pt x="424" y="53"/>
                  <a:pt x="212" y="318"/>
                </a:cubicBezTo>
                <a:cubicBezTo>
                  <a:pt x="0" y="583"/>
                  <a:pt x="38" y="1085"/>
                  <a:pt x="76" y="1588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5511960"/>
            <a:ext cx="1079280" cy="371160"/>
          </a:xfrm>
          <a:custGeom>
            <a:avLst/>
            <a:gdLst/>
            <a:ahLst/>
            <a:rect l="l" t="t" r="r" b="b"/>
            <a:pathLst>
              <a:path w="680" h="234">
                <a:moveTo>
                  <a:pt x="680" y="189"/>
                </a:moveTo>
                <a:cubicBezTo>
                  <a:pt x="555" y="94"/>
                  <a:pt x="430" y="0"/>
                  <a:pt x="317" y="7"/>
                </a:cubicBezTo>
                <a:cubicBezTo>
                  <a:pt x="204" y="14"/>
                  <a:pt x="102" y="124"/>
                  <a:pt x="0" y="234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4167360"/>
            <a:ext cx="2447640" cy="1715760"/>
          </a:xfrm>
          <a:custGeom>
            <a:avLst/>
            <a:gdLst/>
            <a:ahLst/>
            <a:rect l="l" t="t" r="r" b="b"/>
            <a:pathLst>
              <a:path w="1542" h="1081">
                <a:moveTo>
                  <a:pt x="0" y="1081"/>
                </a:moveTo>
                <a:cubicBezTo>
                  <a:pt x="234" y="714"/>
                  <a:pt x="469" y="348"/>
                  <a:pt x="726" y="174"/>
                </a:cubicBezTo>
                <a:cubicBezTo>
                  <a:pt x="983" y="0"/>
                  <a:pt x="1262" y="19"/>
                  <a:pt x="1542" y="38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3890880"/>
            <a:ext cx="3456000" cy="336600"/>
          </a:xfrm>
          <a:custGeom>
            <a:avLst/>
            <a:gdLst/>
            <a:ahLst/>
            <a:rect l="l" t="t" r="r" b="b"/>
            <a:pathLst>
              <a:path w="2177" h="212">
                <a:moveTo>
                  <a:pt x="2177" y="212"/>
                </a:moveTo>
                <a:cubicBezTo>
                  <a:pt x="1610" y="136"/>
                  <a:pt x="1043" y="60"/>
                  <a:pt x="680" y="30"/>
                </a:cubicBezTo>
                <a:cubicBezTo>
                  <a:pt x="317" y="0"/>
                  <a:pt x="158" y="15"/>
                  <a:pt x="0" y="3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51400" y="4875120"/>
            <a:ext cx="587520" cy="936720"/>
          </a:xfrm>
          <a:custGeom>
            <a:avLst/>
            <a:gdLst/>
            <a:ahLst/>
            <a:rect l="l" t="t" r="r" b="b"/>
            <a:pathLst>
              <a:path w="370" h="590">
                <a:moveTo>
                  <a:pt x="53" y="0"/>
                </a:moveTo>
                <a:cubicBezTo>
                  <a:pt x="26" y="132"/>
                  <a:pt x="0" y="265"/>
                  <a:pt x="53" y="363"/>
                </a:cubicBezTo>
                <a:cubicBezTo>
                  <a:pt x="106" y="461"/>
                  <a:pt x="238" y="525"/>
                  <a:pt x="370" y="59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3362400"/>
            <a:ext cx="1368360" cy="1512720"/>
          </a:xfrm>
          <a:custGeom>
            <a:avLst/>
            <a:gdLst/>
            <a:ahLst/>
            <a:rect l="l" t="t" r="r" b="b"/>
            <a:pathLst>
              <a:path w="862" h="953">
                <a:moveTo>
                  <a:pt x="0" y="0"/>
                </a:moveTo>
                <a:cubicBezTo>
                  <a:pt x="245" y="125"/>
                  <a:pt x="491" y="250"/>
                  <a:pt x="635" y="409"/>
                </a:cubicBezTo>
                <a:cubicBezTo>
                  <a:pt x="779" y="568"/>
                  <a:pt x="820" y="760"/>
                  <a:pt x="862" y="953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4920" y="3578400"/>
            <a:ext cx="1428840" cy="2233440"/>
          </a:xfrm>
          <a:custGeom>
            <a:avLst/>
            <a:gdLst/>
            <a:ahLst/>
            <a:rect l="l" t="t" r="r" b="b"/>
            <a:pathLst>
              <a:path w="900" h="1407">
                <a:moveTo>
                  <a:pt x="771" y="1407"/>
                </a:moveTo>
                <a:cubicBezTo>
                  <a:pt x="835" y="1025"/>
                  <a:pt x="900" y="644"/>
                  <a:pt x="771" y="409"/>
                </a:cubicBezTo>
                <a:cubicBezTo>
                  <a:pt x="642" y="174"/>
                  <a:pt x="321" y="87"/>
                  <a:pt x="0" y="0"/>
                </a:cubicBezTo>
              </a:path>
            </a:pathLst>
          </a:custGeom>
          <a:noFill/>
          <a:ln w="414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91F-7619-4137-94C8-986E05005B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0" y="1419120"/>
          <a:ext cx="100918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9120"/>
                    <a:ext cx="100918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Conclusion: Result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"/>
          <p:cNvSpPr/>
          <p:nvPr/>
        </p:nvSpPr>
        <p:spPr>
          <a:xfrm>
            <a:off x="9069480" y="8618400"/>
            <a:ext cx="144360" cy="13680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285120" y="862164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50112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2476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08400" y="862164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2440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040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6148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77120" y="862488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9312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0912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00400" y="862164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1640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3240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676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32400" y="862488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4840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5748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7348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89120" y="862488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6548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8148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97120" y="862488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1312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948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65120" y="8624880"/>
            <a:ext cx="14472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81120" y="862488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97120" y="8621640"/>
            <a:ext cx="144360" cy="1364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496800" y="537228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Flag of Italy"/>
          <p:cNvPicPr/>
          <p:nvPr/>
        </p:nvPicPr>
        <p:blipFill>
          <a:blip r:embed="rId4"/>
          <a:stretch/>
        </p:blipFill>
        <p:spPr>
          <a:xfrm>
            <a:off x="1619280" y="5353200"/>
            <a:ext cx="792000" cy="527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Flag of Italy"/>
          <p:cNvPicPr/>
          <p:nvPr/>
        </p:nvPicPr>
        <p:blipFill>
          <a:blip r:embed="rId5"/>
          <a:stretch/>
        </p:blipFill>
        <p:spPr>
          <a:xfrm>
            <a:off x="5867280" y="5425920"/>
            <a:ext cx="789120" cy="5256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4788000" y="5375160"/>
            <a:ext cx="782640" cy="5191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7"/>
          <a:stretch/>
        </p:blipFill>
        <p:spPr>
          <a:xfrm>
            <a:off x="7883640" y="5448240"/>
            <a:ext cx="782640" cy="5191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8962920" y="5448240"/>
            <a:ext cx="720720" cy="5065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6943680" y="5448240"/>
            <a:ext cx="723960" cy="4906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0"/>
          <a:stretch/>
        </p:blipFill>
        <p:spPr>
          <a:xfrm>
            <a:off x="3706920" y="5364000"/>
            <a:ext cx="753840" cy="5162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1"/>
          <a:stretch/>
        </p:blipFill>
        <p:spPr>
          <a:xfrm>
            <a:off x="2698920" y="5375160"/>
            <a:ext cx="647640" cy="505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474920" y="371952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74920" y="335916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74920" y="294012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73120" y="256716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2920" y="3732120"/>
            <a:ext cx="28872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82920" y="335916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2920" y="294012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90920" y="3732120"/>
            <a:ext cx="28908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90920" y="335916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90920" y="292752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256716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98920" y="3732120"/>
            <a:ext cx="28908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98920" y="3298680"/>
            <a:ext cx="28908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8920" y="294012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6920" y="371952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06920" y="3298680"/>
            <a:ext cx="28908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06920" y="292752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5280" y="371952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15280" y="3371760"/>
            <a:ext cx="28872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5280" y="299880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23280" y="3732120"/>
            <a:ext cx="28872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531280" y="371952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531280" y="3298680"/>
            <a:ext cx="28872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294012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531280" y="2579760"/>
            <a:ext cx="28872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539280" y="3732120"/>
            <a:ext cx="28908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539280" y="3371760"/>
            <a:ext cx="289080" cy="2764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539280" y="2998800"/>
            <a:ext cx="289080" cy="27612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788-DE14-48F9-9F76-E22A7B466B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How is this useful?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I-Bankers, Consultants can use the same principles to plan sales trips (“The Traveling Salesman Problem”)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Decision Variables: Order of cities to visit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spcBef>
                <a:spcPts val="7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Objective Function: Minimize cost of travel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EFC-9191-4132-B9C2-BD8BC918C0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971640" y="1562040"/>
            <a:ext cx="8540640" cy="4121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rmAutofit/>
          </a:bodyPr>
          <a:p>
            <a:pPr marL="379440" indent="0" algn="ctr">
              <a:spcBef>
                <a:spcPts val="774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Book Antiqua"/>
              </a:rPr>
              <a:t>Q &amp; A</a:t>
            </a:r>
            <a:endParaRPr b="0" lang="en-US" sz="31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DFF-F56C-4294-BB81-5A0FCD767E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2200" y="50760"/>
            <a:ext cx="6647040" cy="936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Managerial Problem Definition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2640" y="1306440"/>
            <a:ext cx="8540640" cy="6315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1520" indent="-371520">
              <a:lnSpc>
                <a:spcPct val="12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The purpose of our model is to help us plan a trip to Europe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marL="371520" indent="-371520">
              <a:lnSpc>
                <a:spcPct val="12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We have a fixed budget for money and total time to spend on our vacation before we return to New York to start our jobs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marL="371520" indent="-371520">
              <a:lnSpc>
                <a:spcPct val="12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Nine cities that we would like to visit include: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lvl="1" marL="807480" indent="-31104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Amsterdam, Rome, Brussels, Paris, Madrid, Milan, Lisbon, Barcelona and London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marL="371520" indent="-371520">
              <a:lnSpc>
                <a:spcPct val="12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We ascribed a preferred number of days as well as a minimum number of days we would like to stay in each city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marL="371520" indent="-371520">
              <a:lnSpc>
                <a:spcPct val="12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We also expressed a preference for a certain level of hotel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marL="371520" indent="-371520">
              <a:lnSpc>
                <a:spcPct val="12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Based on actual cost, travel time and general preference constraints we used our model to determine: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lvl="1" marL="807480" indent="-31104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The order in which to visit selected cities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1" marL="807480" indent="-31104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Mode of travel (train vs. plane)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1" marL="807480" indent="-31104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The class of hotel in which to stay (1 to 5 star)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FE1-3FB1-4113-9DA3-09C732923E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6680" y="-41400"/>
            <a:ext cx="8796240" cy="811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Decision Variable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5240" y="1418760"/>
            <a:ext cx="9104400" cy="6170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180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Which cities to visit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80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Order in which cities should be visited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80000"/>
              </a:lnSpc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Number of days to spend in each city</a:t>
            </a:r>
            <a:endParaRPr b="0" lang="en-US" sz="27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Book Antiqua"/>
              </a:rPr>
              <a:t>Mode of transportation between cities (plane </a:t>
            </a:r>
            <a:r>
              <a:rPr b="0" lang="en-US" sz="2800" spc="-1" strike="noStrike">
                <a:solidFill>
                  <a:srgbClr val="003366"/>
                </a:solidFill>
                <a:latin typeface="Book Antiqua"/>
              </a:rPr>
              <a:t>or train)</a:t>
            </a:r>
            <a:endParaRPr b="0" lang="en-US" sz="28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 Antiqua"/>
              </a:rPr>
              <a:t>Which hotel class to stay in (4 or 5 star preferred)</a:t>
            </a:r>
            <a:endParaRPr b="0" lang="en-US" sz="28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2D5-74F5-418F-B9D7-27D8497235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6680" y="-41400"/>
            <a:ext cx="8796240" cy="811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1274760"/>
            <a:ext cx="8540640" cy="6315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Maximum dollar amount to spend ($8,000)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lvl="1" marL="824040" indent="-31752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$2,500 for food and entertainment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1" marL="824040" indent="-31752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$2,500 for ticket fare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1" marL="824040" indent="-31752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Remaining $3,000 for hotel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Depending on the minimum and maximum number of days we ascribed to each city the total vacation should be between 14 and 27 days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We used the penalty method to ensure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lvl="1" marL="824040" indent="-31752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Higher class hotel is chosen over lower class as long as the budget for hotel stay is not exceeded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lvl="1" marL="824040" indent="-31752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Book Antiqua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ook Antiqua"/>
              </a:rPr>
              <a:t>Traveling time between cities is kept at a minimum, longer traveling times had increasing penalties attached to them</a:t>
            </a:r>
            <a:endParaRPr b="0" lang="en-US" sz="20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-379440">
              <a:lnSpc>
                <a:spcPct val="11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Book Antiqua"/>
              </a:rPr>
              <a:t>At the end we had to introduce a new “Sub-Tour” constraint to ensure we visit all the cities as a continuous “circuit” and do not come back to New York and then leave again</a:t>
            </a: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  <a:p>
            <a:pPr marL="3794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00336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F35-C516-48F3-9ACD-D61BB70704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6680" y="-41400"/>
            <a:ext cx="8796240" cy="811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Number of Days to Spend in Each City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187280" y="2859120"/>
            <a:ext cx="7704360" cy="4318200"/>
            <a:chOff x="1187280" y="2859120"/>
            <a:chExt cx="7704360" cy="4318200"/>
          </a:xfrm>
        </p:grpSpPr>
        <p:pic>
          <p:nvPicPr>
            <p:cNvPr id="113" name="" descr="big ben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083280" y="2859120"/>
              <a:ext cx="279864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380360" y="4948200"/>
              <a:ext cx="151128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66"/>
                  </a:solidFill>
                  <a:latin typeface="Arial"/>
                </a:rPr>
                <a:t>Big Ben and Westminster Lond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3490920" y="3159000"/>
              <a:ext cx="262404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875040" y="2916360"/>
              <a:ext cx="2087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66"/>
                  </a:solidFill>
                  <a:latin typeface="Arial"/>
                </a:rPr>
                <a:t>Plaza Mayor Madri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1332000" y="3701880"/>
              <a:ext cx="240804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187280" y="5518080"/>
              <a:ext cx="2089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66"/>
                  </a:solidFill>
                  <a:latin typeface="Arial"/>
                </a:rPr>
                <a:t>Royal Palace Madri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84520" y="6872400"/>
              <a:ext cx="211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66"/>
                  </a:solidFill>
                  <a:latin typeface="Arial"/>
                </a:rPr>
                <a:t>Eiffel Tower Pari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3089160" y="5018040"/>
              <a:ext cx="277668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724360" y="6156360"/>
              <a:ext cx="194472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66"/>
                  </a:solidFill>
                  <a:latin typeface="Arial"/>
                </a:rPr>
                <a:t>Illa de la Discordia (Island of Discord) Barcelon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5292720" y="4456080"/>
              <a:ext cx="2373480" cy="1758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23" name=""/>
          <p:cNvGraphicFramePr/>
          <p:nvPr/>
        </p:nvGraphicFramePr>
        <p:xfrm>
          <a:off x="216000" y="1490760"/>
          <a:ext cx="9683640" cy="819000"/>
        </p:xfrm>
        <a:graphic>
          <a:graphicData uri="http://schemas.openxmlformats.org/drawingml/2006/table">
            <a:tbl>
              <a:tblPr/>
              <a:tblGrid>
                <a:gridCol w="966600"/>
                <a:gridCol w="1013040"/>
                <a:gridCol w="927000"/>
                <a:gridCol w="966600"/>
                <a:gridCol w="970200"/>
                <a:gridCol w="966600"/>
                <a:gridCol w="966960"/>
                <a:gridCol w="969840"/>
                <a:gridCol w="970200"/>
                <a:gridCol w="966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Amsterda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Rom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Brussel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Pari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Madrid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Mila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Lisb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Barcelona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Lond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Pref. Day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Min. Day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BB7-4194-4717-BBF9-C1DD1C7ADA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18160" y="10080"/>
            <a:ext cx="8693280" cy="70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Preference for Hotel Stay &amp; Travel Time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968560" y="1652760"/>
          <a:ext cx="4194000" cy="2477880"/>
        </p:xfrm>
        <a:graphic>
          <a:graphicData uri="http://schemas.openxmlformats.org/drawingml/2006/table">
            <a:tbl>
              <a:tblPr/>
              <a:tblGrid>
                <a:gridCol w="2093760"/>
                <a:gridCol w="21002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Stars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Preference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105000" y="2222640"/>
            <a:ext cx="216000" cy="20448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05000" y="259380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4080" y="259380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81360" y="301464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301464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5000" y="301464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05000" y="338616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94080" y="338616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81360" y="338616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8640" y="338616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05000" y="381780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81360" y="3817800"/>
            <a:ext cx="216000" cy="20484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8640" y="3807000"/>
            <a:ext cx="216000" cy="20448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57720" y="3807000"/>
            <a:ext cx="216000" cy="20448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4080" y="3807000"/>
            <a:ext cx="216000" cy="204480"/>
          </a:xfrm>
          <a:prstGeom prst="star5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962440" y="4484520"/>
          <a:ext cx="4194000" cy="2477880"/>
        </p:xfrm>
        <a:graphic>
          <a:graphicData uri="http://schemas.openxmlformats.org/drawingml/2006/table">
            <a:tbl>
              <a:tblPr/>
              <a:tblGrid>
                <a:gridCol w="2093400"/>
                <a:gridCol w="21006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Travel Time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7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Preference</a:t>
                      </a:r>
                      <a:endParaRPr b="0" lang="en-US" sz="2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0 to 2 h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2 to 4 h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4 to 6 h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6 to 8 h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8+ h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Book Antiqu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925-4A11-489C-8182-C4AF816736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920" y="50400"/>
            <a:ext cx="879660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Model Decision Variable Overview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77880" y="1419120"/>
          <a:ext cx="893448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419120"/>
                    <a:ext cx="89344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flipH="1">
            <a:off x="8459640" y="2136600"/>
            <a:ext cx="1441440" cy="576360"/>
          </a:xfrm>
          <a:prstGeom prst="borderCallout1">
            <a:avLst>
              <a:gd name="adj1" fmla="val 18750"/>
              <a:gd name="adj2" fmla="val -8333"/>
              <a:gd name="adj3" fmla="val 51513"/>
              <a:gd name="adj4" fmla="val 1117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Order of C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8459640" y="4010040"/>
            <a:ext cx="1440000" cy="865080"/>
          </a:xfrm>
          <a:prstGeom prst="borderCallout1">
            <a:avLst>
              <a:gd name="adj1" fmla="val 18750"/>
              <a:gd name="adj2" fmla="val -8333"/>
              <a:gd name="adj3" fmla="val 13208"/>
              <a:gd name="adj4" fmla="val 16140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Number of Days in 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Each C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459640" y="6159600"/>
            <a:ext cx="1440000" cy="587160"/>
          </a:xfrm>
          <a:prstGeom prst="borderCallout1">
            <a:avLst>
              <a:gd name="adj1" fmla="val 18750"/>
              <a:gd name="adj2" fmla="val -8333"/>
              <a:gd name="adj3" fmla="val 19458"/>
              <a:gd name="adj4" fmla="val 1615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Hotel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ＭＳ Ｐゴシック"/>
              </a:rPr>
              <a:t>Clas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59640" y="4875120"/>
            <a:ext cx="144000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Arial"/>
              </a:rPr>
              <a:t>Binary &amp; SumProduc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59640" y="3665520"/>
            <a:ext cx="14400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Arial"/>
              </a:rPr>
              <a:t>Variable 2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459640" y="6746760"/>
            <a:ext cx="14400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Arial"/>
              </a:rPr>
              <a:t>Bina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459640" y="5824440"/>
            <a:ext cx="14400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Arial"/>
              </a:rPr>
              <a:t>Variable 3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59640" y="2714760"/>
            <a:ext cx="14400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Arial"/>
              </a:rPr>
              <a:t>Bina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59640" y="1851120"/>
            <a:ext cx="14400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Book Antiqua"/>
                <a:ea typeface="Arial"/>
              </a:rPr>
              <a:t>Variable 1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8BD-393E-43EF-9D5C-59434A934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6680" y="102960"/>
            <a:ext cx="8796240" cy="81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Data: Flight Cost &amp; Travel Time</a:t>
            </a:r>
            <a:endParaRPr b="1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71640" y="1784520"/>
          <a:ext cx="8928000" cy="445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84520"/>
                    <a:ext cx="8928000" cy="44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859-6F3F-4352-800F-13312FDD46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1:18:36Z</dcterms:created>
  <dc:creator>Chunlawat</dc:creator>
  <dc:description/>
  <cp:keywords/>
  <dc:language>en-US</dc:language>
  <cp:lastModifiedBy>Brian P. Angeli</cp:lastModifiedBy>
  <dcterms:modified xsi:type="dcterms:W3CDTF">2006-05-03T02:37:46Z</dcterms:modified>
  <cp:revision>1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61033</vt:lpwstr>
  </property>
</Properties>
</file>