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846-D786-4493-AFC8-479BF169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05D-D54E-4E03-B1DA-D237AA40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572-85C9-4A94-8D86-CCCFA8FB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6C1-EBBF-4D36-A76F-FDDBEE00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2364-FA6D-41B9-9957-688EE721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55D1-DB87-4A98-B760-C83A81A0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C432-E7FF-4444-8AE7-7041FBBE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6056-09A4-4625-B9AC-A1646073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A6D1-2711-429A-86F4-57C7A558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D079-9548-42EF-B372-6774E15E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B0AE-9B8C-4C46-86A1-23BD546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A35-13B9-4418-8080-436A5D1F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6F75-E139-4A97-B845-B05BEA1D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8493-CF15-4F98-A5C5-AFDCBDB1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1DE4-2F4D-45EC-A5D6-64CC823D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AD33-A568-4763-B67E-1E8702C5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1CEA-6544-411E-A474-999BB8BA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39E-966E-445C-B44D-D725E593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EC6-B960-40F8-86E5-EDE8E21E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D49-DCBC-484D-8D11-24FEEEE9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323-20DE-4C89-9B09-6BD6FA66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F02-C614-4AC6-87EE-C944D51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2C6-A350-42EF-8C89-FDEFED57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219-1786-432A-B3CD-74945EB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553D-FAAD-4F77-A8DB-CA1D8322E5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1295280"/>
            <a:ext cx="830592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2E4B-E836-45C3-86DA-CC9A90664D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>
            <a:lum contrast="-24000"/>
          </a:blip>
          <a:srcRect l="28000" t="0" r="28000" b="16000"/>
          <a:stretch/>
        </p:blipFill>
        <p:spPr>
          <a:xfrm>
            <a:off x="0" y="0"/>
            <a:ext cx="195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2840" y="1519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NEW ‘ZAGAT SURVEYED EATERY’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81280" y="4495320"/>
            <a:ext cx="4724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Y H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IJAT JAUH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NG KI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M LIE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ARTI RAGHAV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3200400"/>
            <a:ext cx="52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YOUR GUIDE TO WHAT TO EA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ITH DUE REGARD TO Y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ASTE &amp; WAL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del  - Demonst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49913" b="22456"/>
          <a:stretch/>
        </p:blipFill>
        <p:spPr>
          <a:xfrm>
            <a:off x="1600200" y="1427040"/>
            <a:ext cx="54864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eeding the M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717560"/>
            <a:ext cx="585792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mulating Dem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d the model to generate 32 types of students, 15 types generated feasible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510552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mulating Dem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828800"/>
            <a:ext cx="8001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d Crystal Ball to generate aggregate weekly demand under the following assum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types are uniforml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udents try to minimize thei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ly bu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type of student has the sam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mal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mulating Demand – Resul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01880" y="4876920"/>
            <a:ext cx="9095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clus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ock plenty of: Garden Salad, Diet Pepsi, Aquafina, Fr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 not stock:  Chef Salad, Minestrone Soup, Sushi, Yogurt drink, Brown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ture Enhance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1676520"/>
            <a:ext cx="44193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rystal Ball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out true distribution of student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 different students to have different bud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holding costs, ordering costs to estimate EO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6765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l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ver cannot handle more than 200 decision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Premium Solver SDK from Frontline systems (www.solver.com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000 Variab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$2000-$4000 /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not believe you are still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ppreciate your business, thank you for being our customer, please come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 drinks on Juran at 5p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r inspiration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model is inspired by the latest Zagat survey, where we uncovered an ‘undiscovered gem’ that is right here in this building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530520" cy="4953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14400" y="35053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05/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495680"/>
            <a:ext cx="2819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2200" y="4640400"/>
            <a:ext cx="307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t in the belly of Stern’s Kaufman Managemen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enter, Sosnoff is the perfect place to relax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rab a muffin, people watch and catch up on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NBC. This “cozy” eatery is great for student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ho are “too lazy to walk across the stre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or lunch.” Students love Sosnoff for it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ck-hard cookies and mystery soups” as well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s “large crumb covered tables with romantic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iews of Washington Square Park”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5334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osnoff Loun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733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ew York C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staur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1911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snoff Cafe and Loun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 West 4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tre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an MBA student ea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realized that the ‘food trapezoid’ is a key input in determining business school rankings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 ‘Zagat surveyed’ restaurant already in the Stern building, the battle is half-w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nly thing Stern students need is a model that helps them make the right choice of food from Sosnoff…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809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6172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ive and constrai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model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to bu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mulation of dem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to Bu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600200"/>
            <a:ext cx="7391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mize weekly food budget while sticking to dietary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sion Variabl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ls in week (4 days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noff food ite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Variables = 8 X 39   = 3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oo many decision variables !!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repeating after 2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strai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cost is less than the weekly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 food items only twice in a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select only one main, side and drin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orm to one or more choi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getari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F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Ca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Fi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 lovers ch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nary constraint on decision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08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g Cost” in Visual Basi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1378080"/>
            <a:ext cx="594360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p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37148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8:02:47Z</dcterms:created>
  <dc:creator>Stern Business School</dc:creator>
  <dc:description/>
  <dc:language>en-US</dc:language>
  <cp:lastModifiedBy>Stern School of Business</cp:lastModifiedBy>
  <dcterms:modified xsi:type="dcterms:W3CDTF">2006-05-01T17:55:34Z</dcterms:modified>
  <cp:revision>28</cp:revision>
  <dc:subject/>
  <dc:title>WHAT TO EAT?</dc:title>
</cp:coreProperties>
</file>