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6596-7B7E-4671-B553-14E7B864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45B-20D2-4436-AFCD-CE0642A1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7771-6718-48BB-9305-ECC37759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057C-1C80-4E42-856D-8A7A2B31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488A-271D-4508-937E-B8DD81F6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DD10-8702-48F9-9A3F-B6F96198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9753-F930-4F4D-A86B-BBE421BC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2DCD-DF03-4FBB-BC2D-0AEB999C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E3A7-5B75-44C9-B5E2-F65DCAD4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AB7C-83AF-47B9-BD23-437D7DE5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696B-3ABE-4D43-8316-74FD7A4E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ED7E-307B-4CC7-AAA9-65108090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A393-927D-431C-A1A8-5BB2FFFB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9325-E445-46A6-B664-F0C9A187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C124-1844-40CE-B607-60EAB0E7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C867-D32F-4231-95DC-7C43FB15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AE4B-538D-4B78-AAE2-D992BDA5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C663-2921-472F-8D47-4C067C98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C6B-E0E8-425F-9C95-B17B8A4D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07F7-2DD9-4E65-86E6-D1E45718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71E2-1BDE-4B26-B996-7BE13353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216-DCC9-4EDD-AB8C-86410D72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E5AD-ED29-4B82-8B7C-7FCB9936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E5B-7C1F-4CAC-85BA-73659F2B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882E-F74C-4338-9259-E337E04177A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1295280"/>
            <a:ext cx="8305920" cy="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F7AC-C9E6-4A51-AD87-C8F5D51728D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>
            <a:lum contrast="-24000"/>
          </a:blip>
          <a:srcRect l="28000" t="0" r="28000" b="16000"/>
          <a:stretch/>
        </p:blipFill>
        <p:spPr>
          <a:xfrm>
            <a:off x="0" y="0"/>
            <a:ext cx="19558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2840" y="151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NEW ‘ZAGAT SURVEYED EATERY’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81280" y="4495320"/>
            <a:ext cx="4724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MY H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RIJAT JAUHA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NG KI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M LIE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ARTI RAGHAV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3200400"/>
            <a:ext cx="52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YOUR GUIDE TO WHAT TO EA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WITH DUE REGARD TO YOU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ASTE &amp; WAL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Model  - Demonst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886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Mod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49913" b="22456"/>
          <a:stretch/>
        </p:blipFill>
        <p:spPr>
          <a:xfrm>
            <a:off x="1600200" y="1427040"/>
            <a:ext cx="548640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eeding the Mas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00200" y="1717560"/>
            <a:ext cx="585792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imulating Dem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002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used the model to generate 32 types of students, 15 types generated feasible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81080" y="2895480"/>
            <a:ext cx="5105520" cy="35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imulating Dem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828800"/>
            <a:ext cx="80010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used Crystal Ball to generate aggregate weekly demand under the following assump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 types are uniforml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students try to minimize thei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ly bu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type of student has the sam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timal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imulating Demand – Resul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01880" y="4876920"/>
            <a:ext cx="9095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clus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ock plenty of: Garden Salad, Diet Pepsi, Aquafina, Fr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 not stock:  Chef Salad, Minestrone Soup, Sushi, Yogurt drink, Brown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uture Enhance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1676520"/>
            <a:ext cx="44193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rystal Ball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d out true distribution of student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ow different students to have different bud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 holding costs, ordering costs to estimate EO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676520"/>
            <a:ext cx="4038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lver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ver cannot handle more than 200 decision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Premium Solver SDK from Frontline systems (www.solver.com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000 Variab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$2000-$4000 /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not believe you are still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appreciate your business, thank you for being our customer, please come a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e drinks on Juran at 5pm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r inspiration…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r model is inspired by the latest Zagat survey, where we uncovered an ‘undiscovered gem’ that is right here in this building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3530520" cy="4953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14400" y="35053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005/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4495680"/>
            <a:ext cx="28195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2200" y="4640400"/>
            <a:ext cx="3078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et in the belly of Stern’s Kaufman Managemen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enter, Sosnoff is the perfect place to relax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rab a muffin, people watch and catch up o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NBC. This “cozy” eatery is great for student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ho are “too lazy to walk across the stre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or lunch.” Students love Sosnoff for it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ck-hard cookies and mystery soups” as well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s “large crumb covered tables with romantic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iews of Washington Square Park”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5334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Sosnoff Loung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7339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ew York C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Restaura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191120"/>
            <a:ext cx="1447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snoff Cafe and Loun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 West 4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Stre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an MBA student eat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realized that the ‘food trapezoid’ is a key input in determining business school rankings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 a ‘Zagat surveyed’ restaurant already in the Stern building, the battle is half-w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only thing Stern students need is a model that helps them make the right choice of food from Sosnoff…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809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6172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bjective and constrai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model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to bu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mulation of dem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to Buy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600200"/>
            <a:ext cx="7391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imize weekly food budget while sticking to dietary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ision Variabl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ls in week (4 days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snoff food item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sion Variables = 8 X 39   = 3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Too many decision variables !!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 repeating after 2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strai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cost is less than the weekly bud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eat food items only twice in a we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select only one main, side and drin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orm to one or more choic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getaria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w F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w Ca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Fi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t lovers cho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nary constraint on decision vari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Mod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80876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g Cost” in Visual Basic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3000" y="1378080"/>
            <a:ext cx="594360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pu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371484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8:02:47Z</dcterms:created>
  <dc:creator>Stern Business School</dc:creator>
  <dc:description/>
  <dc:language>en-US</dc:language>
  <cp:lastModifiedBy>Stern School of Business</cp:lastModifiedBy>
  <dcterms:modified xsi:type="dcterms:W3CDTF">2006-05-01T17:55:34Z</dcterms:modified>
  <cp:revision>28</cp:revision>
  <dc:subject/>
  <dc:title>WHAT TO EAT?</dc:title>
</cp:coreProperties>
</file>