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.gif" ContentType="image/gi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7.png" ContentType="image/png"/>
  <Override PartName="/ppt/media/image15.wmf" ContentType="image/x-wmf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wmf" ContentType="image/x-wmf"/>
  <Override PartName="/ppt/media/image4.wmf" ContentType="image/x-wmf"/>
  <Override PartName="/ppt/media/image2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6856-F2F3-4412-967E-558C1F3D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220-D315-4722-9A0E-9A8F495E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BB7A-2072-4890-940A-CB3099AC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A7D3-2E53-47D2-8D7D-B1A3DF92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A7D5-E594-4069-A6B5-B24D264D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A1A5-CBC3-450E-A1D2-9EECD68D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BF1-6BE1-4ECB-AF64-58F3101F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5B78-9D8C-435B-86B5-090A8319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406-2FB6-4C25-94ED-707D605C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160-E410-442D-BF7B-AD73E747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C6D4-25C7-44D3-ACB7-59C48371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B82B-AB9C-4BB8-A017-C32108E3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B6B0-51E8-47D1-ACEE-0F260BCA3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67560" y="33480"/>
            <a:ext cx="536760" cy="15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077320" y="0"/>
            <a:ext cx="106668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4800600"/>
            <a:ext cx="3076560" cy="1230480"/>
          </a:xfrm>
          <a:custGeom>
            <a:avLst/>
            <a:gdLst/>
            <a:ahLst/>
            <a:rect l="l" t="t" r="r" b="b"/>
            <a:pathLst>
              <a:path w="1938" h="775">
                <a:moveTo>
                  <a:pt x="1938" y="506"/>
                </a:moveTo>
                <a:cubicBezTo>
                  <a:pt x="1745" y="537"/>
                  <a:pt x="1101" y="775"/>
                  <a:pt x="778" y="691"/>
                </a:cubicBezTo>
                <a:cubicBezTo>
                  <a:pt x="455" y="607"/>
                  <a:pt x="162" y="144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44920" y="4191120"/>
            <a:ext cx="523800" cy="1523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28800" y="4343400"/>
            <a:ext cx="701028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2666880"/>
            <a:ext cx="3352680" cy="774720"/>
          </a:xfrm>
          <a:custGeom>
            <a:avLst/>
            <a:gdLst/>
            <a:ahLst/>
            <a:rect l="l" t="t" r="r" b="b"/>
            <a:pathLst>
              <a:path w="1632" h="488">
                <a:moveTo>
                  <a:pt x="0" y="488"/>
                </a:moveTo>
                <a:cubicBezTo>
                  <a:pt x="272" y="252"/>
                  <a:pt x="544" y="16"/>
                  <a:pt x="816" y="8"/>
                </a:cubicBezTo>
                <a:cubicBezTo>
                  <a:pt x="1088" y="0"/>
                  <a:pt x="1360" y="220"/>
                  <a:pt x="1632" y="44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362320"/>
            <a:ext cx="579132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152640" y="5333760"/>
            <a:ext cx="2971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orge Casan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amie Hallma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rin Halloc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era Le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44197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Lucida Bright"/>
              </a:rPr>
              <a:t>THAT OTHER SCHOOL O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48006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Lucida Bright"/>
              </a:rPr>
              <a:t>UPPER MOST REG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51814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Lucida Bright"/>
              </a:rPr>
              <a:t>ISLAND OF MANHAT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3733920" cy="827280"/>
          </a:xfrm>
          <a:prstGeom prst="rect">
            <a:avLst/>
          </a:prstGeom>
          <a:ln w="9360">
            <a:solidFill>
              <a:srgbClr val="470195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19920" y="2819520"/>
            <a:ext cx="1460520" cy="1676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Juran’s Transport”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Getting Juran from the Village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… and back again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44444E-006 C 0.01511 -0.05439 0.0033 -0.26898 0.09098 -0.32615 C 0.17865 -0.38333 0.44098 -0.36319 0.52587 -0.34351 C 0.61077 -0.32407 0.58525 -0.23703 0.60087 -0.20879 E">
                                      <p:cBhvr>
                                        <p:cTn id="10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087 -0.20879 C 0.59965 -0.14537 0.61077 -0.08287 0.59584 -0.01597 C 0.58108 0.0507 0.60278 0.1581 0.5125 0.19329 C 0.42222 0.23033 0.17014 0.21528 0.05434 0.19884 C -0.06146 0.18287 -0.13246 0.18009 -0.18246 0.09676 C -0.23246 0.01273 -0.26111 -0.19051 -0.24583 -0.30324 C -0.23055 -0.41597 -0.23906 -0.52916 -0.09114 -0.58009 C 0.05677 -0.63102 0.48941 -0.60278 0.64219 -0.60879 E">
                                      <p:cBhvr>
                                        <p:cTn id="17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Disaster strikes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You’re about to leave at 3:00pm, and then your phone rings.  But you need to be in class by 5:00pm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ur model also tells you what’s the latest time you need to leave b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Disaster strikes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76520"/>
          <a:ext cx="800100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00100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590920" y="2819520"/>
            <a:ext cx="58672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Disaster strikes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1143000"/>
          <a:ext cx="80010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0010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ile we would love to see Professor Juran stay at Stern 24/7, there are multiple routes for him to get back and forth between the Village and the Upper West Side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33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uran’s Transport” gives him choices by allowing him to minimize transportation time or cost of travel (if leaving at a specific time) or find the crash time (if needing to arrive by a certain time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hat’s on tap for tod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ur miss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t up the probl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rmulate our methodolog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verview of “Juran’s Transport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nclud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29000" y="3875040"/>
            <a:ext cx="1455840" cy="130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629400" y="4027320"/>
            <a:ext cx="1833480" cy="906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029200" y="3951360"/>
            <a:ext cx="1447920" cy="11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alphaModFix amt="24000"/>
          </a:blip>
          <a:stretch/>
        </p:blipFill>
        <p:spPr>
          <a:xfrm>
            <a:off x="0" y="1219320"/>
            <a:ext cx="3581280" cy="5638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Our miss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o give Professor Juran a tool to figure out the BEST method to travel between </a:t>
            </a:r>
            <a:r>
              <a:rPr b="1" lang="en-US" sz="2800" spc="-1" strike="noStrike">
                <a:solidFill>
                  <a:srgbClr val="470195"/>
                </a:solidFill>
                <a:latin typeface="Trebuchet MS"/>
              </a:rPr>
              <a:t>NYU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that other school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during the week at any given time, given certain condition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et up the problem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1240" y="1493640"/>
            <a:ext cx="836748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3 options for travel: Taxi, Bus, &amp; Subway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ach option has multiple routes/lines availab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Bus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M1/M4, M7, M6/M104, M1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Subway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#1, 2, 3, A, C, B, 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Cab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3 rou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Formulate our methodolog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996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Decision Variables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Transportation method &amp; route to tak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Find the quickest and/or cheapest way to go between NYU &amp; that other schoo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Constraint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ertain time schedules exist with some black out perio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ime of departure, or arrival, is the inpu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raffic levels vary at different times of the d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verview of “Juran’s Transport” 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Bu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2286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wn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2286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p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3886200" cy="2990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rcRect l="0" t="7890" r="0" b="21929"/>
          <a:stretch/>
        </p:blipFill>
        <p:spPr>
          <a:xfrm>
            <a:off x="9144000" y="3352680"/>
            <a:ext cx="2895480" cy="18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verview of “Juran’s Transport” 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Subway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1498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wn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052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p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73370" b="9324"/>
          <a:stretch/>
        </p:blipFill>
        <p:spPr>
          <a:xfrm>
            <a:off x="0" y="914400"/>
            <a:ext cx="1476360" cy="1019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7086600" cy="221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43000" y="4471920"/>
            <a:ext cx="7086600" cy="2179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rcRect l="0" t="0" r="46785" b="35289"/>
          <a:stretch/>
        </p:blipFill>
        <p:spPr>
          <a:xfrm>
            <a:off x="-2666880" y="3276720"/>
            <a:ext cx="2666880" cy="21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verview of “Juran’s Transport” 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Cab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1600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wn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4038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p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315200" cy="1828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315200" cy="1571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144000" y="6858000"/>
            <a:ext cx="3124080" cy="20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put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424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20:53:04Z</dcterms:created>
  <dc:creator>Stern School of Business</dc:creator>
  <dc:description/>
  <dc:language>en-US</dc:language>
  <cp:lastModifiedBy>VERA S. LEE</cp:lastModifiedBy>
  <dcterms:modified xsi:type="dcterms:W3CDTF">2006-04-24T17:33:01Z</dcterms:modified>
  <cp:revision>56</cp:revision>
  <dc:subject/>
  <dc:title>Outline</dc:title>
</cp:coreProperties>
</file>