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17D-ED4D-41EE-AB07-F123BB18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97B-45DE-4876-8AFD-14D88505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1C3-30DA-4D93-A966-08137BC7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66A-2BA1-4A6F-A567-3C8F013B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936-E881-481D-B5AF-D636CCE1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333-B27A-4E29-88A4-68E73220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733-564E-4204-8D74-235D1688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654-E494-487B-8E27-C55298B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57B-BD7F-40F0-8B03-AA68438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FFF-694D-45E1-8922-9B41C59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158-65C5-48ED-BE51-59A5228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144-0850-4492-88AF-38559A48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02B-D479-47C5-9428-6A0AE24A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3856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52280" y="228600"/>
          <a:ext cx="868320" cy="7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683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990720" y="281160"/>
          <a:ext cx="8001000" cy="70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160"/>
                    <a:ext cx="8001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a model that will allocate players to five individual fantasy football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am rosters must be equal to 17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owners starting lineup flexibility and backups for bye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remaining players enter free agent poo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teams in league operate on an equitabl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ty based on last year’s salaries an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se a pool of 193 players.  Data collected included: Player name, player position, 2005 fantasy salary, and 2005 fantasy points scored (see format below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team summary grid to count total players per team and number of players per position.  (See be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5278320" cy="153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933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a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a hierarchy of penalties to attempt to achieve our objec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-zero Penalty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courages solver from assigning zero players to a given position on a given team by penalizing the objective function. =COUNTIF(B200:F205,0)*12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Player Penalty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courages solver from assigning fewer or more than the desired number of total players to a team by penalizing the objective fun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ABS(B207-17)*100000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Penalty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olver assigns fewer or more players than the optimal value per position per team, the objective function is penalized by the following values per violation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480060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 Func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nimize Total Penalty: (total player penalty + non-zero penalty + position penal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defined as the team number to which each player is assigned (i.e. 0,1,2,3,4 or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onstraints! (Decision Variables must be integers ranging from 0 to 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40165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828800"/>
          <a:ext cx="7773840" cy="4656240"/>
        </p:xfrm>
        <a:graphic>
          <a:graphicData uri="http://schemas.openxmlformats.org/drawingml/2006/table">
            <a:tbl>
              <a:tblPr/>
              <a:tblGrid>
                <a:gridCol w="1493640"/>
                <a:gridCol w="856800"/>
                <a:gridCol w="856800"/>
                <a:gridCol w="856800"/>
                <a:gridCol w="856800"/>
                <a:gridCol w="857160"/>
                <a:gridCol w="287640"/>
                <a:gridCol w="1493640"/>
                <a:gridCol w="216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lay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en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layer Penal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Zero Penal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,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553080" y="4343400"/>
            <a:ext cx="18288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inimize Penal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828800"/>
          <a:ext cx="7772400" cy="4111560"/>
        </p:xfrm>
        <a:graphic>
          <a:graphicData uri="http://schemas.openxmlformats.org/drawingml/2006/table">
            <a:tbl>
              <a:tblPr/>
              <a:tblGrid>
                <a:gridCol w="1266480"/>
                <a:gridCol w="748800"/>
                <a:gridCol w="615600"/>
                <a:gridCol w="995760"/>
                <a:gridCol w="216000"/>
                <a:gridCol w="1549800"/>
                <a:gridCol w="754920"/>
                <a:gridCol w="620640"/>
                <a:gridCol w="1004400"/>
              </a:tblGrid>
              <a:tr h="2156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eam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eam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la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al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otal Poi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la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al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otal Poi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Jagu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Eag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Be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wrenceTy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ilRack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tHasselbe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ronBroo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quesTuiasosop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rryColl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Brun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dricHous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DainianTomlin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Per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J.Ducke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anBarlo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yDill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unAlexa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venJack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rmaineWigg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J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yWilli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Cla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mmySmi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Dri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Curt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ionBran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nteH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J.Houshmandzade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aacBru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McCare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rryHo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oyWilliam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hleyLel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Jurevici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original goal was to make equal teams based on points and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the constraints to the objective function made this obso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gs worked out any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magi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124080"/>
          <a:ext cx="6096240" cy="10954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of the best players did not get sel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veritable all-star team of players on the s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be if we added more teams this would work itself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19320" y="2895480"/>
          <a:ext cx="5943600" cy="121932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yton M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di John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 Gonzal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 V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ry John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na M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tt Fa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gerin J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son Pal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not get the balance of players exactly the way we wante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ent is not equitab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 4 has 8 WR’s but only 1 Q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best kickers in the NFL are all on the sam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A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m Vinat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e Vanderja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2590920"/>
          <a:ext cx="6096240" cy="19112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18148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16256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4114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248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5409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791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36:22Z</dcterms:created>
  <dc:creator>Chris Donegan</dc:creator>
  <dc:description/>
  <dc:language>en-US</dc:language>
  <cp:lastModifiedBy>David</cp:lastModifiedBy>
  <dcterms:modified xsi:type="dcterms:W3CDTF">2006-04-29T17:46:49Z</dcterms:modified>
  <cp:revision>33</cp:revision>
  <dc:subject/>
  <dc:title>PowerPoint Presentation</dc:title>
</cp:coreProperties>
</file>