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2BA-84FD-4576-8659-6BD2C8E4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4AE-AC49-498E-A32D-D14FFEC6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DE7-F87D-467B-86D1-7A649119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D49-0F68-49C7-9036-487011C6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D13A-68E1-4E2B-B849-5ABB1194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A80-A28A-4413-90A3-3D0DFFCC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D7A0-1221-46B0-A0CB-1A11182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9A03-A783-4EFA-ABE7-34EB2D2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3506-DDA2-4FC6-B5B1-4EE1E1F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5B0-575E-4FD3-8E3F-28118B53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0AB3-EED0-4410-B9F5-7323A70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898-7828-4DEB-AB0E-89712F2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930-02E6-433D-A1C3-5E92DE4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2C7F-7260-427B-9DB5-90A210E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F00-1442-4E19-B05D-A22360E1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758C-7A3B-47B9-B946-7D7EE4FF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5C42-61C1-475A-9D04-8ADB1151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9AF-5D68-4A74-A375-CDE2CB7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52F-1C0F-4B13-8A66-AE76155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B90-69B6-470F-B25A-DF8EE0F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74F-AD29-4A35-8EF8-6D16BA1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766-3A40-4FB8-AAF1-18FDA2F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40B-80F5-4545-AB20-63509D4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E3C-ED2B-44A2-935C-DD0174D8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D16F-60AD-472B-8433-1AA984101D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363-19EF-4C7B-91CB-92998AD30C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ational Hockey Leagu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timal Team Se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623640" y="4832280"/>
            <a:ext cx="226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gor Usha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il Bayram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lie Nach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vel Tomashev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ury Rezni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select 24 players from a total of 782 (filtered) p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 many decision variables for sol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igned each player a number and used 24 decision variables that could each be assigned the value of 1 to 7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ctive Fun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ize the overall value of the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negative weights for going past the allowed player position numb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country bonus for players from the sam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stal 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33920" y="160020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ulation of player improvement or player injury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al distrib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n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Dev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.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ue of Player X Crystal Ball Data = Total Va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74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lary Cap &lt; $39,000,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 Played &gt;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one of each player on the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1503360"/>
            <a:ext cx="518148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no salary cap of $39 mill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best “bang for the buck” tea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 Salary C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st “Bang for the Buck”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812960"/>
            <a:ext cx="8610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way to measure team performance (How do players interact with each other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e of players is based on statistics we subjectively deem to b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istics are backward looking – not necessarily indicative of future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del does not account for values of players with no past record of performance- i.e. league rook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way to test the model in real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ould be willing to bet that our team would at least make the second round of NHL playoffs!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looking for investors to buy the New York Rangers and to make them a winning franchise at half the payro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General Managers should use Solver and Crystal Ball to select their hockey team - it would save them a lot of useless time and money spent on scouting p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iving up our investment banking jobs to become hockey GMs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 is coming with u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 Descri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 Formu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ulation Resul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3530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we undertook this Projec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 Managers make good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think the sports industry lifestyle is conductive to our sensib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ckey is the only sport which every single member of our Decision Models project team knew something ab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(excluding Chuck) are still bitter that the US Olympic Hockey team upset the USSR in 1980.  We feel it never would have happened if we were in contro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 discovered that the job of NHL GM is no walk in the park!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igh salary, low performing teams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York Rangers -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only 1 Stanley Cup in 66 years, NO playoff appearances for 7 straight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iladelphia Flyers –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Last Stanley Cup win in 197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ronto Maple Leafs –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Last Stanley Cup win in 1967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s Angeles Kings –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NO Stanley Cup wins in franchise history.  Only 4 playoff appearances in last 11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etter approach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borrowed from MLB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akland Athletics GM Billy Beane pioneered an approach to building a team that has been dubbed MoneyBall – MoneyBall is now in vogue throughout the leagu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ane studied the methods of a statistician, Bill Ja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mes analyzed volumes of data of player performances to draw new conclusions and refute conventional wisdoms about the g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mes created the science of “sabermetrics” and published his findings in a series Baseball Almana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thought this approach might work well in building a hockey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 Descri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group acts collectively as a NHL GM.  We need to optimally select 24 players to build a championship caliber te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yer Statistics from previous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yer Pos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 Pla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ntry Bon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ndom chance of injury or exceptional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ize team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ition of Player Perform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ign positive weights to desirable stati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gative weights to undesirable sta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ther statistics remain at 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Crystal Ball to simulate one 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ilize 3 seasons of statistical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al player’s score is a function his statistical data and the relative importance of each statistical categ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63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tribution of Play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yers’ values follow normal distribution…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2286000"/>
          <a:ext cx="8839440" cy="42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3944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tribution of Play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layers’ salaries do n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209680"/>
          <a:ext cx="8839440" cy="42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883944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20:07:21Z</dcterms:created>
  <dc:creator>Yury Reznikov</dc:creator>
  <dc:description/>
  <dc:language>en-US</dc:language>
  <cp:lastModifiedBy>Yury Reznikov</cp:lastModifiedBy>
  <dcterms:modified xsi:type="dcterms:W3CDTF">2006-04-24T01:01:06Z</dcterms:modified>
  <cp:revision>13</cp:revision>
  <dc:subject/>
  <dc:title>National Hockey League</dc:title>
</cp:coreProperties>
</file>