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oin.wav" ContentType="audio/x-wav"/>
  <Override PartName="/ppt/media/whoosh.wav" ContentType="audio/x-wav"/>
  <Override PartName="/ppt/media/image13.wmf" ContentType="image/x-wmf"/>
  <Override PartName="/ppt/media/image9.jpeg" ContentType="image/jpeg"/>
  <Override PartName="/ppt/media/image23.wmf" ContentType="image/x-wmf"/>
  <Override PartName="/ppt/media/suction.wav" ContentType="audio/x-wav"/>
  <Override PartName="/ppt/media/image10.wmf" ContentType="image/x-wmf"/>
  <Override PartName="/ppt/media/image4.jpeg" ContentType="image/jpeg"/>
  <Override PartName="/ppt/media/image8.png" ContentType="image/png"/>
  <Override PartName="/ppt/media/image7.jpeg" ContentType="image/jpeg"/>
  <Override PartName="/ppt/media/image6.png" ContentType="image/png"/>
  <Override PartName="/ppt/media/image14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17.wmf" ContentType="image/x-wmf"/>
  <Override PartName="/ppt/media/image16.png" ContentType="image/png"/>
  <Override PartName="/ppt/media/image1.jpeg" ContentType="image/jpeg"/>
  <Override PartName="/ppt/media/image15.wmf" ContentType="image/x-wmf"/>
  <Override PartName="/ppt/media/image12.wmf" ContentType="image/x-wmf"/>
  <Override PartName="/ppt/media/image11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A063-4CFB-45A5-9CF0-D122605CF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06480" y="1585800"/>
            <a:ext cx="553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06480" y="3949920"/>
            <a:ext cx="553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E96A-024A-4D27-8E82-C95B0D6E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06480" y="1585800"/>
            <a:ext cx="269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585800"/>
            <a:ext cx="269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06480" y="3949920"/>
            <a:ext cx="269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3949920"/>
            <a:ext cx="269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1523-EBF3-437D-811A-B93BC08A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06480" y="1585800"/>
            <a:ext cx="178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76680" y="1585800"/>
            <a:ext cx="178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47240" y="1585800"/>
            <a:ext cx="178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06480" y="3949920"/>
            <a:ext cx="178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76680" y="3949920"/>
            <a:ext cx="178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47240" y="3949920"/>
            <a:ext cx="178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6C95-DA2F-442F-8187-1A372CB7E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06480" y="1585800"/>
            <a:ext cx="5531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E433-649A-4899-8BA9-68B5A819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06480" y="1585800"/>
            <a:ext cx="553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F4C1-6642-4A10-82F8-B5BC880E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06480" y="1585800"/>
            <a:ext cx="2698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585800"/>
            <a:ext cx="2698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5CAF-9632-46A1-9D3E-B72AE131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58D9-68FB-4B02-8671-8253ADD1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9DF1-F48E-41E4-A0A4-A03AB750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06480" y="1585800"/>
            <a:ext cx="269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585800"/>
            <a:ext cx="2698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06480" y="3949920"/>
            <a:ext cx="269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5770-06C9-4EA5-AFD8-052CCF2B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06480" y="1585800"/>
            <a:ext cx="2698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585800"/>
            <a:ext cx="269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3949920"/>
            <a:ext cx="269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49AA-076C-47F8-9C34-BB439EBF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06480" y="1585800"/>
            <a:ext cx="269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585800"/>
            <a:ext cx="269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06480" y="3949920"/>
            <a:ext cx="553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8ED6-978D-4F77-B34C-2B507127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06480" y="1585800"/>
            <a:ext cx="553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62A6-BB8E-417A-B040-E607B69D4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8.wmf"/><Relationship Id="rId5" Type="http://schemas.openxmlformats.org/officeDocument/2006/relationships/package" Target="../embeddings/oleObject1.xlsx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2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7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audio" Target="../media/whoosh.wav"/><Relationship Id="rId11" Type="http://schemas.openxmlformats.org/officeDocument/2006/relationships/audio" Target="../media/suction.wav"/><Relationship Id="rId12" Type="http://schemas.openxmlformats.org/officeDocument/2006/relationships/audio" Target="../media/coin.wav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" name=""/>
            <p:cNvGrpSpPr/>
            <p:nvPr/>
          </p:nvGrpSpPr>
          <p:grpSpPr>
            <a:xfrm>
              <a:off x="1154160" y="4427640"/>
              <a:ext cx="6721560" cy="1268280"/>
              <a:chOff x="1154160" y="4427640"/>
              <a:chExt cx="6721560" cy="1268280"/>
            </a:xfrm>
          </p:grpSpPr>
          <p:pic>
            <p:nvPicPr>
              <p:cNvPr id="4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4160" y="4427640"/>
                <a:ext cx="1425600" cy="12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415200" y="4427640"/>
                <a:ext cx="1460520" cy="126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新細明體"/>
              </a:rPr>
              <a:t>Managing Student Loan Payments</a:t>
            </a:r>
            <a:br>
              <a:rPr sz="3600"/>
            </a:b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新細明體"/>
              </a:rPr>
              <a:t>Optimal timing for paying off your student loa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新細明體"/>
              </a:rPr>
              <a:t>Decision Models</a:t>
            </a:r>
            <a:endParaRPr b="0" lang="en-US" sz="12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新細明體"/>
              </a:rPr>
              <a:t>May 1, 2006</a:t>
            </a:r>
            <a:endParaRPr b="0" lang="en-US" sz="10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新細明體"/>
              </a:rPr>
              <a:t>Alan Li</a:t>
            </a:r>
            <a:endParaRPr b="0" lang="en-US" sz="10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新細明體"/>
              </a:rPr>
              <a:t>Victor Fang</a:t>
            </a:r>
            <a:endParaRPr b="0" lang="en-US" sz="10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新細明體"/>
              </a:rPr>
              <a:t>Shoji Hiraoka</a:t>
            </a:r>
            <a:endParaRPr b="0" lang="en-US" sz="10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新細明體"/>
              </a:rPr>
              <a:t>Hee Soo Yoon</a:t>
            </a:r>
            <a:endParaRPr b="0" lang="en-US" sz="1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" name=""/>
            <p:cNvGrpSpPr/>
            <p:nvPr/>
          </p:nvGrpSpPr>
          <p:grpSpPr>
            <a:xfrm>
              <a:off x="1154160" y="4427640"/>
              <a:ext cx="6721560" cy="1268280"/>
              <a:chOff x="1154160" y="4427640"/>
              <a:chExt cx="6721560" cy="1268280"/>
            </a:xfrm>
          </p:grpSpPr>
          <p:pic>
            <p:nvPicPr>
              <p:cNvPr id="12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4160" y="4427640"/>
                <a:ext cx="1425600" cy="12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415200" y="4427640"/>
                <a:ext cx="1460520" cy="126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新細明體"/>
              </a:rPr>
              <a:t>Findings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1116000" y="1123920"/>
            <a:ext cx="6989760" cy="45705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073320" y="2046240"/>
            <a:ext cx="2995560" cy="1557000"/>
          </a:xfrm>
          <a:prstGeom prst="rect">
            <a:avLst/>
          </a:prstGeom>
          <a:solidFill>
            <a:srgbClr val="ffff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t i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optimal to follow the payment schedule specified by the l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7" name=""/>
            <p:cNvGrpSpPr/>
            <p:nvPr/>
          </p:nvGrpSpPr>
          <p:grpSpPr>
            <a:xfrm>
              <a:off x="1154160" y="4427640"/>
              <a:ext cx="6721560" cy="1268280"/>
              <a:chOff x="1154160" y="4427640"/>
              <a:chExt cx="6721560" cy="1268280"/>
            </a:xfrm>
          </p:grpSpPr>
          <p:pic>
            <p:nvPicPr>
              <p:cNvPr id="12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4160" y="4427640"/>
                <a:ext cx="1425600" cy="12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415200" y="4427640"/>
                <a:ext cx="1460520" cy="126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新細明體"/>
              </a:rPr>
              <a:t>Findings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806120" y="1585800"/>
            <a:ext cx="560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新細明體"/>
              </a:rPr>
              <a:t>Loan should be paid off early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538280" y="2276640"/>
            <a:ext cx="6219720" cy="3495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1038240" y="2008080"/>
          <a:ext cx="7029360" cy="43783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38240" y="2008080"/>
                    <a:ext cx="7029360" cy="43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굴림"/>
              </a:rPr>
              <a:t>No Prepayment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85960" y="1825560"/>
            <a:ext cx="76039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굴림"/>
              </a:rPr>
              <a:t>With Prepayment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15960" y="1825560"/>
            <a:ext cx="783432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0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" name=""/>
            <p:cNvGrpSpPr/>
            <p:nvPr/>
          </p:nvGrpSpPr>
          <p:grpSpPr>
            <a:xfrm>
              <a:off x="1154160" y="4427640"/>
              <a:ext cx="6721560" cy="1268280"/>
              <a:chOff x="1154160" y="4427640"/>
              <a:chExt cx="6721560" cy="1268280"/>
            </a:xfrm>
          </p:grpSpPr>
          <p:pic>
            <p:nvPicPr>
              <p:cNvPr id="14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4160" y="4427640"/>
                <a:ext cx="1425600" cy="12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415200" y="4427640"/>
                <a:ext cx="1460520" cy="126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新細明體"/>
              </a:rPr>
              <a:t>Other consideration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806480" y="1585800"/>
            <a:ext cx="553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新細明體"/>
              </a:rPr>
              <a:t>Investment mileston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新細明體"/>
              </a:rPr>
              <a:t>Currency mismatch / arbitrag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新細明體"/>
              </a:rPr>
              <a:t>Refinancing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新細明體"/>
              </a:rPr>
              <a:t>Additional investment option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新細明體"/>
              </a:rPr>
              <a:t>Real rate vs. nominal rat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新細明體"/>
              </a:rPr>
              <a:t>Inflation expectation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8" name=""/>
            <p:cNvGrpSpPr/>
            <p:nvPr/>
          </p:nvGrpSpPr>
          <p:grpSpPr>
            <a:xfrm>
              <a:off x="1154160" y="4427640"/>
              <a:ext cx="6721560" cy="1268280"/>
              <a:chOff x="1154160" y="4427640"/>
              <a:chExt cx="6721560" cy="1268280"/>
            </a:xfrm>
          </p:grpSpPr>
          <p:pic>
            <p:nvPicPr>
              <p:cNvPr id="1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4160" y="4427640"/>
                <a:ext cx="1425600" cy="12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415200" y="4427640"/>
                <a:ext cx="1460520" cy="126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新細明體"/>
              </a:rPr>
              <a:t>Conclusion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806480" y="1585800"/>
            <a:ext cx="553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新細明體"/>
              </a:rPr>
              <a:t>A balancing act between maximizing asset at hand and minimizing liabil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2728800" y="3429000"/>
            <a:ext cx="3532320" cy="285768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0" y="0"/>
            <a:ext cx="9143280" cy="6857280"/>
            <a:chOff x="0" y="0"/>
            <a:chExt cx="9143280" cy="6857280"/>
          </a:xfrm>
        </p:grpSpPr>
        <p:pic>
          <p:nvPicPr>
            <p:cNvPr id="155" name="" descr=""/>
            <p:cNvPicPr/>
            <p:nvPr/>
          </p:nvPicPr>
          <p:blipFill>
            <a:blip r:embed="rId5"/>
            <a:stretch/>
          </p:blipFill>
          <p:spPr>
            <a:xfrm>
              <a:off x="0" y="5019840"/>
              <a:ext cx="5862960" cy="183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6"/>
            <a:stretch/>
          </p:blipFill>
          <p:spPr>
            <a:xfrm>
              <a:off x="61200" y="1688760"/>
              <a:ext cx="5541480" cy="169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7"/>
            <a:stretch/>
          </p:blipFill>
          <p:spPr>
            <a:xfrm>
              <a:off x="61200" y="0"/>
              <a:ext cx="5541480" cy="167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8"/>
            <a:stretch/>
          </p:blipFill>
          <p:spPr>
            <a:xfrm>
              <a:off x="61200" y="3380040"/>
              <a:ext cx="55414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9"/>
            <a:stretch/>
          </p:blipFill>
          <p:spPr>
            <a:xfrm>
              <a:off x="5602680" y="23760"/>
              <a:ext cx="3540600" cy="6712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2" name=""/>
            <p:cNvGrpSpPr/>
            <p:nvPr/>
          </p:nvGrpSpPr>
          <p:grpSpPr>
            <a:xfrm>
              <a:off x="1154160" y="4427640"/>
              <a:ext cx="6721560" cy="1268280"/>
              <a:chOff x="1154160" y="4427640"/>
              <a:chExt cx="6721560" cy="1268280"/>
            </a:xfrm>
          </p:grpSpPr>
          <p:pic>
            <p:nvPicPr>
              <p:cNvPr id="16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4160" y="4427640"/>
                <a:ext cx="1425600" cy="12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415200" y="4427640"/>
                <a:ext cx="1460520" cy="126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新細明體"/>
              </a:rPr>
              <a:t>Sensitivity Analysis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2238480" y="1432080"/>
            <a:ext cx="4638600" cy="26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"/>
            <p:cNvGrpSpPr/>
            <p:nvPr/>
          </p:nvGrpSpPr>
          <p:grpSpPr>
            <a:xfrm>
              <a:off x="1154160" y="4427640"/>
              <a:ext cx="6721560" cy="1268280"/>
              <a:chOff x="1154160" y="4427640"/>
              <a:chExt cx="6721560" cy="1268280"/>
            </a:xfrm>
          </p:grpSpPr>
          <p:pic>
            <p:nvPicPr>
              <p:cNvPr id="5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4160" y="4427640"/>
                <a:ext cx="1425600" cy="12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415200" y="4427640"/>
                <a:ext cx="1460520" cy="126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新細明體"/>
              </a:rPr>
              <a:t>Our Mission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06480" y="1585800"/>
            <a:ext cx="553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新細明體"/>
              </a:rPr>
              <a:t>To develop a tool to figure out the Best Student Loan Payment schedule given certain condition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" name=""/>
            <p:cNvGrpSpPr/>
            <p:nvPr/>
          </p:nvGrpSpPr>
          <p:grpSpPr>
            <a:xfrm>
              <a:off x="1154160" y="4427640"/>
              <a:ext cx="6721560" cy="1268280"/>
              <a:chOff x="1154160" y="4427640"/>
              <a:chExt cx="6721560" cy="1268280"/>
            </a:xfrm>
          </p:grpSpPr>
          <p:pic>
            <p:nvPicPr>
              <p:cNvPr id="5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4160" y="4427640"/>
                <a:ext cx="1425600" cy="12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415200" y="4427640"/>
                <a:ext cx="1460520" cy="126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1880" y="32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新細明體"/>
              </a:rPr>
              <a:t>Formulation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23760" y="1547640"/>
            <a:ext cx="72964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Arial"/>
                <a:ea typeface="新細明體"/>
              </a:rPr>
              <a:t>Decision Variable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新細明體"/>
              </a:rPr>
              <a:t>-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How much of net income should be used to prepay student loans, or to invest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Arial"/>
                <a:ea typeface="굴림"/>
              </a:rPr>
              <a:t>Objective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- Maximize our asset value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Arial"/>
                <a:ea typeface="굴림"/>
              </a:rPr>
              <a:t>Constraint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- Prepayment amount  &lt;=remaining loan balance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&lt;=cash available                                        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&gt;=0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" name=""/>
            <p:cNvGrpSpPr/>
            <p:nvPr/>
          </p:nvGrpSpPr>
          <p:grpSpPr>
            <a:xfrm>
              <a:off x="1154160" y="4427640"/>
              <a:ext cx="6721560" cy="1268280"/>
              <a:chOff x="1154160" y="4427640"/>
              <a:chExt cx="6721560" cy="1268280"/>
            </a:xfrm>
          </p:grpSpPr>
          <p:pic>
            <p:nvPicPr>
              <p:cNvPr id="6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4160" y="4427640"/>
                <a:ext cx="1425600" cy="12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415200" y="4427640"/>
                <a:ext cx="1460520" cy="126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新細明體"/>
              </a:rPr>
              <a:t>Terms of the loan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85600" y="1355760"/>
            <a:ext cx="741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新細明體"/>
              </a:rPr>
              <a:t>Loan is repaid over twenty years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新細明體"/>
              </a:rPr>
              <a:t>The rate floats together with LIBOR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新細明體"/>
              </a:rPr>
              <a:t>Monthly payment amount is fixed once the loan enters repayment period (nine months after graduation)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新細明體"/>
              </a:rPr>
              <a:t>No prepayment penalty but prepayment will only shorten repayment period instead of reducing monthly payments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新細明體"/>
              </a:rPr>
              <a:t>Interest payment is tax-deductible under certain circumstance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0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" name=""/>
            <p:cNvGrpSpPr/>
            <p:nvPr/>
          </p:nvGrpSpPr>
          <p:grpSpPr>
            <a:xfrm>
              <a:off x="1154160" y="4427640"/>
              <a:ext cx="6721560" cy="1268280"/>
              <a:chOff x="1154160" y="4427640"/>
              <a:chExt cx="6721560" cy="1268280"/>
            </a:xfrm>
          </p:grpSpPr>
          <p:pic>
            <p:nvPicPr>
              <p:cNvPr id="7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4160" y="4427640"/>
                <a:ext cx="1425600" cy="12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415200" y="4427640"/>
                <a:ext cx="1460520" cy="126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굴림"/>
              </a:rPr>
              <a:t>Assumptions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7840" y="1469520"/>
            <a:ext cx="65293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新細明體"/>
              </a:rPr>
              <a:t>Income can be spent, invested, or used to pay off the loa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굴림"/>
              </a:rPr>
              <a:t>Deposit $5,000 in savings account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新細明體"/>
              </a:rPr>
              <a:t>Investment option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굴림"/>
              </a:rPr>
              <a:t>i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新細明體"/>
              </a:rPr>
              <a:t> S&amp;P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굴림"/>
              </a:rPr>
              <a:t>index fund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新細明體"/>
              </a:rPr>
              <a:t>Decisions are made yearl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新細明體"/>
              </a:rPr>
              <a:t>No new financing availab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新細明體"/>
              </a:rPr>
              <a:t>Cannot miss payments!!!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415200" y="2637000"/>
            <a:ext cx="2438280" cy="3584520"/>
            <a:chOff x="6415200" y="2637000"/>
            <a:chExt cx="2438280" cy="3584520"/>
          </a:xfrm>
        </p:grpSpPr>
        <p:pic>
          <p:nvPicPr>
            <p:cNvPr id="77" name="" descr=""/>
            <p:cNvPicPr/>
            <p:nvPr/>
          </p:nvPicPr>
          <p:blipFill>
            <a:blip r:embed="rId4"/>
            <a:stretch/>
          </p:blipFill>
          <p:spPr>
            <a:xfrm>
              <a:off x="6415200" y="5261040"/>
              <a:ext cx="2438280" cy="96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5"/>
            <a:stretch/>
          </p:blipFill>
          <p:spPr>
            <a:xfrm>
              <a:off x="6440400" y="3519360"/>
              <a:ext cx="2305080" cy="88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6"/>
            <a:stretch/>
          </p:blipFill>
          <p:spPr>
            <a:xfrm>
              <a:off x="6440400" y="2637000"/>
              <a:ext cx="2305080" cy="87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7"/>
            <a:stretch/>
          </p:blipFill>
          <p:spPr>
            <a:xfrm>
              <a:off x="6440400" y="4403880"/>
              <a:ext cx="2305080" cy="871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1" name="" descr=""/>
          <p:cNvPicPr/>
          <p:nvPr/>
        </p:nvPicPr>
        <p:blipFill>
          <a:blip r:embed="rId8"/>
          <a:stretch/>
        </p:blipFill>
        <p:spPr>
          <a:xfrm>
            <a:off x="6338880" y="2506680"/>
            <a:ext cx="2805120" cy="3879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9"/>
          <a:stretch/>
        </p:blipFill>
        <p:spPr>
          <a:xfrm>
            <a:off x="6377040" y="2546280"/>
            <a:ext cx="24699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600" spc="-1" strike="noStrike">
              <a:solidFill>
                <a:srgbClr val="0000ff"/>
              </a:solidFill>
              <a:latin typeface="Arial"/>
              <a:ea typeface="新細明體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806480" y="1585800"/>
            <a:ext cx="553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400" spc="-1" strike="noStrike">
              <a:solidFill>
                <a:srgbClr val="0000ff"/>
              </a:solidFill>
              <a:latin typeface="Arial"/>
              <a:ea typeface="新細明體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" name=""/>
            <p:cNvGrpSpPr/>
            <p:nvPr/>
          </p:nvGrpSpPr>
          <p:grpSpPr>
            <a:xfrm>
              <a:off x="1154160" y="4427640"/>
              <a:ext cx="6721560" cy="1268280"/>
              <a:chOff x="1154160" y="4427640"/>
              <a:chExt cx="6721560" cy="1268280"/>
            </a:xfrm>
          </p:grpSpPr>
          <p:pic>
            <p:nvPicPr>
              <p:cNvPr id="8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4160" y="4427640"/>
                <a:ext cx="1425600" cy="12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415200" y="4427640"/>
                <a:ext cx="1460520" cy="126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0" name=""/>
          <p:cNvSpPr/>
          <p:nvPr/>
        </p:nvSpPr>
        <p:spPr>
          <a:xfrm>
            <a:off x="1960560" y="1739880"/>
            <a:ext cx="55306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42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Our Model - Inpu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230480" y="1585800"/>
            <a:ext cx="6453000" cy="998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230480" y="2814480"/>
            <a:ext cx="6453000" cy="800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230480" y="3851280"/>
            <a:ext cx="6491160" cy="844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2612880" y="4849920"/>
            <a:ext cx="3918240" cy="230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2612880" y="5327640"/>
            <a:ext cx="3918240" cy="2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" name=""/>
            <p:cNvGrpSpPr/>
            <p:nvPr/>
          </p:nvGrpSpPr>
          <p:grpSpPr>
            <a:xfrm>
              <a:off x="1154160" y="4427640"/>
              <a:ext cx="6721560" cy="1268280"/>
              <a:chOff x="1154160" y="4427640"/>
              <a:chExt cx="6721560" cy="1268280"/>
            </a:xfrm>
          </p:grpSpPr>
          <p:pic>
            <p:nvPicPr>
              <p:cNvPr id="10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4160" y="4427640"/>
                <a:ext cx="1425600" cy="12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415200" y="4427640"/>
                <a:ext cx="1460520" cy="126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新細明體"/>
              </a:rPr>
              <a:t>Our model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1116000" y="1047600"/>
            <a:ext cx="687384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5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" name=""/>
            <p:cNvGrpSpPr/>
            <p:nvPr/>
          </p:nvGrpSpPr>
          <p:grpSpPr>
            <a:xfrm>
              <a:off x="1154160" y="4427640"/>
              <a:ext cx="6721560" cy="1268280"/>
              <a:chOff x="1154160" y="4427640"/>
              <a:chExt cx="6721560" cy="1268280"/>
            </a:xfrm>
          </p:grpSpPr>
          <p:pic>
            <p:nvPicPr>
              <p:cNvPr id="10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4160" y="4427640"/>
                <a:ext cx="1425600" cy="12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415200" y="4427640"/>
                <a:ext cx="1460520" cy="126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新細明體"/>
              </a:rPr>
              <a:t>Tools used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806480" y="1585800"/>
            <a:ext cx="553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新細明體"/>
              </a:rPr>
              <a:t>Crystal Ball – forecast S&amp;P returns over next 20 years based on historical data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新細明體"/>
              </a:rPr>
              <a:t>Solver – search for the optimal combination of prepayments to maximize asset held at the end of 20 year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2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" name=""/>
            <p:cNvGrpSpPr/>
            <p:nvPr/>
          </p:nvGrpSpPr>
          <p:grpSpPr>
            <a:xfrm>
              <a:off x="1154160" y="4427640"/>
              <a:ext cx="6721560" cy="1268280"/>
              <a:chOff x="1154160" y="4427640"/>
              <a:chExt cx="6721560" cy="1268280"/>
            </a:xfrm>
          </p:grpSpPr>
          <p:pic>
            <p:nvPicPr>
              <p:cNvPr id="1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4160" y="4427640"/>
                <a:ext cx="1425600" cy="12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415200" y="4427640"/>
                <a:ext cx="1460520" cy="126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652760" y="971640"/>
            <a:ext cx="553068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19:51:32Z</dcterms:created>
  <dc:creator>acli</dc:creator>
  <dc:description/>
  <dc:language>en-US</dc:language>
  <cp:lastModifiedBy>acli</cp:lastModifiedBy>
  <dcterms:modified xsi:type="dcterms:W3CDTF">2006-05-01T18:24:09Z</dcterms:modified>
  <cp:revision>49</cp:revision>
  <dc:subject/>
  <dc:title>Student Loan</dc:title>
</cp:coreProperties>
</file>