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oin.wav" ContentType="audio/x-wav"/>
  <Override PartName="/ppt/media/whoosh.wav" ContentType="audio/x-wav"/>
  <Override PartName="/ppt/media/image13.wmf" ContentType="image/x-wmf"/>
  <Override PartName="/ppt/media/image9.jpeg" ContentType="image/jpeg"/>
  <Override PartName="/ppt/media/image23.wmf" ContentType="image/x-wmf"/>
  <Override PartName="/ppt/media/suction.wav" ContentType="audio/x-wav"/>
  <Override PartName="/ppt/media/image10.wmf" ContentType="image/x-wmf"/>
  <Override PartName="/ppt/media/image4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12.wmf" ContentType="image/x-wmf"/>
  <Override PartName="/ppt/media/image1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67A3-7B75-4864-B23B-B81257FB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55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06480" y="3949920"/>
            <a:ext cx="55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686-7CE8-41D4-9782-2637CCBF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26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585800"/>
            <a:ext cx="26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06480" y="3949920"/>
            <a:ext cx="26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949920"/>
            <a:ext cx="26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20B-DFB5-4ACD-80C9-1A96FCEC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178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6680" y="1585800"/>
            <a:ext cx="178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7240" y="1585800"/>
            <a:ext cx="178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06480" y="3949920"/>
            <a:ext cx="178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6680" y="3949920"/>
            <a:ext cx="178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7240" y="3949920"/>
            <a:ext cx="178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77A-654F-4F8F-B9DF-655DA5B5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06480" y="1585800"/>
            <a:ext cx="5531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CEE-CE1D-4AB1-91EB-0DD81339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55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620-B0C4-4710-AC20-3CB9A5D8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26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585800"/>
            <a:ext cx="26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6A86-EA01-488C-82A6-94ED2ADC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E3A0-15DC-4BE8-9700-A957A457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C8E-CE92-47C4-BD67-CA22E24B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26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585800"/>
            <a:ext cx="26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06480" y="3949920"/>
            <a:ext cx="26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86BC-FBF4-41A9-B054-C4C0ED1A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26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585800"/>
            <a:ext cx="26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949920"/>
            <a:ext cx="26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1AA9-446C-4808-81FC-EF42ABC8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26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585800"/>
            <a:ext cx="26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06480" y="3949920"/>
            <a:ext cx="55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352F-B606-4754-8717-2A6541A0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06480" y="1585800"/>
            <a:ext cx="55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2306-6EC2-4D8E-8E57-C9BC73D7D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8.wmf"/><Relationship Id="rId5" Type="http://schemas.openxmlformats.org/officeDocument/2006/relationships/package" Target="../embeddings/oleObject1.xlsx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2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audio" Target="../media/whoosh.wav"/><Relationship Id="rId11" Type="http://schemas.openxmlformats.org/officeDocument/2006/relationships/audio" Target="../media/suction.wav"/><Relationship Id="rId12" Type="http://schemas.openxmlformats.org/officeDocument/2006/relationships/audio" Target="../media/coin.wav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新細明體"/>
              </a:rPr>
              <a:t>Managing Student Loan Payments</a:t>
            </a:r>
            <a:br>
              <a:rPr sz="3600"/>
            </a:b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新細明體"/>
              </a:rPr>
              <a:t>Optimal timing for paying off your student loa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新細明體"/>
              </a:rPr>
              <a:t>Decision Models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新細明體"/>
              </a:rPr>
              <a:t>May 1, 2006</a:t>
            </a:r>
            <a:endParaRPr b="0" lang="en-US" sz="1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新細明體"/>
              </a:rPr>
              <a:t>Alan Li</a:t>
            </a:r>
            <a:endParaRPr b="0" lang="en-US" sz="1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新細明體"/>
              </a:rPr>
              <a:t>Victor Fang</a:t>
            </a:r>
            <a:endParaRPr b="0" lang="en-US" sz="1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新細明體"/>
              </a:rPr>
              <a:t>Shoji Hiraoka</a:t>
            </a:r>
            <a:endParaRPr b="0" lang="en-US" sz="1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新細明體"/>
              </a:rPr>
              <a:t>Hee Soo Yoon</a:t>
            </a:r>
            <a:endParaRPr b="0" lang="en-US" sz="1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1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新細明體"/>
              </a:rPr>
              <a:t>Finding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116000" y="1123920"/>
            <a:ext cx="6989760" cy="4570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073320" y="2046240"/>
            <a:ext cx="2995560" cy="1557000"/>
          </a:xfrm>
          <a:prstGeom prst="rect">
            <a:avLst/>
          </a:prstGeom>
          <a:solidFill>
            <a:srgbClr val="ffff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ptimal to follow the payment schedule specified by the l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1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新細明體"/>
              </a:rPr>
              <a:t>Finding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06120" y="1585800"/>
            <a:ext cx="560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新細明體"/>
              </a:rPr>
              <a:t>Loan should be paid off early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538280" y="2276640"/>
            <a:ext cx="6219720" cy="34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1038240" y="2008080"/>
          <a:ext cx="7029360" cy="43783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38240" y="2008080"/>
                    <a:ext cx="702936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굴림"/>
              </a:rPr>
              <a:t>No Prepayment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85960" y="1825560"/>
            <a:ext cx="76039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굴림"/>
              </a:rPr>
              <a:t>With Prepayment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5960" y="1825560"/>
            <a:ext cx="78343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14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新細明體"/>
              </a:rPr>
              <a:t>Other consideration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55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Investment mileston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Currency mismatch / arbitrag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Refinancing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Additional investment option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Real rate vs. nominal rat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Inflation expectation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1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新細明體"/>
              </a:rPr>
              <a:t>Conclusion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55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A balancing act between maximizing asset at hand and minimizing liabil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728800" y="3429000"/>
            <a:ext cx="3532320" cy="285768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0" y="0"/>
            <a:ext cx="9143280" cy="6857280"/>
            <a:chOff x="0" y="0"/>
            <a:chExt cx="9143280" cy="6857280"/>
          </a:xfrm>
        </p:grpSpPr>
        <p:pic>
          <p:nvPicPr>
            <p:cNvPr id="155" name="" descr=""/>
            <p:cNvPicPr/>
            <p:nvPr/>
          </p:nvPicPr>
          <p:blipFill>
            <a:blip r:embed="rId5"/>
            <a:stretch/>
          </p:blipFill>
          <p:spPr>
            <a:xfrm>
              <a:off x="0" y="5019840"/>
              <a:ext cx="5862960" cy="183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61200" y="1688760"/>
              <a:ext cx="5541480" cy="169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7"/>
            <a:stretch/>
          </p:blipFill>
          <p:spPr>
            <a:xfrm>
              <a:off x="61200" y="0"/>
              <a:ext cx="5541480" cy="167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8"/>
            <a:stretch/>
          </p:blipFill>
          <p:spPr>
            <a:xfrm>
              <a:off x="61200" y="3380040"/>
              <a:ext cx="55414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9"/>
            <a:stretch/>
          </p:blipFill>
          <p:spPr>
            <a:xfrm>
              <a:off x="5602680" y="23760"/>
              <a:ext cx="3540600" cy="6712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1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新細明體"/>
              </a:rPr>
              <a:t>Sensitivity Analysi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2238480" y="1432080"/>
            <a:ext cx="463860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新細明體"/>
              </a:rPr>
              <a:t>Our Mission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55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新細明體"/>
              </a:rPr>
              <a:t>To develop a tool to figure out the Best Student Loan Payment schedule given certain condition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5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1880" y="32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新細明體"/>
              </a:rPr>
              <a:t>Formulation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23760" y="1547640"/>
            <a:ext cx="72964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  <a:ea typeface="新細明體"/>
              </a:rPr>
              <a:t>Decision Variabl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新細明體"/>
              </a:rPr>
              <a:t>-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How much of net income should be used to prepay student loans, or to invest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  <a:ea typeface="굴림"/>
              </a:rPr>
              <a:t>Objectiv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- Maximize our asset value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  <a:ea typeface="굴림"/>
              </a:rPr>
              <a:t>Constraint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- Prepayment amount  &lt;=remaining loan balanc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&lt;=cash available                              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&gt;=0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新細明體"/>
              </a:rPr>
              <a:t>Terms of the loan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85600" y="1355760"/>
            <a:ext cx="741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新細明體"/>
              </a:rPr>
              <a:t>Loan is repaid over twenty year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新細明體"/>
              </a:rPr>
              <a:t>The rate floats together with LIBOR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新細明體"/>
              </a:rPr>
              <a:t>Monthly payment amount is fixed once the loan enters repayment period (nine months after graduation)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新細明體"/>
              </a:rPr>
              <a:t>No prepayment penalty but prepayment will only shorten repayment period instead of reducing monthly payment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新細明體"/>
              </a:rPr>
              <a:t>Interest payment is tax-deductible under certain circumstance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굴림"/>
              </a:rPr>
              <a:t>Assumption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7840" y="1469520"/>
            <a:ext cx="65293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Income can be spent, invested, or used to pay off the loa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굴림"/>
              </a:rPr>
              <a:t>Deposit $5,000 in savings account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Investment optio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굴림"/>
              </a:rPr>
              <a:t>i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 S&amp;P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굴림"/>
              </a:rPr>
              <a:t>index fun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Decisions are made yearl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No new financing availab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Cannot miss payments!!!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415200" y="2637000"/>
            <a:ext cx="2438280" cy="3584520"/>
            <a:chOff x="6415200" y="2637000"/>
            <a:chExt cx="2438280" cy="3584520"/>
          </a:xfrm>
        </p:grpSpPr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6415200" y="5261040"/>
              <a:ext cx="2438280" cy="9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5"/>
            <a:stretch/>
          </p:blipFill>
          <p:spPr>
            <a:xfrm>
              <a:off x="6440400" y="3519360"/>
              <a:ext cx="2305080" cy="88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6"/>
            <a:stretch/>
          </p:blipFill>
          <p:spPr>
            <a:xfrm>
              <a:off x="6440400" y="2637000"/>
              <a:ext cx="2305080" cy="87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7"/>
            <a:stretch/>
          </p:blipFill>
          <p:spPr>
            <a:xfrm>
              <a:off x="6440400" y="4403880"/>
              <a:ext cx="2305080" cy="87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6338880" y="2506680"/>
            <a:ext cx="2805120" cy="3879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6377040" y="2546280"/>
            <a:ext cx="2469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600" spc="-1" strike="noStrike">
              <a:solidFill>
                <a:srgbClr val="0000ff"/>
              </a:solidFill>
              <a:latin typeface="Arial"/>
              <a:ea typeface="新細明體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55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ff"/>
              </a:solidFill>
              <a:latin typeface="Arial"/>
              <a:ea typeface="新細明體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8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" name=""/>
          <p:cNvSpPr/>
          <p:nvPr/>
        </p:nvSpPr>
        <p:spPr>
          <a:xfrm>
            <a:off x="1960560" y="1739880"/>
            <a:ext cx="5530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42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Our Model - Inp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230480" y="1585800"/>
            <a:ext cx="6453000" cy="998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230480" y="2814480"/>
            <a:ext cx="6453000" cy="800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230480" y="3851280"/>
            <a:ext cx="6491160" cy="844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612880" y="4849920"/>
            <a:ext cx="3918240" cy="230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2612880" y="5327640"/>
            <a:ext cx="391824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1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新細明體"/>
              </a:rPr>
              <a:t>Our model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116000" y="1047600"/>
            <a:ext cx="68738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1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新細明體"/>
              </a:rPr>
              <a:t>Tools used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55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Crystal Ball – forecast S&amp;P returns over next 20 years based on historical dat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Solver – search for the optimal combination of prepayments to maximize asset held at the end of 20 year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652760" y="971640"/>
            <a:ext cx="55306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19:51:32Z</dcterms:created>
  <dc:creator>acli</dc:creator>
  <dc:description/>
  <dc:language>en-US</dc:language>
  <cp:lastModifiedBy>acli</cp:lastModifiedBy>
  <dcterms:modified xsi:type="dcterms:W3CDTF">2006-05-01T18:24:09Z</dcterms:modified>
  <cp:revision>49</cp:revision>
  <dc:subject/>
  <dc:title>Student Loan</dc:title>
</cp:coreProperties>
</file>