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6.gif" ContentType="image/gif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429-9E69-4C31-BAA8-77414586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C97-FC28-4544-878C-5E327C2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DBD-EB88-4A9A-ADB0-5244DD2D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63B-375F-4F33-ABAA-888A982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CA2-D565-4D78-A7CA-67BF53B2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911A-8DCA-447B-B96E-D1A047D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39EB-3FE2-4709-835F-444E73DA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E0A-1FF3-4AB3-BB07-1D13875F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054-631B-499C-95E8-D15192C7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7607-4388-4924-BC5B-F642DC5A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80D-72B3-47CF-88C7-7FFD1E5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F5A-713E-467A-A8CC-C6A1DB04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5FB-FBAC-4628-AED4-6B04B9C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6686-C8F3-49FE-BD88-684B3151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277-2BC7-4A9F-82C9-F1D8F92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0586-9BE5-4581-A038-776CAA83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40FA-D796-4032-A541-57CC9A56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39E-29B1-44BC-B1C6-34B5DCB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FFF-8CBD-44EC-9533-8F795247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005-5A3B-426A-84CE-FB980FFF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68E-CA30-4A4C-9793-798CA0D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DFF-DF3C-4206-8BC2-55C4BD5F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A36-F93A-43E0-9032-7A14865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BBA-3E48-456F-9FCB-08559B7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E44C-BC00-442D-B783-3B3A392F2547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ebd7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285A-85B6-46DB-A682-A2DE7283A0FE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newsimg.bbc.co.uk/media/images/41182000/jpg/_41182578_sharesdown203.jpg&amp;imgrefurl=http://news.bbc.co.uk/1/hi/programmes/working_lunch/&amp;h=152&amp;w=203&amp;sz=17&amp;tbnid=TkV3xPk9ZtWlaM:&amp;tbnh=74&amp;tbnw=99&amp;hl=en&amp;start=8&amp;prev=/images%3Fq%3Dgraph%2Bcartoon%26svnum%3D10%26hl%3Den%26lr%3D%26safe%3Doff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Predicting Olympic Performance for Beijing 2008: 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A creative tool for Future Policy Decisions</a:t>
            </a:r>
            <a:endParaRPr b="0" lang="en-US" sz="2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62120" y="4495680"/>
            <a:ext cx="6780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Ignacio Alegria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Diego Castillo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Maria C. Helo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Juan Carlos Mealla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333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China, Germany, Russia, and the USA: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Century Gothic"/>
              </a:rPr>
              <a:t>Best Distribution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1561" t="8573" r="7812" b="2916"/>
          <a:stretch/>
        </p:blipFill>
        <p:spPr>
          <a:xfrm>
            <a:off x="685800" y="1819440"/>
            <a:ext cx="3581280" cy="1914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1452" t="7947" r="5799" b="4631"/>
          <a:stretch/>
        </p:blipFill>
        <p:spPr>
          <a:xfrm>
            <a:off x="4800600" y="1828800"/>
            <a:ext cx="3657600" cy="1886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1452" t="7947" r="7244" b="4631"/>
          <a:stretch/>
        </p:blipFill>
        <p:spPr>
          <a:xfrm>
            <a:off x="685800" y="4191120"/>
            <a:ext cx="3581280" cy="187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0" t="7947" r="4348" b="4631"/>
          <a:stretch/>
        </p:blipFill>
        <p:spPr>
          <a:xfrm>
            <a:off x="4800600" y="4191120"/>
            <a:ext cx="3657600" cy="182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13160" y="15238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38862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523880"/>
            <a:ext cx="12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8620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Century Gothic"/>
              </a:rPr>
              <a:t>Simulation Model to Forecast Olympic Performance 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3520" y="1873080"/>
            <a:ext cx="8153280" cy="1632240"/>
          </a:xfrm>
          <a:prstGeom prst="rect">
            <a:avLst/>
          </a:prstGeom>
          <a:ln w="0">
            <a:noFill/>
          </a:ln>
        </p:spPr>
      </p:pic>
      <p:cxnSp>
        <p:nvCxnSpPr>
          <p:cNvPr id="204" name=""/>
          <p:cNvCxnSpPr/>
          <p:nvPr/>
        </p:nvCxnSpPr>
        <p:spPr>
          <a:xfrm flipH="1" flipV="1" rot="5400000">
            <a:off x="4678200" y="1036080"/>
            <a:ext cx="816840" cy="4077360"/>
          </a:xfrm>
          <a:prstGeom prst="curvedConnector5">
            <a:avLst>
              <a:gd name="adj1" fmla="val -62433"/>
              <a:gd name="adj2" fmla="val 55973"/>
              <a:gd name="adj3" fmla="val -62433"/>
            </a:avLst>
          </a:prstGeom>
          <a:ln w="38160">
            <a:solidFill>
              <a:srgbClr val="ff0000"/>
            </a:solidFill>
            <a:miter/>
            <a:headEnd len="med" type="triangle" w="lg"/>
            <a:tailEnd len="med" type="oval" w="lg"/>
          </a:ln>
        </p:spPr>
      </p:cxn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40381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Assumptions</a:t>
            </a: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Population growth follows a uniform distribution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Population as of 2008 is determined using this random generated growth based on 2004 figures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lvl="1" marL="69084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Forecast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% Medals 2008 using historical regression model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  <a:p>
            <a:pPr marL="318960" indent="-318960">
              <a:lnSpc>
                <a:spcPct val="85000"/>
              </a:lnSpc>
              <a:spcBef>
                <a:spcPts val="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Century Gothic"/>
              </a:rPr>
              <a:t>Iterations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Century Gothic"/>
              </a:rPr>
              <a:t>1000 iterations used</a:t>
            </a:r>
            <a:endParaRPr b="0" lang="en-US" sz="16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Simulation Result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581280" cy="223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3581280" cy="2224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504960" cy="2176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572000" y="3962520"/>
            <a:ext cx="3581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Simulation Statistic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860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80880" y="1905120"/>
            <a:ext cx="304920" cy="3045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Results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480" y="3122640"/>
            <a:ext cx="1295640" cy="763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09480" y="2079720"/>
            <a:ext cx="1295640" cy="739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09480" y="4135320"/>
            <a:ext cx="1295640" cy="8175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09480" y="5257800"/>
            <a:ext cx="1295640" cy="76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2133720" y="1523880"/>
          <a:ext cx="6400800" cy="45716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45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Sydney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10.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9.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Athens 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10.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9.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6.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5.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Beijing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(predic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8.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7.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7.5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4.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Host Country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707760" y="6019920"/>
            <a:ext cx="504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Source: http://www.mapsofworld.com/images/world-olympic-hostnations-map.gif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22" name="" descr="World Map Of Olympic host cities"/>
          <p:cNvPicPr/>
          <p:nvPr/>
        </p:nvPicPr>
        <p:blipFill>
          <a:blip r:embed="rId1"/>
          <a:srcRect l="1919" t="0" r="1915" b="9479"/>
          <a:stretch/>
        </p:blipFill>
        <p:spPr>
          <a:xfrm>
            <a:off x="685800" y="1371600"/>
            <a:ext cx="7848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Agenda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4343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troduction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Formulation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The Model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Conclusions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Q &amp; A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Introduc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lympic Performance – Not Random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Olympic performance is not random – certain controllable variables directly influence performance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Purpose of Predicting Performance – Better Decision-Making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Accurately predicting performance is not an end in itself – the genuine objective is to discover which controllable variables have a meaningful impact on performance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lympic Performance is not a zero-sum gam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Greater dispersion of medals across countries would further the Olympic movement: contribute to building a peaceful and better world with a spirit of friendship, solidarity, and fair play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Formula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Our Model Follows Similar Studi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In formulating our model, we reviewed a number of studies that attempt to predict performance based, fundamentally, on economic data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Bias in our Model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In creating our model we had a bias given the studies that we have reviewed, and given our intuition behind the variables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entury Gothic"/>
              </a:rPr>
              <a:t>Constraint – Model with Statistical Significan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Century Gothic"/>
              </a:rPr>
              <a:t>Our constraint, however, was creating a model with statistical significance, even if that would imply eliminating variables that intuitively seemed crucial</a:t>
            </a: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952880" y="1957320"/>
            <a:ext cx="1371600" cy="55728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ANALYSI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933640"/>
            <a:ext cx="1371600" cy="49536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VARIABL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5676840"/>
            <a:ext cx="1486080" cy="49536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DAL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886200"/>
            <a:ext cx="1981080" cy="1238400"/>
          </a:xfrm>
          <a:prstGeom prst="flowChartDecision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SIMULATION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1447920"/>
            <a:ext cx="0" cy="5331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2514600"/>
            <a:ext cx="0" cy="3999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5105520"/>
            <a:ext cx="0" cy="6094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57200"/>
            <a:ext cx="2057400" cy="990720"/>
          </a:xfrm>
          <a:prstGeom prst="flowChartDecision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209680"/>
            <a:ext cx="838440" cy="180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1924200"/>
            <a:ext cx="1143000" cy="742680"/>
          </a:xfrm>
          <a:prstGeom prst="flowChartProcess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D VARIABLES      (F and p values)</a:t>
            </a: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324120" y="1980720"/>
            <a:ext cx="838440" cy="180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81320"/>
            <a:ext cx="914400" cy="24768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3205080"/>
            <a:ext cx="1295640" cy="681120"/>
          </a:xfrm>
          <a:prstGeom prst="flowChartTerminator">
            <a:avLst/>
          </a:prstGeom>
          <a:solidFill>
            <a:srgbClr val="ffffff"/>
          </a:solidFill>
          <a:ln w="44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 GROWTH FORECAST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24120" y="3943440"/>
            <a:ext cx="1143000" cy="323640"/>
          </a:xfrm>
          <a:prstGeom prst="line">
            <a:avLst/>
          </a:prstGeom>
          <a:ln w="442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8080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The Model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Variables Databas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itial Variables vs Regression Variables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14400" y="2133720"/>
          <a:ext cx="7315200" cy="373356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7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Host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7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Mome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North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Char char="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atin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Host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7 Memb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Momen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 2" charset="2"/>
                        <a:buChar char="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og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 2" charset="2"/>
                        <a:buChar char="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Cl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GDP per Cap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North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Wingdings" charset="2"/>
                        <a:buChar char="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entury Gothic"/>
                        </a:rPr>
                        <a:t>Latin America (y/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What the Regression Told Us:</a:t>
            </a:r>
            <a:br>
              <a:rPr sz="3600"/>
            </a:b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24600" cy="2975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1295280"/>
            <a:ext cx="2667240" cy="1211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667240" cy="1600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0" y="4952880"/>
            <a:ext cx="990720" cy="1371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3276720"/>
            <a:ext cx="1143000" cy="10666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1143000"/>
            <a:ext cx="2971800" cy="3124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904760"/>
            <a:ext cx="2438280" cy="1523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29200" y="3276720"/>
            <a:ext cx="228600" cy="16761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Forecast Model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1219320"/>
                <a:ext cx="78487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ost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LogPop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*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al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4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host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LogPop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1</m:t>
                        </m:r>
                        <m:r>
                          <m:rPr>
                            <m:lit/>
                            <m:nor/>
                          </m:rPr>
                          <m:t xml:space="preserve">*%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al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rPr>
                            <m:lit/>
                            <m:nor/>
                          </m:rPr>
                          <m:t xml:space="preserve">ate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</m:t>
                        </m:r>
                        <m:r>
                          <m:t xml:space="preserve">∗</m:t>
                        </m:r>
                        <m:r>
                          <m:t xml:space="preserve">G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In order to predict Olympic performance we need to determine the corresponding variables as of 2008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2819160" y="2819160"/>
            <a:ext cx="3352680" cy="3045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58128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MOMENTU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26708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G7 &amp; CLIMA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87692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562720"/>
            <a:ext cx="2362320" cy="457200"/>
          </a:xfrm>
          <a:prstGeom prst="rect">
            <a:avLst/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3581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% Medals Athens 200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4159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nchanged – same classification used in regress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9528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5638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555"/>
                </a:solidFill>
                <a:latin typeface="Century Gothic"/>
              </a:rPr>
              <a:t>Uncerta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Population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Predicting 2008 Population for China, Russia, Germany, and the USA</a:t>
            </a:r>
            <a:endParaRPr b="0" lang="en-US" sz="1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1104840" cy="1062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895480" y="25909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90720" y="2286000"/>
            <a:ext cx="1218960" cy="880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943600" y="2590920"/>
            <a:ext cx="457200" cy="228600"/>
          </a:xfrm>
          <a:custGeom>
            <a:avLst/>
            <a:gdLst>
              <a:gd name="textAreaLeft" fmla="*/ 0 w 457200"/>
              <a:gd name="textAreaRight" fmla="*/ 457560 w 457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2286000"/>
            <a:ext cx="943200" cy="704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480" y="365760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We collected historical information (1960 to 2004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25"/>
              </a:spcBef>
              <a:buClr>
                <a:srgbClr val="80808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entury Gothic"/>
              </a:rPr>
              <a:t>We determined a probabilistic distribution that resembled the historical population growth for each country using Crystal Ball (fit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819520" y="5105520"/>
            <a:ext cx="3504960" cy="3045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715000"/>
            <a:ext cx="716292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istorical population growth for each country can be best forecasted using uniform distribu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0:25:30Z</dcterms:created>
  <dc:creator>Juan Carlos Mealla</dc:creator>
  <dc:description/>
  <cp:keywords/>
  <dc:language>en-US</dc:language>
  <cp:lastModifiedBy>Juan Carlos Mealla</cp:lastModifiedBy>
  <dcterms:modified xsi:type="dcterms:W3CDTF">2006-05-01T20:41:46Z</dcterms:modified>
  <cp:revision>22</cp:revision>
  <dc:subject/>
  <dc:title>BEIJING 2008: WHO’LL GET THE G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