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6F74-E82F-4456-A8E1-19D93F2D4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made assumptions for labor co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labor bureau data used to estimate salary for each category of wor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ew hires; no relocation packages for current 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06464-5126-476D-8C69-614FA3A4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2918A-84CD-4091-8083-EBF5825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FAAB9-E981-4A4C-AAEF-56F8C23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85322-209C-4E3E-A35C-FB5264B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5D1B1-2FD8-4C1C-BE8F-813951F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6369-9859-4BF4-99F3-680FA45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DE06C-31AD-4500-8D81-356AB9B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CB00F-80E9-4747-B497-9AE41A5A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3289-8AD5-451E-A149-8C7D3AB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0B02-D1CD-473F-8837-F1CC135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F402C-F17F-4410-98BE-C1B7A63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735D6-325E-4A8E-AE1E-0D02A5F7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6585120"/>
            <a:ext cx="396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cision Models Final Project – Group 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BB4-85CD-4F1D-967C-F55DDFF655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815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Corporate Division Location</a:t>
            </a:r>
            <a:endParaRPr b="1" lang="en-US" sz="5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chael Hochana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sa Lore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uryn McDon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odels – Prof. Ju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1,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uild office space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5791320"/>
            <a:ext cx="854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jected NPV of costs to build new office space in each potential lo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ary expense, state incentives built into NPV calcul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20560" y="1444680"/>
            <a:ext cx="81028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r lease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80880" y="1595520"/>
            <a:ext cx="82425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ust build manufacturing facility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20560" y="1673280"/>
            <a:ext cx="81028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istance penalties used to account for location needs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frequently travel within and outside of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from airport is built in as a penalty, as is labor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penalty for more expensive labor force to spend time traveling to the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workers will also travel to manufacturing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Kentucky Map"/>
          <p:cNvPicPr/>
          <p:nvPr/>
        </p:nvPicPr>
        <p:blipFill>
          <a:blip r:embed="rId1"/>
          <a:stretch/>
        </p:blipFill>
        <p:spPr>
          <a:xfrm>
            <a:off x="1828800" y="2514600"/>
            <a:ext cx="5091120" cy="3798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winning location is…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4760" y="159984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Lexington, KY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3200400" y="3809880"/>
            <a:ext cx="1905120" cy="533520"/>
          </a:xfrm>
          <a:prstGeom prst="leftArrow">
            <a:avLst>
              <a:gd name="adj1" fmla="val 50000"/>
              <a:gd name="adj2" fmla="val 892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nsitivity Analysi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onditional formatting to identify low-, mid-, and high-cost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0" t="22503" r="0" b="12502"/>
          <a:stretch/>
        </p:blipFill>
        <p:spPr>
          <a:xfrm>
            <a:off x="533520" y="2579760"/>
            <a:ext cx="83055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nsitivity Analysi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WACC to determine impact on results via solver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043760" cy="13683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53960" y="4800600"/>
            <a:ext cx="8540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 is same with different WACC, but adjusting other variables would change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dditional consideration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of manufacturing site to major shipping 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ility of labor in each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proximity to corporate H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 of % travel time for senior management,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client must identify a new location for a division HQ and manufacturing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ing multiple locations in eastern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by minimizing NPV for both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ultiple factors will influence NPV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investment for 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incentive pack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of local labor fo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ity to international airport (HQ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ance between the two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eal estate assumption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84960" cy="2570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752480" y="3983040"/>
            <a:ext cx="54864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11 states under consideration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8077320" cy="5299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781680" y="35812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62920" y="31240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33526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8195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388620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11480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31240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4956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2670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48769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3733920"/>
            <a:ext cx="30492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aking the decision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calculates NPV based on four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cost -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cost - manufac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ance pena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port pena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r optimizes location combination for office &amp;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 to compare choices manu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anual decision analysis &amp; Solver optimization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40384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lculations for each component of the NPV are broken out in separate workshe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8680" y="2514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ummary tab aggregates costs for each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17877" r="46882" b="12502"/>
          <a:stretch/>
        </p:blipFill>
        <p:spPr>
          <a:xfrm>
            <a:off x="228600" y="1523880"/>
            <a:ext cx="5181480" cy="5092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H="1">
            <a:off x="1904760" y="3733920"/>
            <a:ext cx="380988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504960" y="4952880"/>
            <a:ext cx="2057400" cy="1447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alary costs vary by state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68200" y="2484360"/>
            <a:ext cx="85708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tates incentivize business development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6807240" cy="4498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7238880" y="30481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centives are built into sit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2:47:15Z</dcterms:created>
  <dc:creator>Lauryn McDonough</dc:creator>
  <dc:description/>
  <dc:language>en-US</dc:language>
  <cp:lastModifiedBy>Owen Graduate Student</cp:lastModifiedBy>
  <dcterms:modified xsi:type="dcterms:W3CDTF">2006-05-01T16:33:27Z</dcterms:modified>
  <cp:revision>23</cp:revision>
  <dc:subject/>
  <dc:title>Corporate Division Relo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7657343</vt:r8>
  </property>
  <property fmtid="{D5CDD505-2E9C-101B-9397-08002B2CF9AE}" pid="3" name="_AuthorEmail">
    <vt:lpwstr>lauryn.mcdonough@stern.nyu.edu</vt:lpwstr>
  </property>
  <property fmtid="{D5CDD505-2E9C-101B-9397-08002B2CF9AE}" pid="4" name="_AuthorEmailDisplayName">
    <vt:lpwstr>Lauryn McDonough</vt:lpwstr>
  </property>
  <property fmtid="{D5CDD505-2E9C-101B-9397-08002B2CF9AE}" pid="5" name="_EmailSubject">
    <vt:lpwstr>Final DM PPT &amp; Word</vt:lpwstr>
  </property>
</Properties>
</file>