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077320" y="6226200"/>
            <a:ext cx="914400" cy="555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28600" y="6095880"/>
            <a:ext cx="54936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10666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E OPTIMUM YANKEE R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638680"/>
            <a:ext cx="373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brahim Abdu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sosie Rey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Proble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ankees have not won a World Series since 20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op 8 players cost the Yankees $120 million a 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orge Steinbrenner is a lousy b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1577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Solution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re Ibrahim a.k.a. “Killa” and Tsosie as expert consult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 new method for evaluating tal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move dead-weight from team sala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Insigh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mply, wining in baseball is about scoring ru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yers are paid primarily 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tting Aver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me Ru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B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neral Managers should abandon those statistics…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Insigh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Ms should create teams based on the player’s ability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t on ba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ore ru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t runs scor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Ms should emphasize the following stat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 Base Average (OBA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B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u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Method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iled the key on base statistics for all players from the year 200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rmalized following statistic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u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B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l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Method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A, RBI, and Runs were treated positiv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lary was treated negativ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bined Stats to for AR-Sco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RAI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 Bats &gt;= 4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mes &gt;= 1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am Cap &lt;= $120 mill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 player for each pos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Resul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Resul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ults for Salary Maxim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91540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5:23:34Z</dcterms:created>
  <dc:creator>Ibrahim Abdullah</dc:creator>
  <dc:description/>
  <dc:language>en-US</dc:language>
  <cp:lastModifiedBy>Ibrahim Abdullah</cp:lastModifiedBy>
  <dcterms:modified xsi:type="dcterms:W3CDTF">2006-04-24T18:15:18Z</dcterms:modified>
  <cp:revision>8</cp:revision>
  <dc:subject/>
  <dc:title>Slide 1</dc:title>
</cp:coreProperties>
</file>