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3EC-9ADB-4EC7-8F7F-821190C6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3DF-7F98-4F2C-84C4-C546D40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C8F-F773-48BF-AB81-E61E218D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75B-7D1F-4C11-B0CC-BD842A0F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725-0636-4CA9-A794-D7E3AB10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786-57A5-4101-8317-E9401E34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D9E-91C2-4EAD-988D-EB02723A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065-2421-4A17-87E2-C281774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18C-6B2A-46C1-86E8-969AD227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5E9-1BF1-4A05-B719-430D2E2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7A8-622C-4076-9BA8-C9426547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515-BCB5-4419-B17D-D798B33F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Rockwel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Rockwel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Rockwel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CC35-6FB7-4745-80CE-B1C81F447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Football Scheduling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571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Decision Models Final Projec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April 24, 2006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. Guimbarda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D. Jones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N. Shauka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C. Ude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Stern Flag Football Tournament</a:t>
            </a:r>
            <a:endParaRPr b="0" lang="en-US" sz="32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t the Scene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nce a year, teams from many business schools come to Central Park to compete in a flag football tournamen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5-20 teams participat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ost Tourney Happy Hour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anagerial Problem Defini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s the scheduler of the event, we needed to put together a game schedule that: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Minimizes the standard deviation of average total time each team spends on the field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Enables each team to play exactly 3 preliminary gam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ockwell Extra Bold"/>
              </a:rPr>
              <a:t>Stern Needs a Model!</a:t>
            </a:r>
            <a:endParaRPr b="0" lang="en-US" sz="4400" spc="-1" strike="noStrike">
              <a:solidFill>
                <a:srgbClr val="ffff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Our first attempt…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st year’s set-u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6 teams, 4 field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4 teams per fiel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rst model attemp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ssues!!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e have conflicts that must be resolved due to complexity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# of constraints needed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The enlightened way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verview of new approa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signed an adjusted solver model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Use of game combinations reduces complexit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ptimal schedule determine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w complication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dditional teams (20 teams total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duced # of fields (3 total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447920"/>
            <a:ext cx="8305920" cy="487656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End of the road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del adjustment fail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oo many decision variab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ed for additional constrain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reasing complexity aga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 Extra Bold"/>
              </a:rPr>
              <a:t>Questions &amp; Comments</a:t>
            </a:r>
            <a:endParaRPr b="0" lang="en-US" sz="3600" spc="-1" strike="noStrike">
              <a:solidFill>
                <a:srgbClr val="ffffff"/>
              </a:solidFill>
              <a:latin typeface="Rockwell Extra Bold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523880"/>
            <a:ext cx="3124080" cy="1219320"/>
          </a:xfrm>
          <a:prstGeom prst="wedgeRoundRectCallout">
            <a:avLst>
              <a:gd name="adj1" fmla="val -107268"/>
              <a:gd name="adj2" fmla="val 32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ril 20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Nice day for football in park – time between games wasn’t a major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410080"/>
            <a:ext cx="3276720" cy="1219320"/>
          </a:xfrm>
          <a:prstGeom prst="wedgeRoundRectCallout">
            <a:avLst>
              <a:gd name="adj1" fmla="val 78777"/>
              <a:gd name="adj2" fmla="val -5429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ril 200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Miserable day for football + time between games = forfeits + additional b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8:09:23Z</dcterms:created>
  <dc:creator>Carolyn Ude</dc:creator>
  <dc:description/>
  <dc:language>en-US</dc:language>
  <cp:lastModifiedBy>Matthew Guimbarda</cp:lastModifiedBy>
  <dcterms:modified xsi:type="dcterms:W3CDTF">2006-04-24T13:25:14Z</dcterms:modified>
  <cp:revision>20</cp:revision>
  <dc:subject/>
  <dc:title>Football</dc:title>
</cp:coreProperties>
</file>