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999-D449-42F0-9AC0-8A843708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BA8-45E6-47D2-A551-1166D7B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828-D3F9-40BA-953B-ADB24EDF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4FE-1A83-4697-9EA8-BE030526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08A-87C7-430B-A880-1C170334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155-AD34-44B6-9B8B-1AE44117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462-F138-48BB-9853-F38B604C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E77-51D0-44DE-9159-0F145236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B8E-F882-4BF0-A4EF-794B9E72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FBB-6E6B-40F8-A17A-E15D6C10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47A-2AAC-4019-AC82-E3D9D62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ADA-D35B-42C2-952B-4CB82C5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B50-48B4-40D4-AA45-A60AA039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Football Scheduling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571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ecision Models Final Projec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April 24, 2006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. Guimbarda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D. Jones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N. Shauka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C. Ude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Stern Flag Football Tournament</a:t>
            </a: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t the Scene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nce a year, teams from many business schools come to Central Park to compete in a flag football tournam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5-20 teams participat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st Tourney Happy Hou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anagerial Problem Defini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s the scheduler of the event, we needed to put together a game schedule that: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Minimizes the standard deviation of average total time each team spends on the field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nables each team to play exactly 3 preliminary gam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ockwell Extra Bold"/>
              </a:rPr>
              <a:t>Stern Needs a Model!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Our first attempt…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st year’s set-u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6 teams, 4 field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4 teams per fiel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rst model attemp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ssues!!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e have conflicts that must be resolved due to complexity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# of constraints needed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The enlightened way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verview of new approa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signed an adjusted solver model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se of game combinations reduces complexit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ptimal schedule determin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w complication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dditional teams (20 teams tot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duced # of fields (3 total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End of the road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del adjustment fail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o many decision variab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ed for additional constrai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reasing complexity aga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Questions &amp; Comments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523880"/>
            <a:ext cx="3124080" cy="1219320"/>
          </a:xfrm>
          <a:prstGeom prst="wedgeRoundRectCallout">
            <a:avLst>
              <a:gd name="adj1" fmla="val -107268"/>
              <a:gd name="adj2" fmla="val 32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ril 20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Nice day for football in park – time between games wasn’t a major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410080"/>
            <a:ext cx="3276720" cy="1219320"/>
          </a:xfrm>
          <a:prstGeom prst="wedgeRoundRectCallout">
            <a:avLst>
              <a:gd name="adj1" fmla="val 78777"/>
              <a:gd name="adj2" fmla="val -5429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ril 200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Miserable day for football + time between games = forfeits + additional b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8:09:23Z</dcterms:created>
  <dc:creator>Carolyn Ude</dc:creator>
  <dc:description/>
  <dc:language>en-US</dc:language>
  <cp:lastModifiedBy>Matthew Guimbarda</cp:lastModifiedBy>
  <dcterms:modified xsi:type="dcterms:W3CDTF">2006-04-24T13:25:14Z</dcterms:modified>
  <cp:revision>20</cp:revision>
  <dc:subject/>
  <dc:title>Football</dc:title>
</cp:coreProperties>
</file>