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062840" y="127080"/>
            <a:ext cx="1852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288320" y="6630840"/>
            <a:ext cx="64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4033E-2227-48E9-BC39-21094CCF5446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28600" y="-318960"/>
            <a:ext cx="4160880" cy="730080"/>
            <a:chOff x="228600" y="-318960"/>
            <a:chExt cx="4160880" cy="730080"/>
          </a:xfrm>
        </p:grpSpPr>
        <p:sp>
          <p:nvSpPr>
            <p:cNvPr id="5" name=""/>
            <p:cNvSpPr/>
            <p:nvPr/>
          </p:nvSpPr>
          <p:spPr>
            <a:xfrm>
              <a:off x="228600" y="46080"/>
              <a:ext cx="416088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orecasting Industry Place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28600" y="-318960"/>
              <a:ext cx="41608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8600" y="-318960"/>
              <a:ext cx="41608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28600" y="411120"/>
              <a:ext cx="41608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28600" y="-318960"/>
              <a:ext cx="0" cy="730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389480" y="-318960"/>
              <a:ext cx="0" cy="730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8305920" y="6553080"/>
            <a:ext cx="76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pring 20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ked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4983120" y="-304920"/>
            <a:ext cx="4160880" cy="730440"/>
            <a:chOff x="4983120" y="-304920"/>
            <a:chExt cx="4160880" cy="730440"/>
          </a:xfrm>
        </p:grpSpPr>
        <p:sp>
          <p:nvSpPr>
            <p:cNvPr id="15" name=""/>
            <p:cNvSpPr/>
            <p:nvPr/>
          </p:nvSpPr>
          <p:spPr>
            <a:xfrm>
              <a:off x="4983120" y="90360"/>
              <a:ext cx="41608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983120" y="-304920"/>
              <a:ext cx="41608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983120" y="-304920"/>
              <a:ext cx="41608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983120" y="425520"/>
              <a:ext cx="41608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4983120" y="-304920"/>
              <a:ext cx="0" cy="730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9144000" y="-304920"/>
              <a:ext cx="0" cy="730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720880"/>
            <a:ext cx="64008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062840" y="127080"/>
            <a:ext cx="1852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288320" y="6630840"/>
            <a:ext cx="64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23412-1150-4CF9-AD67-EDAB364B53DF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4191120"/>
            <a:ext cx="6400800" cy="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720880"/>
            <a:ext cx="64008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Forecasting Industry Placement</a:t>
            </a:r>
            <a:endParaRPr b="1" lang="en-US" sz="2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m Blouste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tiana Ivano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nali Palkhiwa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ndra Subramani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ott Waks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4761000" y="50760"/>
            <a:ext cx="425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egression Analysis – Manufactu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79080" y="620640"/>
            <a:ext cx="3471120" cy="36828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a 5% level of significanc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3080" y="1219320"/>
            <a:ext cx="2831760" cy="57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317840" y="4927680"/>
            <a:ext cx="135900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47960" y="567540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ignific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105520" y="5486400"/>
            <a:ext cx="1141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03520" y="3772080"/>
            <a:ext cx="762120" cy="355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55680" y="2133720"/>
            <a:ext cx="1434960" cy="27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19040" y="1276200"/>
            <a:ext cx="7962840" cy="52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949280" y="50760"/>
            <a:ext cx="40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rystal Ball Simulation - Consul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925640" y="1371600"/>
            <a:ext cx="4770360" cy="14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at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913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ean: 0.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913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tandard Deviation: 0.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502000" y="3592440"/>
            <a:ext cx="4371840" cy="27147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06280" y="747720"/>
            <a:ext cx="4267440" cy="36828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ed on 762 trial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4100040" y="50760"/>
            <a:ext cx="491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rystal Ball Simulation – Financial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386080" y="3513240"/>
            <a:ext cx="4371840" cy="27144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881360" y="1298520"/>
            <a:ext cx="4770360" cy="14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at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913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ean: 0.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913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tandard Deviation: 0.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568760" y="50760"/>
            <a:ext cx="445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rystal Ball Simulation - Manufactu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386080" y="3241800"/>
            <a:ext cx="4371840" cy="27144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239920" y="1258920"/>
            <a:ext cx="4770360" cy="14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at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913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ean: 0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913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tandard Deviation: 0.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7465320" y="50760"/>
            <a:ext cx="15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14360" y="4205160"/>
            <a:ext cx="8729640" cy="13525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633240" y="936720"/>
            <a:ext cx="8006040" cy="35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1913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determined and forecasted placement percentages for 2007 and 200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913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913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recommend that OCD strengthen its consulting effort b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1913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nging in relationship managers with prior work experience in consulting indu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1913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ing the students by organizing more events by alumni and consul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1913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316160" y="2924280"/>
            <a:ext cx="6021360" cy="5814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 algn="ctr">
              <a:spcBef>
                <a:spcPts val="33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7795800" y="5076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ppend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352440" y="787320"/>
            <a:ext cx="3809880" cy="2365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23880" y="3651120"/>
            <a:ext cx="3436920" cy="21337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4703760" y="942840"/>
            <a:ext cx="34369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999560" y="5076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28520" y="1298520"/>
            <a:ext cx="5061600" cy="39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1840" indent="-231840">
              <a:spcBef>
                <a:spcPts val="25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 to the Decision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25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 Method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25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Collection 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25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ression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25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ystal Ball Simulation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25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7606080" y="50760"/>
            <a:ext cx="141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Hypo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800" y="1341360"/>
            <a:ext cx="9270000" cy="48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1840" indent="-231840"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agerial Objec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economic factors affect MBA placemen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can we predict career placements by industry using these economic factor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a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regression and simulation to predict MBA placements, upon graduati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industry based on certain economic indicato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25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913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iness schools can strengthen their career services efforts in specific ar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913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BA students and prospective students can gauge the job market and bet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stand specific recruiting tre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913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BA employers can improve their hiring plans and recruiting strategi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434640" y="50760"/>
            <a:ext cx="258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olution Method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19320" y="914400"/>
            <a:ext cx="2286000" cy="864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9160" indent="-11916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fine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dict MBA placement by indu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19320" y="2438280"/>
            <a:ext cx="2286000" cy="924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9160" indent="-11916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ata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al placement st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ing economic indic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77120" y="1066680"/>
            <a:ext cx="2286000" cy="2637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9160" indent="-11916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g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ress leading economic indicators against placement statistics by indust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1126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ul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1126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ncial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1126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ufactu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statistically significant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run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"/>
          <p:cNvCxnSpPr>
            <a:stCxn id="108" idx="3"/>
            <a:endCxn id="109" idx="1"/>
          </p:cNvCxnSpPr>
          <p:nvPr/>
        </p:nvCxnSpPr>
        <p:spPr>
          <a:xfrm flipV="1">
            <a:off x="3504960" y="2381040"/>
            <a:ext cx="2972520" cy="521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1" name=""/>
          <p:cNvSpPr/>
          <p:nvPr/>
        </p:nvSpPr>
        <p:spPr>
          <a:xfrm>
            <a:off x="2819520" y="2590920"/>
            <a:ext cx="2133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971800" y="3962520"/>
            <a:ext cx="2590920" cy="864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9160" indent="-1191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rystal Ball S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ulate results for significant variables used in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"/>
          <p:cNvCxnSpPr>
            <a:stCxn id="109" idx="2"/>
            <a:endCxn id="112" idx="3"/>
          </p:cNvCxnSpPr>
          <p:nvPr/>
        </p:nvCxnSpPr>
        <p:spPr>
          <a:xfrm rot="5400000">
            <a:off x="6239160" y="3018600"/>
            <a:ext cx="703800" cy="2057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14" name=""/>
          <p:cNvGrpSpPr/>
          <p:nvPr/>
        </p:nvGrpSpPr>
        <p:grpSpPr>
          <a:xfrm>
            <a:off x="2438280" y="5257800"/>
            <a:ext cx="3657600" cy="1295280"/>
            <a:chOff x="2438280" y="5257800"/>
            <a:chExt cx="3657600" cy="1295280"/>
          </a:xfrm>
        </p:grpSpPr>
        <p:sp>
          <p:nvSpPr>
            <p:cNvPr id="115" name=""/>
            <p:cNvSpPr/>
            <p:nvPr/>
          </p:nvSpPr>
          <p:spPr>
            <a:xfrm>
              <a:off x="2438280" y="5257800"/>
              <a:ext cx="3657600" cy="1295280"/>
            </a:xfrm>
            <a:prstGeom prst="flowChartManualOperati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895480" y="5261040"/>
              <a:ext cx="2590920" cy="10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9160" indent="-11916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Resul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19160" indent="-119160">
                <a:lnSpc>
                  <a:spcPct val="110000"/>
                </a:lnSpc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sing regression equation, predict % of MBA students placed in each industry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17" name=""/>
          <p:cNvCxnSpPr>
            <a:stCxn id="112" idx="2"/>
            <a:endCxn id="115" idx="0"/>
          </p:cNvCxnSpPr>
          <p:nvPr/>
        </p:nvCxnSpPr>
        <p:spPr>
          <a:xfrm>
            <a:off x="4266720" y="4833720"/>
            <a:ext cx="1080" cy="424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/>
          <p:nvPr/>
        </p:nvCxnSpPr>
        <p:spPr>
          <a:xfrm>
            <a:off x="2361960" y="1785960"/>
            <a:ext cx="1080" cy="653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094440" y="5076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ata Collection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3440" y="1371600"/>
            <a:ext cx="6444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1840" indent="-231840"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1480" y="1484280"/>
            <a:ext cx="3119760" cy="1739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ustry Placement Data 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91-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ul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ncial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ufactu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376880" y="1469880"/>
            <a:ext cx="3483000" cy="393444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conomic Indicators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91-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farm Payro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-Year Y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Ac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emplo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il 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al In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ing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umer Senti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&amp;P 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03040" y="6400800"/>
            <a:ext cx="5356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 Obtained from Columbia Business School Placement d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09760" y="69516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pendent Variab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363920" y="717480"/>
            <a:ext cx="300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ependent Variab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5191920" y="50760"/>
            <a:ext cx="382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egression Analysis - Consul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79080" y="620640"/>
            <a:ext cx="3471120" cy="36828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a 5% level of significanc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23960" y="1257480"/>
            <a:ext cx="7489800" cy="49845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95360" y="1130400"/>
            <a:ext cx="2832120" cy="69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16600" y="4051440"/>
            <a:ext cx="711000" cy="291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0" y="5626080"/>
            <a:ext cx="1295280" cy="279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130360" y="610704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ignific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587920" y="5918040"/>
            <a:ext cx="1144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768760" y="4546440"/>
            <a:ext cx="761760" cy="355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654280" y="1854360"/>
            <a:ext cx="1092240" cy="3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955840" y="445608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ot Signific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638680" y="4317840"/>
            <a:ext cx="368280" cy="27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75840" y="620640"/>
            <a:ext cx="5751000" cy="36828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So we pulled out 10-Year and things got better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47640" y="1187280"/>
            <a:ext cx="7836120" cy="49849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82760" y="1143000"/>
            <a:ext cx="2832120" cy="57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57880" y="5537160"/>
            <a:ext cx="135864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079600" y="604368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ignific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537160" y="5854680"/>
            <a:ext cx="1144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793960" y="4432320"/>
            <a:ext cx="762120" cy="355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92440" y="1790640"/>
            <a:ext cx="1092240" cy="3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191920" y="50760"/>
            <a:ext cx="382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egression Analysis - Consul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58880" y="1351080"/>
            <a:ext cx="7412040" cy="49464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76920" y="620640"/>
            <a:ext cx="3094560" cy="36828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iiiiiiiiiiiiiice Residuals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191920" y="50760"/>
            <a:ext cx="382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egression Analysis - Consul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342680" y="50760"/>
            <a:ext cx="467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egression Analysis – Financial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79080" y="620640"/>
            <a:ext cx="3471120" cy="36828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a 5% level of significanc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95360" y="1258920"/>
            <a:ext cx="8383680" cy="46940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93840" y="1193760"/>
            <a:ext cx="2832120" cy="57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49840" y="5295960"/>
            <a:ext cx="135900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079600" y="604368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ignific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537160" y="5854680"/>
            <a:ext cx="1144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832120" y="4064040"/>
            <a:ext cx="762120" cy="355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68280" y="2184480"/>
            <a:ext cx="2044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6T01:13:01Z</dcterms:created>
  <dc:creator>Lisa Thelen</dc:creator>
  <dc:description/>
  <dc:language>en-US</dc:language>
  <cp:lastModifiedBy>Stern Business School</cp:lastModifiedBy>
  <dcterms:modified xsi:type="dcterms:W3CDTF">2006-04-24T13:02:20Z</dcterms:modified>
  <cp:revision>531</cp:revision>
  <dc:subject/>
  <dc:title>Market Sizing &amp; Porter’s Five Forces</dc:title>
</cp:coreProperties>
</file>