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16EF-0A01-435F-BAB4-10F707B3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3863-CBCB-4A94-AE0F-15A7A8AE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24FB-EB75-4334-874E-4BE3B00A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BEFC-9F00-4DE5-B830-4F9EC33C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F79-9815-46EE-88E4-C8668C2B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A0F-154A-44D7-A40F-2D586A7E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3404-A3F7-47E3-9FF8-A901EB2D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15ED-3D41-45A1-B16F-8BFAAEB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BB43-2BA8-498F-9802-7AAC47DE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FCE2-F287-41FC-90FE-EB688E1A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8EE-973F-40DE-BD3D-D3F22B66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3D83-3E69-4167-85FD-A00F69C1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B63F-8630-4236-B47B-29A1A53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9C35-12B5-45BA-91BD-7DB00AA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B1D7-10D4-4D61-B67F-B3F856F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8707-A8C0-4FBC-ABC0-72498398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A64-257C-4675-B191-F305287D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675D-F25E-442B-ABB1-3B08DF7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D05C-04D1-4F7A-9447-3DA4FC83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8C21-CB17-4E78-A075-E094454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EB26-3AD8-41FB-98FE-431CF24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A15C-7C4F-40A2-9AC1-34DDA01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31DB-0E0B-4A4B-A8ED-E5CEFA0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DC94-D1A3-4694-AF78-2A2F8ADE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61D4-7236-4F27-9BE5-3ABA76B460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D0B6-657D-45A0-B592-2BCFE6A42C3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2895480" y="624348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824-814B-446D-913E-615CE65444B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DF44-7558-45EE-B5DE-E882ACE5DB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1844640"/>
            <a:ext cx="6705720" cy="17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Baseball Offensive Simulator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simulation for baseball line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inciples of th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batter is allocated a set of frequencies for plate appearance outcomes (BB/HBP, 1B, 2B, 3B, HR, O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ose frequencies, CrystalBall generates a random number between 0 and 1 that determines every plate appearance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alculates how many runs will have scored after 9 in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BFBD-DBAB-416E-A894-97B0D0CE92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DE7B0DE-5C63-4886-B86D-0F4E55CB8A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ssumptions of th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ive errors are ignored (but results are relevant against Earned Runs Avera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ouble plays, no stolen bases, no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ners do not advance on 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ngle, runners score from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 and advance to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double, every on-base runner s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6B7A-7975-4E48-8B1F-D20421C7AA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FBFFD6-8BF3-4157-9FF2-3786C2530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Mets’ current lineu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New York M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Du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y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nan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45720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4.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3.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572000" cy="23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64DA-05D8-4E65-B946-F82BFDFC97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FF58B7A-26C0-45B3-8DE9-1F8D3465EE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s Reyes hurting the Met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5.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3.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New York M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Du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y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nan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543560" cy="231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1431-81C9-4BE8-B93D-B233F8BC70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75CFB3-8FC7-42F8-9642-6CB8AE7497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o’s the Mets’ best hit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03848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8.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4360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4.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ga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3149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6E17-CAE6-477B-AACD-3099BE2E3B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5B225E2-7D53-4CBA-AAB1-265E6D9F52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o’s the Mets’ best hit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3848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7.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4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3149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BB2D-4C54-4265-A657-6DB51CCD5D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55BF7D-145C-4051-BD19-ED04A0929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ould pitchers hit 8</a:t>
            </a:r>
            <a:r>
              <a:rPr b="0" lang="en-US" sz="4400" spc="-1" strike="noStrike" baseline="30000">
                <a:solidFill>
                  <a:srgbClr val="dfdef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or 9</a:t>
            </a:r>
            <a:r>
              <a:rPr b="0" lang="en-US" sz="4400" spc="-1" strike="noStrike" baseline="30000">
                <a:solidFill>
                  <a:srgbClr val="dfdef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457200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: 4.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57200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: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Deviation:  3.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38080" y="1905120"/>
            <a:ext cx="24386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 New York M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Du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g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y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rnan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149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C626-AC3C-4251-97DA-D1B28A4286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AE48F54-1281-4606-B618-3C3E9B7EFB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pring 2006 - Decision Models - Term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1C1D-9286-45D8-97B6-006D69A4DB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5E7618-EB05-4FFF-B21B-384D3AB1DF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4:40:41Z</dcterms:created>
  <dc:creator>Stern Business School</dc:creator>
  <dc:description/>
  <dc:language>en-US</dc:language>
  <cp:lastModifiedBy>Stern School of Business</cp:lastModifiedBy>
  <dcterms:modified xsi:type="dcterms:W3CDTF">2006-04-24T18:39:06Z</dcterms:modified>
  <cp:revision>3</cp:revision>
  <dc:subject/>
  <dc:title>Slide 1</dc:title>
</cp:coreProperties>
</file>