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FC0-D59D-43C0-9A25-9CE589BB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7E37-2EB4-4A6F-8542-A3CBB861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277A-1DAF-4C50-9833-AEC9E931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71E-08F6-4E1E-A8D9-A73040F1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7E7F-DD96-44E0-AAA4-816A06B8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FA6D-C8C1-4974-B355-FB960B33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F3D5-E495-4F8E-AB8E-29555FC7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A4A4-7BCB-42CE-85A2-A0EAA103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D193-0B15-43B3-B87C-E02A4260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EFFA-750A-4BB7-8E1D-FA27D0F1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7AE0-4267-40F9-879D-0C2643AD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9CA-37AF-4BD0-88DD-6AF151C9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71BD-8083-4D65-BBA1-F30014CA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9CF9-F452-4A42-951C-BA85290F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4A45-DDEE-436E-A8AE-F1F22321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BF60-8B61-40A1-8369-D6D860BF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81AF-6F4E-4ED5-B13A-1728B85D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B257-30AE-4051-B003-7A272F90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4418-2330-426C-B2DB-AAB158BB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B3FD-EFA5-4F02-B64D-D9F17CB5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472B-3FB9-4E68-A636-2B18B627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30C-0C72-41EF-A806-BD2BF15D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506-BD22-4429-A05C-49FB33E1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696-B65F-4981-9438-A24D5678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B595-A81B-4AEE-8707-3E7B07180BC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9480"/>
            <a:ext cx="9144000" cy="939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359000"/>
            <a:ext cx="914400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76320" y="6095880"/>
            <a:ext cx="9296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-152280" y="1371600"/>
            <a:ext cx="929628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66760" y="673200"/>
            <a:ext cx="834840" cy="96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443C-F88D-4647-8B40-C7D5C15A18C0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9480"/>
            <a:ext cx="9144000" cy="939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59000"/>
            <a:ext cx="914400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6320" y="6095880"/>
            <a:ext cx="929664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52280" y="1371600"/>
            <a:ext cx="9296280" cy="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66760" y="673200"/>
            <a:ext cx="834840" cy="961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32920" y="1925640"/>
            <a:ext cx="8504280" cy="37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ECISION MODELING FOR HEALTHCARE ORGANIZATION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eaeaea"/>
                </a:solidFill>
                <a:latin typeface="Arial"/>
              </a:rPr>
              <a:t>April 23, 2007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eaeaea"/>
                </a:solidFill>
                <a:latin typeface="Arial"/>
              </a:rPr>
              <a:t>Team 1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Joel Aasma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ay S. Cheng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achel Gree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att Lawri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9440" y="1882440"/>
            <a:ext cx="7813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5 ≤ PGs ≤ 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sidents are paid for through subsidies from the govern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atio of PGs 1, 2, 3 to each other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24000" y="4167360"/>
            <a:ext cx="6503760" cy="1452240"/>
            <a:chOff x="324000" y="4167360"/>
            <a:chExt cx="6503760" cy="1452240"/>
          </a:xfrm>
        </p:grpSpPr>
        <p:grpSp>
          <p:nvGrpSpPr>
            <p:cNvPr id="151" name=""/>
            <p:cNvGrpSpPr/>
            <p:nvPr/>
          </p:nvGrpSpPr>
          <p:grpSpPr>
            <a:xfrm>
              <a:off x="5870520" y="4606920"/>
              <a:ext cx="944640" cy="1012680"/>
              <a:chOff x="5870520" y="4606920"/>
              <a:chExt cx="944640" cy="1012680"/>
            </a:xfrm>
          </p:grpSpPr>
          <p:sp>
            <p:nvSpPr>
              <p:cNvPr id="152" name=""/>
              <p:cNvSpPr/>
              <p:nvPr/>
            </p:nvSpPr>
            <p:spPr>
              <a:xfrm>
                <a:off x="5870520" y="4606920"/>
                <a:ext cx="944640" cy="1012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pic>
            <p:nvPicPr>
              <p:cNvPr id="1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59520" y="4732200"/>
                <a:ext cx="557280" cy="811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" name=""/>
            <p:cNvGrpSpPr/>
            <p:nvPr/>
          </p:nvGrpSpPr>
          <p:grpSpPr>
            <a:xfrm>
              <a:off x="4327560" y="4606920"/>
              <a:ext cx="944640" cy="1012680"/>
              <a:chOff x="4327560" y="4606920"/>
              <a:chExt cx="944640" cy="1012680"/>
            </a:xfrm>
          </p:grpSpPr>
          <p:sp>
            <p:nvSpPr>
              <p:cNvPr id="155" name=""/>
              <p:cNvSpPr/>
              <p:nvPr/>
            </p:nvSpPr>
            <p:spPr>
              <a:xfrm>
                <a:off x="4327560" y="4606920"/>
                <a:ext cx="944640" cy="1012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pic>
            <p:nvPicPr>
              <p:cNvPr id="1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516560" y="4732200"/>
                <a:ext cx="557280" cy="811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" name=""/>
            <p:cNvGrpSpPr/>
            <p:nvPr/>
          </p:nvGrpSpPr>
          <p:grpSpPr>
            <a:xfrm>
              <a:off x="2790720" y="4606920"/>
              <a:ext cx="944640" cy="1012680"/>
              <a:chOff x="2790720" y="4606920"/>
              <a:chExt cx="944640" cy="1012680"/>
            </a:xfrm>
          </p:grpSpPr>
          <p:sp>
            <p:nvSpPr>
              <p:cNvPr id="158" name=""/>
              <p:cNvSpPr/>
              <p:nvPr/>
            </p:nvSpPr>
            <p:spPr>
              <a:xfrm>
                <a:off x="2790720" y="4606920"/>
                <a:ext cx="944640" cy="1012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pic>
            <p:nvPicPr>
              <p:cNvPr id="15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979720" y="4732200"/>
                <a:ext cx="557280" cy="811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0" name=""/>
            <p:cNvSpPr/>
            <p:nvPr/>
          </p:nvSpPr>
          <p:spPr>
            <a:xfrm>
              <a:off x="2646360" y="4241880"/>
              <a:ext cx="11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1 PG 1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78160" y="4255920"/>
              <a:ext cx="119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1 PG 2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35800" y="4272120"/>
              <a:ext cx="11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1 PG 3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4000" y="4213080"/>
              <a:ext cx="223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Arial"/>
                </a:rPr>
                <a:t>Approximate Ratio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40320" y="4214880"/>
              <a:ext cx="26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70360" y="4167360"/>
              <a:ext cx="26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EL OVERVIEW: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887480" y="326556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OVERVIEW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87480" y="447840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HYSICIAN ASSISTAN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87480" y="508644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LUSIONS &amp; LIMITATION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87480" y="265896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IAL PROBLEM DEFINIT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86040" y="205272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OBJECTIV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79560" y="3871800"/>
            <a:ext cx="5400720" cy="41904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ODEL RESUL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9480" y="1827360"/>
            <a:ext cx="6705360" cy="407196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43000" y="1808280"/>
            <a:ext cx="6738840" cy="4100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EL RES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352520" y="2124000"/>
            <a:ext cx="6516720" cy="3505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EL RES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06280" y="1935000"/>
            <a:ext cx="8580600" cy="36118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EL RES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3920" y="2593800"/>
            <a:ext cx="8555040" cy="22370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EL RES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9440" y="1882440"/>
            <a:ext cx="78138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th optimal staffing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fit of $32,219 per da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 Supervisory Attending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3 Faculty Attending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 Post Graduate Year 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 Post Graduate Year 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 Post Graduate Year 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0 Physician Assista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5 Administrative Staff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EL RES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887480" y="326556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OVERVIEW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87480" y="4478400"/>
            <a:ext cx="5400720" cy="41904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HYSICIAN ASSISTAN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87480" y="508644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LUSIONS &amp; LIMITATION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87480" y="265896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IAL PROBLEM DEFINIT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6040" y="205272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OBJECTIV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79560" y="387180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RESUL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9440" y="1882440"/>
            <a:ext cx="78138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’s Salary ~ Half Attending’s Sal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verage time per pati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9.21 min versus 15.85 mi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36 min dif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ears optimal to staff P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et solution contains NO P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HYSICIAN’S ASSISTA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5760" y="2131920"/>
            <a:ext cx="8226360" cy="3429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HYSICIAN’S ASSISTA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87480" y="326556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OVERVIEW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87480" y="447840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HYSICIAN ASSISTAN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87480" y="508644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LUSIONS &amp; LIMITATION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87480" y="265896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IAL PROBLEM DEFINIT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86040" y="2052720"/>
            <a:ext cx="5400720" cy="41904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ODEL OBJECTIV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9560" y="387180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RESUL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887480" y="326556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OVERVIEW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87480" y="447840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HYSICIAN ASSISTAN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887480" y="5086440"/>
            <a:ext cx="5400720" cy="41904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CLUSIONS &amp; LIMITATION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87480" y="265896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IAL PROBLEM DEFINIT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86040" y="205272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OBJECTIV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879560" y="387180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RESUL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9440" y="1882440"/>
            <a:ext cx="78138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l world model can be much more compli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xed cos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ditional variable cos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hysicians select patients based on payment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S &amp; LIMIT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5400" y="1846440"/>
            <a:ext cx="8226360" cy="28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ur model will help the medical practice administration determine the number of Physicians, Residents, Physician Assistants and Administrative Staff to hire in order to maximize profi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EL OBJECT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87480" y="326556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OVERVIEW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87480" y="447840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HYSICIAN ASSISTAN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87480" y="508644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LUSIONS &amp; LIMITATION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87480" y="2658960"/>
            <a:ext cx="5400720" cy="41904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AGERIAL PROBLEM DEFINIT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86040" y="205272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OBJECTIV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79560" y="387180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RESUL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5400" y="1856880"/>
            <a:ext cx="822636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ministrators running a medical practice are often unsure about optimal staffing level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75200" indent="-18288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many Supervisory Attending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75200" indent="-18288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many Faculty Attending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75200" indent="-18288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many Resident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75200" indent="-18288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many Physician Assistant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75200" indent="-18288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many Administrative Staff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NAGERIAL PROBLEM DEFIN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87480" y="3265560"/>
            <a:ext cx="5400720" cy="41904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ODEL OVERVIEW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87480" y="447840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HYSICIAN ASSISTAN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87480" y="508644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LUSIONS &amp; LIMITATION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87480" y="265896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IAL PROBLEM DEFINIT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86040" y="205272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OBJECTIV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79560" y="3871800"/>
            <a:ext cx="5400720" cy="4190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DEL RESULT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5400" y="1856880"/>
            <a:ext cx="822636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OBJECTIVE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Maximize Profit = Revenue – Salary Cos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DECISION VARIABLES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The number of Supervisory Attendings, Faculty Attendings, 1st, 2nd, and 3rd year Residents (PGs), and Physician Assistants to staff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12920" y="5024520"/>
            <a:ext cx="733320" cy="1066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679400" y="5024520"/>
            <a:ext cx="733680" cy="1066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737480" y="5024520"/>
            <a:ext cx="733320" cy="1066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203960" y="5024520"/>
            <a:ext cx="733680" cy="1066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670800" y="5024520"/>
            <a:ext cx="733320" cy="1066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1146240" y="5024520"/>
            <a:ext cx="733320" cy="1066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89040" y="5024520"/>
            <a:ext cx="733320" cy="1066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6137280" y="5024520"/>
            <a:ext cx="733320" cy="1066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EL OVERVIEW: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Objectiv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5400" y="1856880"/>
            <a:ext cx="822636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limited deman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verage % of daily patients who are new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verage patient revenu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verage Salaries (Salary.com): Attendings, Physician Assistants, Administrative Staff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ime spent by each practitioner with pati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ime spent by each Supervising Attending with Resid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EL OVERVIEW: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Inpu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9440" y="1882440"/>
            <a:ext cx="78138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8 rooms available: total minutes of operation ≤ 4320 (hours of operation * 60 * 8 room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pen from 8 am – 5 p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andatory 1 hour lunch/break for all employe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ach Supervisory Attending must supervise no more than 5 Resid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1081080" indent="-4572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Supervising Attending’s availability to see patients is a function of how many resident’s he must supervi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25560" y="4956120"/>
            <a:ext cx="627120" cy="91440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7283520" y="4962600"/>
            <a:ext cx="944640" cy="1012680"/>
            <a:chOff x="7283520" y="4962600"/>
            <a:chExt cx="944640" cy="1012680"/>
          </a:xfrm>
        </p:grpSpPr>
        <p:sp>
          <p:nvSpPr>
            <p:cNvPr id="133" name=""/>
            <p:cNvSpPr/>
            <p:nvPr/>
          </p:nvSpPr>
          <p:spPr>
            <a:xfrm>
              <a:off x="7283520" y="4962600"/>
              <a:ext cx="944640" cy="10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7472520" y="5087880"/>
              <a:ext cx="557280" cy="81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>
            <a:off x="1941480" y="5184720"/>
            <a:ext cx="914400" cy="457200"/>
          </a:xfrm>
          <a:custGeom>
            <a:avLst/>
            <a:gdLst>
              <a:gd name="textAreaLeft" fmla="*/ 0 w 914400"/>
              <a:gd name="textAreaRight" fmla="*/ 914760 w 914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286680" y="4956120"/>
            <a:ext cx="944280" cy="1012680"/>
            <a:chOff x="6286680" y="4956120"/>
            <a:chExt cx="944280" cy="1012680"/>
          </a:xfrm>
        </p:grpSpPr>
        <p:sp>
          <p:nvSpPr>
            <p:cNvPr id="137" name=""/>
            <p:cNvSpPr/>
            <p:nvPr/>
          </p:nvSpPr>
          <p:spPr>
            <a:xfrm>
              <a:off x="6286680" y="4956120"/>
              <a:ext cx="944280" cy="10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6475320" y="5081400"/>
              <a:ext cx="556920" cy="81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5267160" y="4956120"/>
            <a:ext cx="944640" cy="1012680"/>
            <a:chOff x="5267160" y="4956120"/>
            <a:chExt cx="944640" cy="1012680"/>
          </a:xfrm>
        </p:grpSpPr>
        <p:sp>
          <p:nvSpPr>
            <p:cNvPr id="140" name=""/>
            <p:cNvSpPr/>
            <p:nvPr/>
          </p:nvSpPr>
          <p:spPr>
            <a:xfrm>
              <a:off x="5267160" y="4956120"/>
              <a:ext cx="944640" cy="10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4"/>
            <a:stretch/>
          </p:blipFill>
          <p:spPr>
            <a:xfrm>
              <a:off x="5456160" y="5081400"/>
              <a:ext cx="557280" cy="81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4248000" y="4956120"/>
            <a:ext cx="944640" cy="1012680"/>
            <a:chOff x="4248000" y="4956120"/>
            <a:chExt cx="944640" cy="1012680"/>
          </a:xfrm>
        </p:grpSpPr>
        <p:sp>
          <p:nvSpPr>
            <p:cNvPr id="143" name=""/>
            <p:cNvSpPr/>
            <p:nvPr/>
          </p:nvSpPr>
          <p:spPr>
            <a:xfrm>
              <a:off x="4248000" y="4956120"/>
              <a:ext cx="944640" cy="10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5"/>
            <a:stretch/>
          </p:blipFill>
          <p:spPr>
            <a:xfrm>
              <a:off x="4437000" y="5081400"/>
              <a:ext cx="557280" cy="81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3203640" y="4956120"/>
            <a:ext cx="944640" cy="1012680"/>
            <a:chOff x="3203640" y="4956120"/>
            <a:chExt cx="944640" cy="1012680"/>
          </a:xfrm>
        </p:grpSpPr>
        <p:sp>
          <p:nvSpPr>
            <p:cNvPr id="146" name=""/>
            <p:cNvSpPr/>
            <p:nvPr/>
          </p:nvSpPr>
          <p:spPr>
            <a:xfrm>
              <a:off x="3203640" y="4956120"/>
              <a:ext cx="944640" cy="1012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>
              <a:off x="3392640" y="5081400"/>
              <a:ext cx="557280" cy="81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639720" y="957240"/>
            <a:ext cx="850428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DEL OVERVIEW: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7:20:29Z</dcterms:created>
  <dc:creator>Rachel Green</dc:creator>
  <dc:description/>
  <dc:language>en-US</dc:language>
  <cp:lastModifiedBy>Stern School of Business</cp:lastModifiedBy>
  <dcterms:modified xsi:type="dcterms:W3CDTF">2007-04-16T16:29:48Z</dcterms:modified>
  <cp:revision>22</cp:revision>
  <dc:subject/>
  <dc:title>Decision Modeling For Healthcare Organizations</dc:title>
</cp:coreProperties>
</file>