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77C-7385-4546-A40B-EE23DF3B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93F-A45F-4EA6-BEE5-81845539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861-EA04-4454-8CD0-348C9587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3C1-1D8D-4B9D-AA57-E9D878B6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A268-60C2-4240-ABC3-19DB73C7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7E53-54AF-48A4-881C-E8787A44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B27D-2B73-449D-B593-E14931B6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2F2F-D12C-43FE-A650-9EBE6F52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738E-DF7D-4CD6-A91C-AA589E59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E426-D081-4071-85BF-E0492B33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F571-B0DE-42C8-8530-36A505A9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352-8D50-465F-B7BA-9A7D312D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423C-E773-4E2E-9F13-E945970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515F-33E1-4ADC-9440-A175002E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D06F-4B45-4BED-AED7-E561D50A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CFD6-A8B3-4BA0-B423-5A82A111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1933-21EE-43CF-8052-9ACBE459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A28-CC5F-4999-93AD-DDE19371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7A6-D779-4D4B-85C1-FA53B762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6A7-9E9D-4B2D-B931-3A86C2FF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4FA-0B64-412E-B307-47B77967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D23-84B7-4C23-AC34-D63143F9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BB0-67AF-4EBD-8BB6-D8D8327F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E3A-DA81-4D3B-801C-5845BE43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E37-6A76-48B5-8DFA-BB4A08178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DBE9-1692-4708-A22D-61CA94968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1520" y="55119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en.wikipedia.org/wiki/Image:Fc_barcelona.png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en.wikipedia.org/wiki/Image:Fc_barcelona.png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c_barcelona.png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819080" cy="1819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65200" y="4960800"/>
            <a:ext cx="1935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Dong Ryung Y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ernán López Co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Juan Gavi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oberto Nuñ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odrigo Córd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3200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Decis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38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Final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4447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April 23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ENERAL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219320"/>
            <a:ext cx="3736800" cy="100620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8760" y="1219320"/>
            <a:ext cx="3638520" cy="100620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7800" y="1219320"/>
            <a:ext cx="3746520" cy="1006200"/>
          </a:xfrm>
          <a:custGeom>
            <a:avLst/>
            <a:gdLst>
              <a:gd name="textAreaLeft" fmla="*/ 0 w 3746520"/>
              <a:gd name="textAreaRight" fmla="*/ 3746880 w 374652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50804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DATABAS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15080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PAIR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48320" y="150804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COUNTR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286000"/>
            <a:ext cx="2590920" cy="23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Gathered historical data of past 50 years (UEF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Narrowed down information to existing teams and countries currently participating in the Group S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286000"/>
            <a:ext cx="259092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or each team pairing we defin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79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istorical win, loss, tie 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79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istorical goals in favor (GF) and goals against (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79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tandard deviation of GF and 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286000"/>
            <a:ext cx="25909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When no historical team pairing information was availab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or each team we defin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79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Book Antiqu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Comparable team from the same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ollowed the same process as in the pair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INGLE GAM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59378" t="20835" r="29687" b="67712"/>
          <a:stretch/>
        </p:blipFill>
        <p:spPr>
          <a:xfrm>
            <a:off x="4940280" y="2089080"/>
            <a:ext cx="1066680" cy="838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32031" t="20835" r="56252" b="67712"/>
          <a:stretch/>
        </p:blipFill>
        <p:spPr>
          <a:xfrm>
            <a:off x="5016600" y="4756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5029200" y="4070520"/>
            <a:ext cx="1143000" cy="668160"/>
            <a:chOff x="5029200" y="4070520"/>
            <a:chExt cx="1143000" cy="66816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rcRect l="31253" t="42708" r="30470" b="39174"/>
            <a:stretch/>
          </p:blipFill>
          <p:spPr>
            <a:xfrm>
              <a:off x="5029200" y="4070520"/>
              <a:ext cx="1143000" cy="406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4" name=""/>
            <p:cNvSpPr/>
            <p:nvPr/>
          </p:nvSpPr>
          <p:spPr>
            <a:xfrm>
              <a:off x="5094360" y="452304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uncated Norm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09680" y="2355840"/>
            <a:ext cx="381240" cy="2374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241720"/>
            <a:ext cx="1828800" cy="2514600"/>
          </a:xfrm>
          <a:custGeom>
            <a:avLst/>
            <a:gdLst>
              <a:gd name="textAreaLeft" fmla="*/ 111600 w 1828800"/>
              <a:gd name="textAreaRight" fmla="*/ 1717200 w 1828800"/>
              <a:gd name="textAreaTop" fmla="*/ 111600 h 2514600"/>
              <a:gd name="textAreaBottom" fmla="*/ 2403000 h 2514600"/>
            </a:gdLst>
            <a:ahLst/>
            <a:rect l="textAreaLeft" t="textAreaTop" r="textAreaRight" b="textAreaBottom"/>
            <a:pathLst>
              <a:path w="21600" h="29698">
                <a:moveTo>
                  <a:pt x="0" y="0"/>
                </a:moveTo>
                <a:lnTo>
                  <a:pt x="21600" y="0"/>
                </a:lnTo>
                <a:lnTo>
                  <a:pt x="21600" y="29698"/>
                </a:lnTo>
                <a:lnTo>
                  <a:pt x="0" y="29698"/>
                </a:lnTo>
                <a:close/>
              </a:path>
              <a:path fill="lightenLess" w="21600" h="29698">
                <a:moveTo>
                  <a:pt x="0" y="0"/>
                </a:moveTo>
                <a:lnTo>
                  <a:pt x="21600" y="0"/>
                </a:lnTo>
                <a:lnTo>
                  <a:pt x="20278" y="1322"/>
                </a:lnTo>
                <a:lnTo>
                  <a:pt x="1322" y="1322"/>
                </a:lnTo>
                <a:close/>
              </a:path>
              <a:path fill="darken" w="21600" h="29698">
                <a:moveTo>
                  <a:pt x="21600" y="0"/>
                </a:moveTo>
                <a:lnTo>
                  <a:pt x="21600" y="29698"/>
                </a:lnTo>
                <a:lnTo>
                  <a:pt x="20278" y="28376"/>
                </a:lnTo>
                <a:lnTo>
                  <a:pt x="20278" y="1322"/>
                </a:lnTo>
                <a:close/>
              </a:path>
              <a:path fill="darkenLess" w="21600" h="29698">
                <a:moveTo>
                  <a:pt x="21600" y="29698"/>
                </a:moveTo>
                <a:lnTo>
                  <a:pt x="0" y="29698"/>
                </a:lnTo>
                <a:lnTo>
                  <a:pt x="1322" y="28376"/>
                </a:lnTo>
                <a:lnTo>
                  <a:pt x="20278" y="28376"/>
                </a:lnTo>
                <a:close/>
              </a:path>
              <a:path fill="lighten" w="21600" h="29698">
                <a:moveTo>
                  <a:pt x="0" y="29698"/>
                </a:moveTo>
                <a:lnTo>
                  <a:pt x="0" y="0"/>
                </a:lnTo>
                <a:lnTo>
                  <a:pt x="1322" y="1322"/>
                </a:lnTo>
                <a:lnTo>
                  <a:pt x="1322" y="28376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737"/>
              </a:spcBef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Book Antiqua"/>
              </a:rPr>
              <a:t>To determine the winner and the score for each game we used two crite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17840" y="221616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cal win/loss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21080" y="4330800"/>
            <a:ext cx="211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F local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difference between local and vis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2080" y="1523880"/>
            <a:ext cx="196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60880" y="1836720"/>
            <a:ext cx="12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416720" y="2089080"/>
          <a:ext cx="1447920" cy="72864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6918120" y="1523880"/>
            <a:ext cx="17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1836720"/>
            <a:ext cx="12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11880" y="2235240"/>
            <a:ext cx="812880" cy="304920"/>
          </a:xfrm>
          <a:prstGeom prst="leftRightArrow">
            <a:avLst>
              <a:gd name="adj1" fmla="val 50000"/>
              <a:gd name="adj2" fmla="val 530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1880" y="4495680"/>
            <a:ext cx="812880" cy="304920"/>
          </a:xfrm>
          <a:prstGeom prst="leftRightArrow">
            <a:avLst>
              <a:gd name="adj1" fmla="val 50000"/>
              <a:gd name="adj2" fmla="val 530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5960" y="4483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c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86240" y="5999040"/>
            <a:ext cx="37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0021"/>
                </a:solidFill>
                <a:latin typeface="Arial"/>
              </a:rPr>
              <a:t>For all simulations we used 1,000 trials in Crystal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OUP STAGE – RANK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1041480" y="1104480"/>
            <a:ext cx="1218960" cy="19814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5462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Total Accumulated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965160" y="1981080"/>
            <a:ext cx="1371600" cy="19814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965160" y="2971800"/>
            <a:ext cx="1371600" cy="19814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965160" y="3962160"/>
            <a:ext cx="1371600" cy="19814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755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Goal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778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Goals in Fav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7242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Longest UEFA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1523880"/>
            <a:ext cx="55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 2 teams advance to Round of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2362320"/>
            <a:ext cx="55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ase of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i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ccumulated poi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team with the bigges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al differ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dvances to Round of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505320"/>
            <a:ext cx="55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ase of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i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al differ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team with the mos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als in fav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dvances to Round of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4572000"/>
            <a:ext cx="55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ase of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i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als in fav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team with the bigges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ngest UEFA experi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dvances to Round of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-OFF S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38360" y="124920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480" y="1173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" y="14875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480" y="180180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480" y="21178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480" y="24321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480" y="27478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480" y="33764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006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480" y="30621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480" y="36925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2288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463716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9514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5581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58975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26716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38360" y="18795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38360" y="25113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38360" y="31431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38360" y="37735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38360" y="44053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38360" y="56689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38360" y="50371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34440" y="131292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4440" y="194148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34800" y="25718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4800" y="32018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4440" y="383220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5160" y="44625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34800" y="50911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4800" y="57214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86280" y="141444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26719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86280" y="392904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86280" y="51865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46080" y="166212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46440" y="29210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46440" y="418140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46080" y="544032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44920" y="1782720"/>
            <a:ext cx="139680" cy="1219320"/>
          </a:xfrm>
          <a:custGeom>
            <a:avLst/>
            <a:gdLst>
              <a:gd name="textAreaLeft" fmla="*/ 0 w 139680"/>
              <a:gd name="textAreaRight" fmla="*/ 50400 w 1396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44920" y="4309920"/>
            <a:ext cx="139680" cy="1219320"/>
          </a:xfrm>
          <a:custGeom>
            <a:avLst/>
            <a:gdLst>
              <a:gd name="textAreaLeft" fmla="*/ 0 w 139680"/>
              <a:gd name="textAreaRight" fmla="*/ 50400 w 1396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6600" y="22478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is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6600" y="47671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i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31000" y="2392200"/>
            <a:ext cx="304560" cy="2514600"/>
          </a:xfrm>
          <a:custGeom>
            <a:avLst/>
            <a:gdLst>
              <a:gd name="textAreaLeft" fmla="*/ 0 w 304560"/>
              <a:gd name="textAreaRight" fmla="*/ 109800 w 3045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715080" y="2782800"/>
            <a:ext cx="1819440" cy="1819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Round of 16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22480" y="731880"/>
            <a:ext cx="1284120" cy="274680"/>
          </a:xfrm>
          <a:custGeom>
            <a:avLst/>
            <a:gdLst>
              <a:gd name="textAreaLeft" fmla="*/ 31320 w 1284120"/>
              <a:gd name="textAreaRight" fmla="*/ 1252800 w 128412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875" h="21600">
                <a:moveTo>
                  <a:pt x="0" y="0"/>
                </a:moveTo>
                <a:lnTo>
                  <a:pt x="100875" y="0"/>
                </a:lnTo>
                <a:lnTo>
                  <a:pt x="100875" y="21600"/>
                </a:lnTo>
                <a:lnTo>
                  <a:pt x="0" y="21600"/>
                </a:lnTo>
                <a:close/>
              </a:path>
              <a:path fill="lightenLess" w="100875" h="21600">
                <a:moveTo>
                  <a:pt x="0" y="0"/>
                </a:moveTo>
                <a:lnTo>
                  <a:pt x="100875" y="0"/>
                </a:lnTo>
                <a:lnTo>
                  <a:pt x="98409" y="2467"/>
                </a:lnTo>
                <a:lnTo>
                  <a:pt x="2467" y="2467"/>
                </a:lnTo>
                <a:close/>
              </a:path>
              <a:path fill="darken" w="100875" h="21600">
                <a:moveTo>
                  <a:pt x="100875" y="0"/>
                </a:moveTo>
                <a:lnTo>
                  <a:pt x="100875" y="21600"/>
                </a:lnTo>
                <a:lnTo>
                  <a:pt x="98409" y="19133"/>
                </a:lnTo>
                <a:lnTo>
                  <a:pt x="98409" y="2467"/>
                </a:lnTo>
                <a:close/>
              </a:path>
              <a:path fill="darkenLess" w="100875" h="21600">
                <a:moveTo>
                  <a:pt x="100875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09" y="19133"/>
                </a:lnTo>
                <a:close/>
              </a:path>
              <a:path fill="lighten" w="100875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Quarter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692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Semi-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5136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86000" y="2928960"/>
            <a:ext cx="640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90520" y="2279520"/>
            <a:ext cx="8790120" cy="241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OUP STAGE – SIMULATION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OUP STAGE – SAMP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61840" y="990720"/>
            <a:ext cx="8282160" cy="1738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flipV="1">
            <a:off x="914400" y="3123360"/>
            <a:ext cx="4495680" cy="3812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2480" y="4011480"/>
            <a:ext cx="49006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 OFF ROUNDS – SIMULATION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7696080" cy="29926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H="1">
            <a:off x="3073320" y="3564000"/>
            <a:ext cx="6098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171840" y="3449520"/>
            <a:ext cx="6094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Barça emble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07160" y="1347840"/>
            <a:ext cx="1203120" cy="1219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981080" y="1219320"/>
            <a:ext cx="1016280" cy="1371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024080" y="16398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 OFF ROUNDS – SAMP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68200" y="3595680"/>
            <a:ext cx="8672760" cy="1687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Barça emble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07160" y="1347840"/>
            <a:ext cx="1203120" cy="12193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981080" y="1219320"/>
            <a:ext cx="1016280" cy="13716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024080" y="16398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 OFF ROUNDS – SAMP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8920" y="419040"/>
            <a:ext cx="86742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1080" y="2070000"/>
            <a:ext cx="6400800" cy="2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The UEFA Champions Lea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Problem Formulation an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Simulat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Q&amp;A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 OFF ROUNDS – SAMP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62760" cy="33620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930320" y="172728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an Frequency Hist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-OFF S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38360" y="124920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173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9800" y="148752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00" y="18018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c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9800" y="21178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9800" y="243216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1600" y="2747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1240" y="337644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40068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9800" y="30621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1600" y="36925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240" y="4322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520" y="4637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160" y="49514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Mad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1960" y="55818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58975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1960" y="52671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38360" y="18795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38360" y="25113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38360" y="314316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38360" y="37735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38360" y="44053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38360" y="56689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38360" y="5037120"/>
            <a:ext cx="76320" cy="393840"/>
          </a:xfrm>
          <a:custGeom>
            <a:avLst/>
            <a:gdLst>
              <a:gd name="textAreaLeft" fmla="*/ 0 w 76320"/>
              <a:gd name="textAreaRight" fmla="*/ 27360 w 7632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32280" y="131292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32640" y="19414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32640" y="257184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32640" y="320184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38322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34080" y="446256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4440" y="5091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34440" y="5721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86280" y="141444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86280" y="26719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86280" y="392904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86280" y="51865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43920" y="166212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43920" y="292104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5360" y="418140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45720" y="54403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44920" y="1782720"/>
            <a:ext cx="139680" cy="1219320"/>
          </a:xfrm>
          <a:custGeom>
            <a:avLst/>
            <a:gdLst>
              <a:gd name="textAreaLeft" fmla="*/ 0 w 139680"/>
              <a:gd name="textAreaRight" fmla="*/ 50400 w 1396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44920" y="4309920"/>
            <a:ext cx="139680" cy="1219320"/>
          </a:xfrm>
          <a:custGeom>
            <a:avLst/>
            <a:gdLst>
              <a:gd name="textAreaLeft" fmla="*/ 0 w 139680"/>
              <a:gd name="textAreaRight" fmla="*/ 50400 w 1396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160" y="224784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07320" y="4767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31000" y="2392200"/>
            <a:ext cx="304560" cy="2514600"/>
          </a:xfrm>
          <a:custGeom>
            <a:avLst/>
            <a:gdLst>
              <a:gd name="textAreaLeft" fmla="*/ 0 w 304560"/>
              <a:gd name="textAreaRight" fmla="*/ 109800 w 3045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Round of 16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22480" y="731880"/>
            <a:ext cx="1284120" cy="274680"/>
          </a:xfrm>
          <a:custGeom>
            <a:avLst/>
            <a:gdLst>
              <a:gd name="textAreaLeft" fmla="*/ 31320 w 1284120"/>
              <a:gd name="textAreaRight" fmla="*/ 1252800 w 128412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875" h="21600">
                <a:moveTo>
                  <a:pt x="0" y="0"/>
                </a:moveTo>
                <a:lnTo>
                  <a:pt x="100875" y="0"/>
                </a:lnTo>
                <a:lnTo>
                  <a:pt x="100875" y="21600"/>
                </a:lnTo>
                <a:lnTo>
                  <a:pt x="0" y="21600"/>
                </a:lnTo>
                <a:close/>
              </a:path>
              <a:path fill="lightenLess" w="100875" h="21600">
                <a:moveTo>
                  <a:pt x="0" y="0"/>
                </a:moveTo>
                <a:lnTo>
                  <a:pt x="100875" y="0"/>
                </a:lnTo>
                <a:lnTo>
                  <a:pt x="98409" y="2467"/>
                </a:lnTo>
                <a:lnTo>
                  <a:pt x="2467" y="2467"/>
                </a:lnTo>
                <a:close/>
              </a:path>
              <a:path fill="darken" w="100875" h="21600">
                <a:moveTo>
                  <a:pt x="100875" y="0"/>
                </a:moveTo>
                <a:lnTo>
                  <a:pt x="100875" y="21600"/>
                </a:lnTo>
                <a:lnTo>
                  <a:pt x="98409" y="19133"/>
                </a:lnTo>
                <a:lnTo>
                  <a:pt x="98409" y="2467"/>
                </a:lnTo>
                <a:close/>
              </a:path>
              <a:path fill="darkenLess" w="100875" h="21600">
                <a:moveTo>
                  <a:pt x="100875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09" y="19133"/>
                </a:lnTo>
                <a:close/>
              </a:path>
              <a:path fill="lighten" w="100875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Quarter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3692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Semi-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51360" y="731880"/>
            <a:ext cx="1284480" cy="274680"/>
          </a:xfrm>
          <a:custGeom>
            <a:avLst/>
            <a:gdLst>
              <a:gd name="textAreaLeft" fmla="*/ 31320 w 1284480"/>
              <a:gd name="textAreaRight" fmla="*/ 1253160 w 1284480"/>
              <a:gd name="textAreaTop" fmla="*/ 31320 h 274680"/>
              <a:gd name="textAreaBottom" fmla="*/ 243360 h 274680"/>
            </a:gdLst>
            <a:ahLst/>
            <a:rect l="textAreaLeft" t="textAreaTop" r="textAreaRight" b="textAreaBottom"/>
            <a:pathLst>
              <a:path w="100904" h="21600">
                <a:moveTo>
                  <a:pt x="0" y="0"/>
                </a:moveTo>
                <a:lnTo>
                  <a:pt x="100904" y="0"/>
                </a:lnTo>
                <a:lnTo>
                  <a:pt x="100904" y="21600"/>
                </a:lnTo>
                <a:lnTo>
                  <a:pt x="0" y="21600"/>
                </a:lnTo>
                <a:close/>
              </a:path>
              <a:path fill="lightenLess" w="100904" h="21600">
                <a:moveTo>
                  <a:pt x="0" y="0"/>
                </a:moveTo>
                <a:lnTo>
                  <a:pt x="100904" y="0"/>
                </a:lnTo>
                <a:lnTo>
                  <a:pt x="98437" y="2467"/>
                </a:lnTo>
                <a:lnTo>
                  <a:pt x="2467" y="2467"/>
                </a:lnTo>
                <a:close/>
              </a:path>
              <a:path fill="darken" w="100904" h="21600">
                <a:moveTo>
                  <a:pt x="100904" y="0"/>
                </a:moveTo>
                <a:lnTo>
                  <a:pt x="100904" y="21600"/>
                </a:lnTo>
                <a:lnTo>
                  <a:pt x="98437" y="19133"/>
                </a:lnTo>
                <a:lnTo>
                  <a:pt x="98437" y="2467"/>
                </a:lnTo>
                <a:close/>
              </a:path>
              <a:path fill="darkenLess" w="100904" h="21600">
                <a:moveTo>
                  <a:pt x="100904" y="21600"/>
                </a:moveTo>
                <a:lnTo>
                  <a:pt x="0" y="21600"/>
                </a:lnTo>
                <a:lnTo>
                  <a:pt x="2467" y="19133"/>
                </a:lnTo>
                <a:lnTo>
                  <a:pt x="98437" y="19133"/>
                </a:lnTo>
                <a:close/>
              </a:path>
              <a:path fill="lighten" w="100904" h="21600">
                <a:moveTo>
                  <a:pt x="0" y="21600"/>
                </a:moveTo>
                <a:lnTo>
                  <a:pt x="0" y="0"/>
                </a:lnTo>
                <a:lnTo>
                  <a:pt x="2467" y="2467"/>
                </a:lnTo>
                <a:lnTo>
                  <a:pt x="2467" y="19133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Book Antiqua"/>
              </a:rPr>
              <a:t>F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17000" y="46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an A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781680" y="26668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781680" y="1371600"/>
            <a:ext cx="1676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006 –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EFA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KNOCK-OFF S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0" y="2928960"/>
            <a:ext cx="640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Q&amp;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0" y="2928960"/>
            <a:ext cx="64008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The UEFA Champions League</a:t>
            </a: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4600" y="762120"/>
            <a:ext cx="29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European Lea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22234" t="55210" r="70250" b="34375"/>
          <a:stretch/>
        </p:blipFill>
        <p:spPr>
          <a:xfrm>
            <a:off x="839880" y="3235320"/>
            <a:ext cx="73476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1721" t="43481" r="81254" b="46877"/>
          <a:stretch/>
        </p:blipFill>
        <p:spPr>
          <a:xfrm>
            <a:off x="838080" y="2235240"/>
            <a:ext cx="73836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12500" t="43752" r="81254" b="45834"/>
          <a:stretch/>
        </p:blipFill>
        <p:spPr>
          <a:xfrm>
            <a:off x="901800" y="1235160"/>
            <a:ext cx="610920" cy="76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11721" t="43752" r="80472" b="45834"/>
          <a:stretch/>
        </p:blipFill>
        <p:spPr>
          <a:xfrm>
            <a:off x="888840" y="42354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rcRect l="12500" t="43752" r="81254" b="46877"/>
          <a:stretch/>
        </p:blipFill>
        <p:spPr>
          <a:xfrm>
            <a:off x="896760" y="5108400"/>
            <a:ext cx="621000" cy="698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10825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362320" y="2616120"/>
            <a:ext cx="1819080" cy="1819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81080" y="1666800"/>
            <a:ext cx="381240" cy="3733920"/>
          </a:xfrm>
          <a:custGeom>
            <a:avLst/>
            <a:gdLst>
              <a:gd name="textAreaLeft" fmla="*/ 0 w 381240"/>
              <a:gd name="textAreaRight" fmla="*/ 137520 w 38124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21880" y="762120"/>
            <a:ext cx="15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27720" y="1082520"/>
            <a:ext cx="4159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QUALIFYING SCHEME FOR INDIVIDUAL CLU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1219320"/>
            <a:ext cx="46483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Main Group Qualifiers (1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Previous year champ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League champions and runners-up of top 6 UEFA country ranking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League champions ranked (UEFA) 7-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Outside Qualifiers (1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Q1: League champions ranked between 26-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Q2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Q1 Winn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League champions of countries ranked 16-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Runners-Up of countries ranked 10-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Q3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Q2 Winn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League champions of countries ranked 10-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Runner-Up of countries ranked 7-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100000"/>
              </a:lnSpc>
              <a:spcBef>
                <a:spcPts val="326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Selected 3</a:t>
            </a:r>
            <a:r>
              <a:rPr b="0" lang="en-US" sz="1300" spc="-1" strike="noStrike" baseline="30000">
                <a:solidFill>
                  <a:srgbClr val="000000"/>
                </a:solidFill>
                <a:latin typeface="Book Antiqua"/>
              </a:rPr>
              <a:t>rd</a:t>
            </a: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/4</a:t>
            </a:r>
            <a:r>
              <a:rPr b="0" lang="en-US" sz="13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1300" spc="-1" strike="noStrike">
                <a:solidFill>
                  <a:srgbClr val="000000"/>
                </a:solidFill>
                <a:latin typeface="Book Antiqua"/>
              </a:rPr>
              <a:t> ranked club from top 6 UEFA country ranking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7200" y="1310400"/>
            <a:ext cx="228600" cy="4343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DIVIDUAL CL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E CHAMPIONSHIP’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0800" y="1528920"/>
            <a:ext cx="177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Group 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6240" y="1841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7560" y="152892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Knock-Out R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5440" y="1841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43880" y="15289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841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814040" y="3228840"/>
            <a:ext cx="274320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009880"/>
            <a:ext cx="289584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hirty two (32)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Eight (8) groups of four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ound-robin group matches (home and away form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Group Winners and Runners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52760" y="2009880"/>
            <a:ext cx="259092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een (16)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A draw decides first ma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Home and away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eams that score greater aggregate of goal adv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227" t="2654" r="3221" b="7048"/>
          <a:stretch/>
        </p:blipFill>
        <p:spPr>
          <a:xfrm>
            <a:off x="6824520" y="1995480"/>
            <a:ext cx="2124360" cy="2895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5400000">
            <a:off x="4800600" y="3229200"/>
            <a:ext cx="2743200" cy="30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ORMER CHAMP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Barça emble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5960" y="3024360"/>
            <a:ext cx="1203480" cy="1218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16200000">
            <a:off x="4197960" y="-2659680"/>
            <a:ext cx="914400" cy="8977320"/>
          </a:xfrm>
          <a:prstGeom prst="downArrow">
            <a:avLst>
              <a:gd name="adj1" fmla="val 37852"/>
              <a:gd name="adj2" fmla="val -47671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452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5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4600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4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7784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3/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0932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2/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5776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1/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81120" y="2895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699080" y="2800440"/>
            <a:ext cx="1092240" cy="1471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279600" y="2895480"/>
            <a:ext cx="101628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210960" y="2833560"/>
            <a:ext cx="966960" cy="133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148160" y="1654200"/>
            <a:ext cx="187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006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27440" y="2630520"/>
            <a:ext cx="16488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333399"/>
                </a:solidFill>
                <a:latin typeface="Book Antiqua"/>
              </a:rPr>
              <a:t>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0" y="2928960"/>
            <a:ext cx="640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89120" y="2590920"/>
            <a:ext cx="6019920" cy="1218960"/>
          </a:xfrm>
          <a:custGeom>
            <a:avLst/>
            <a:gdLst>
              <a:gd name="textAreaLeft" fmla="*/ 74520 w 6019920"/>
              <a:gd name="textAreaRight" fmla="*/ 5945400 w 6019920"/>
              <a:gd name="textAreaTop" fmla="*/ 74520 h 1218960"/>
              <a:gd name="textAreaBottom" fmla="*/ 1144440 h 1218960"/>
            </a:gdLst>
            <a:ahLst/>
            <a:rect l="textAreaLeft" t="textAreaTop" r="textAreaRight" b="textAreaBottom"/>
            <a:pathLst>
              <a:path w="106648" h="21600">
                <a:moveTo>
                  <a:pt x="0" y="0"/>
                </a:moveTo>
                <a:lnTo>
                  <a:pt x="106648" y="0"/>
                </a:lnTo>
                <a:lnTo>
                  <a:pt x="106648" y="21600"/>
                </a:lnTo>
                <a:lnTo>
                  <a:pt x="0" y="21600"/>
                </a:lnTo>
                <a:close/>
              </a:path>
              <a:path fill="lightenLess" w="106648" h="21600">
                <a:moveTo>
                  <a:pt x="0" y="0"/>
                </a:moveTo>
                <a:lnTo>
                  <a:pt x="106648" y="0"/>
                </a:lnTo>
                <a:lnTo>
                  <a:pt x="105326" y="1322"/>
                </a:lnTo>
                <a:lnTo>
                  <a:pt x="1322" y="1322"/>
                </a:lnTo>
                <a:close/>
              </a:path>
              <a:path fill="darken" w="106648" h="21600">
                <a:moveTo>
                  <a:pt x="106648" y="0"/>
                </a:moveTo>
                <a:lnTo>
                  <a:pt x="106648" y="21600"/>
                </a:lnTo>
                <a:lnTo>
                  <a:pt x="105326" y="20278"/>
                </a:lnTo>
                <a:lnTo>
                  <a:pt x="105326" y="1322"/>
                </a:lnTo>
                <a:close/>
              </a:path>
              <a:path fill="darkenLess" w="106648" h="21600">
                <a:moveTo>
                  <a:pt x="106648" y="21600"/>
                </a:moveTo>
                <a:lnTo>
                  <a:pt x="0" y="21600"/>
                </a:lnTo>
                <a:lnTo>
                  <a:pt x="1322" y="20278"/>
                </a:lnTo>
                <a:lnTo>
                  <a:pt x="105326" y="20278"/>
                </a:lnTo>
                <a:close/>
              </a:path>
              <a:path fill="lighten" w="106648" h="21600">
                <a:moveTo>
                  <a:pt x="0" y="21600"/>
                </a:moveTo>
                <a:lnTo>
                  <a:pt x="0" y="0"/>
                </a:lnTo>
                <a:lnTo>
                  <a:pt x="1322" y="1322"/>
                </a:lnTo>
                <a:lnTo>
                  <a:pt x="1322" y="20278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737"/>
              </a:spcBef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Book Antiqua"/>
              </a:rPr>
              <a:t>Determine the expected UEFA Champions League </a:t>
            </a:r>
            <a:r>
              <a:rPr b="1" lang="en-GB" sz="1700" spc="-1" strike="noStrike" u="sng">
                <a:solidFill>
                  <a:srgbClr val="ffffff"/>
                </a:solidFill>
                <a:uFillTx/>
                <a:latin typeface="Book Antiqua"/>
              </a:rPr>
              <a:t>WINNER</a:t>
            </a:r>
            <a:r>
              <a:rPr b="1" lang="en-GB" sz="1700" spc="-1" strike="noStrike">
                <a:solidFill>
                  <a:srgbClr val="ffffff"/>
                </a:solidFill>
                <a:latin typeface="Book Antiqua"/>
              </a:rPr>
              <a:t> of this year based on 50 years of hist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520" y="16524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JECT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2928960"/>
            <a:ext cx="640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 Antiqua"/>
                <a:ea typeface="ＭＳ Ｐゴシック"/>
              </a:rPr>
              <a:t>Problem Formulation and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6:40:28Z</dcterms:created>
  <dc:creator>NYU Stern School of Business</dc:creator>
  <dc:description/>
  <dc:language>en-US</dc:language>
  <cp:lastModifiedBy>Rodrigo Cordova</cp:lastModifiedBy>
  <dcterms:modified xsi:type="dcterms:W3CDTF">2007-05-03T21:32:16Z</dcterms:modified>
  <cp:revision>32</cp:revision>
  <dc:subject/>
  <dc:title>Slide 1</dc:title>
</cp:coreProperties>
</file>