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B64-F101-4193-B03E-5E0E1B65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CDDA-EBA6-4FBA-BC3E-43EA01E7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20D-B669-4918-9570-FEF4BCF7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630E-7799-4490-8833-093B6419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F929-A978-4751-90D7-DA16ED7D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F162-2E49-46A0-850A-D054C02C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FA25-68C9-40C4-A700-909EE000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C08C-7DE9-4FCB-A410-8A3D7A0E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429B-F869-4AA4-9D86-B10DA9D8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592D-04B4-4789-83AB-632098BA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633D-C08B-4569-88E3-E84A6738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1397-F950-4D4A-B5D9-CC579602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E367-C826-427D-8436-A326BF55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B57F-7AB9-43A6-9EEF-4B17131E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80EF-8765-47F5-ADAC-4E405B0C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16C0-36C9-4255-9237-BA9A2220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D3E3-4746-4D02-B75C-170FFE08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8A4-EF0D-4FFA-8940-F08F2846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A1F-7123-4F6B-8BAE-D910F5DD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3173-DBA3-4ECE-A632-8C888975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7992-BFF2-49C1-8794-C2F14756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5691-C7B0-49E0-B276-28018464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47A-1A81-4D04-BCBF-D3B2AB99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53E-A1D8-44B4-8855-C992B2E8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2245-E5E5-4B64-8BD5-DAFF4E397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4B02-68B0-4F39-AB43-F0158A32F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ing the Gamble out of Fantasy 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3276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nnifer K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g 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ril Marti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y Weinb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By Greg L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3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200400" cy="2590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8226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" y="5711760"/>
            <a:ext cx="8226360" cy="914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504960" y="1762200"/>
            <a:ext cx="43812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19560" y="1828800"/>
            <a:ext cx="571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467120" y="3514680"/>
            <a:ext cx="438120" cy="67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912960" y="1444680"/>
            <a:ext cx="73134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" y="5711760"/>
            <a:ext cx="8226360" cy="914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914400" y="1447920"/>
            <a:ext cx="7313760" cy="4343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H="1">
            <a:off x="3504960" y="1762200"/>
            <a:ext cx="43812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019560" y="1828800"/>
            <a:ext cx="571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7467120" y="3514680"/>
            <a:ext cx="438120" cy="67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r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396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Te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8226360" cy="914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838080" y="2212920"/>
            <a:ext cx="3429000" cy="3278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724280" y="1600200"/>
            <a:ext cx="3962520" cy="396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expected, players selected were those with the highest difference between calculated value and expec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worthy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ary s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alty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8226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It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decis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unnecessary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 solver to different worksheet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alty function can be a useful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8226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8991720" cy="5867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7920" y="3580920"/>
            <a:ext cx="6324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Se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r Model &amp;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 &amp; Lessons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8226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one draft the optimal fantasy baseball te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8226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gue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 Players per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Lineup Requirements: C, 1B, 2B, SS, 3B, 3 OF, 1 U, 7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ction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60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8226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 statistical proj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projected statistics into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normalized metric to compare players across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value based on this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ected cost for each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 total team value given budget and positional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8226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G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projections for 1850 p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depth charts with expected play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ra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position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ag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ailing market values from leading fantasy baseball websites &amp; magaz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8226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Deter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projections into points based on leagu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expected points over replacement player (PORP) for each player 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s value across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for other factors (health, free agent status, etc.) – APO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dollar value based on APO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8226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et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maximize points generated by team, subject to budget and roster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arget players with the greatest difference between calculated dollar value and expec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3 roster spots and $10 free for players with poor projections but high upside (option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8226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" y="5711760"/>
            <a:ext cx="8226360" cy="914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504960" y="1762200"/>
            <a:ext cx="43812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019560" y="1828800"/>
            <a:ext cx="571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912960" y="1442880"/>
            <a:ext cx="612432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19:59:51Z</dcterms:created>
  <dc:creator>JW</dc:creator>
  <dc:description/>
  <dc:language>en-US</dc:language>
  <cp:lastModifiedBy>Gregory R. Lee</cp:lastModifiedBy>
  <dcterms:modified xsi:type="dcterms:W3CDTF">2007-04-20T16:35:20Z</dcterms:modified>
  <cp:revision>14</cp:revision>
  <dc:subject/>
  <dc:title>Taking the Gamble out of Fantasy Baseball</dc:title>
</cp:coreProperties>
</file>