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B25-21FD-453B-9508-A54753E7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es are based on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siness Cl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 offers cheap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tour: select eight other NBA teams: Might be cost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…China Tour: Bejing, Shanghai, Hong K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54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ing-day rosters, or 12.2% of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ccess of Dirk Nowitzki, Pau Gasol and Peja Stojakovic has convinc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eams 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an do more than just shoot and pass, they can attract international endors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x of foreign players can restore NBA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flux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may never have been more talent in the league than there is now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12A-8805-4642-A0FF-0481FFDB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A8-97F6-4CD8-ADD5-BFB8A3E7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A2C-8D15-467D-BB69-DF15EBEA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821-2AB5-4872-AD27-6569ABD9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2CA-6465-4C3D-BDB3-F38F1AFF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D35-7CA1-42D3-AFFB-17A7E273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5D3-764D-4E02-8E53-58F8037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A56-806B-47BA-BC8A-8BDE19BB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BD1-C794-4C05-AACC-B52539A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6C3-0350-49D6-AB67-8B0B961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0CB-066F-494A-B7D3-7027537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56E-7937-4294-AA04-2B70D004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D22-732D-4235-B767-CAFB5E396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24"/>
          <p:cNvSpPr/>
          <p:nvPr/>
        </p:nvSpPr>
        <p:spPr>
          <a:xfrm rot="10800000">
            <a:off x="0" y="6553080"/>
            <a:ext cx="914400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nba_logo.gif"/>
          <p:cNvPicPr/>
          <p:nvPr/>
        </p:nvPicPr>
        <p:blipFill>
          <a:blip r:embed="rId2"/>
          <a:stretch/>
        </p:blipFill>
        <p:spPr>
          <a:xfrm>
            <a:off x="0" y="146160"/>
            <a:ext cx="838080" cy="715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NYU%20Stern%20Logo"/>
          <p:cNvPicPr/>
          <p:nvPr/>
        </p:nvPicPr>
        <p:blipFill>
          <a:blip r:embed="rId3"/>
          <a:stretch/>
        </p:blipFill>
        <p:spPr>
          <a:xfrm>
            <a:off x="8129520" y="147600"/>
            <a:ext cx="81288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9" Type="http://schemas.openxmlformats.org/officeDocument/2006/relationships/image" Target="../media/image20.png"/><Relationship Id="rId10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13" Type="http://schemas.openxmlformats.org/officeDocument/2006/relationships/image" Target="../media/image14.png"/><Relationship Id="rId14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images.google.com/imgres?imgurl=http://www.onlinesports.com/images/lakers.gif&amp;imgrefurl=http://javidel.org/category/sports/basketball/lakers/&amp;h=177&amp;w=216&amp;sz=15&amp;hl=en&amp;start=4&amp;tbnid=dlgfirm2EJXD8M:&amp;tbnh=88&amp;tbnw=107&amp;prev=/images%3Fq%3DLA%2Blakers%26gbv%3D2%26svnum%3D10%26hl%3Den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10" Type="http://schemas.openxmlformats.org/officeDocument/2006/relationships/image" Target="../media/image17.png"/><Relationship Id="rId11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2" Type="http://schemas.openxmlformats.org/officeDocument/2006/relationships/image" Target="../media/image18.png"/><Relationship Id="rId13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14" Type="http://schemas.openxmlformats.org/officeDocument/2006/relationships/image" Target="../media/image19.png"/><Relationship Id="rId15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3" Type="http://schemas.openxmlformats.org/officeDocument/2006/relationships/image" Target="../media/image17.png"/><Relationship Id="rId4" Type="http://schemas.openxmlformats.org/officeDocument/2006/relationships/hyperlink" Target="http://images.google.com/imgres?imgurl=http://www.onlinesports.com/images/lakers.gif&amp;imgrefurl=http://javidel.org/category/sports/basketball/lakers/&amp;h=177&amp;w=216&amp;sz=15&amp;hl=en&amp;start=4&amp;tbnid=dlgfirm2EJXD8M:&amp;tbnh=88&amp;tbnw=107&amp;prev=/images%3Fq%3DLA%2Blakers%26gbv%3D2%26svnum%3D10%26hl%3Den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7" Type="http://schemas.openxmlformats.org/officeDocument/2006/relationships/image" Target="../media/image19.png"/><Relationship Id="rId8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9" Type="http://schemas.openxmlformats.org/officeDocument/2006/relationships/image" Target="../media/image20.png"/><Relationship Id="rId10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4" Type="http://schemas.openxmlformats.org/officeDocument/2006/relationships/image" Target="../media/image18.png"/><Relationship Id="rId15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ounded Rectangle 9"/>
          <p:cNvSpPr/>
          <p:nvPr/>
        </p:nvSpPr>
        <p:spPr>
          <a:xfrm rot="10800000">
            <a:off x="0" y="1669320"/>
            <a:ext cx="91440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JasonHarrisRich400.jpg"/>
          <p:cNvPicPr/>
          <p:nvPr/>
        </p:nvPicPr>
        <p:blipFill>
          <a:blip r:embed="rId1"/>
          <a:stretch/>
        </p:blipFill>
        <p:spPr>
          <a:xfrm>
            <a:off x="3517920" y="1908000"/>
            <a:ext cx="2266920" cy="595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renaside600.jpg"/>
          <p:cNvPicPr/>
          <p:nvPr/>
        </p:nvPicPr>
        <p:blipFill>
          <a:blip r:embed="rId2"/>
          <a:stretch/>
        </p:blipFill>
        <p:spPr>
          <a:xfrm>
            <a:off x="244440" y="1895400"/>
            <a:ext cx="3237120" cy="481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716200" y="251316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teve Armbr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harles Pa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Michael 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ekou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Decision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Professor David J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NYU Leonard N. Stern School of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April 3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539720" y="571680"/>
            <a:ext cx="60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EUROPEAN TOUR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204840" y="50760"/>
            <a:ext cx="42048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nba_logo.gif"/>
          <p:cNvPicPr/>
          <p:nvPr/>
        </p:nvPicPr>
        <p:blipFill>
          <a:blip r:embed="rId3"/>
          <a:srcRect l="22308" t="0" r="24392" b="0"/>
          <a:stretch/>
        </p:blipFill>
        <p:spPr>
          <a:xfrm>
            <a:off x="185760" y="220680"/>
            <a:ext cx="876240" cy="1405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7977240" y="38160"/>
            <a:ext cx="100944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NYU%20Stern%20Logo"/>
          <p:cNvPicPr/>
          <p:nvPr/>
        </p:nvPicPr>
        <p:blipFill>
          <a:blip r:embed="rId4"/>
          <a:stretch/>
        </p:blipFill>
        <p:spPr>
          <a:xfrm>
            <a:off x="7769160" y="395280"/>
            <a:ext cx="12067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Political map of Europe"/>
          <p:cNvPicPr/>
          <p:nvPr/>
        </p:nvPicPr>
        <p:blipFill>
          <a:blip r:embed="rId1"/>
          <a:srcRect l="12420" t="54184" r="32003" b="16854"/>
          <a:stretch/>
        </p:blipFill>
        <p:spPr>
          <a:xfrm>
            <a:off x="896760" y="1792440"/>
            <a:ext cx="7099560" cy="458460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2"/>
          <p:cNvSpPr/>
          <p:nvPr/>
        </p:nvSpPr>
        <p:spPr>
          <a:xfrm>
            <a:off x="9651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546120" y="5189400"/>
            <a:ext cx="1874880" cy="838440"/>
            <a:chOff x="546120" y="5189400"/>
            <a:chExt cx="1874880" cy="838440"/>
          </a:xfrm>
        </p:grpSpPr>
        <p:pic>
          <p:nvPicPr>
            <p:cNvPr id="136" name="Picture 6" descr="Golden_State_Warrior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46120" y="5194440"/>
              <a:ext cx="84924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lakers"/>
            <p:cNvPicPr/>
            <p:nvPr/>
          </p:nvPicPr>
          <p:blipFill>
            <a:blip r:embed="rId4"/>
            <a:stretch/>
          </p:blipFill>
          <p:spPr>
            <a:xfrm>
              <a:off x="1401840" y="5189400"/>
              <a:ext cx="10191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18"/>
          <p:cNvGrpSpPr/>
          <p:nvPr/>
        </p:nvGrpSpPr>
        <p:grpSpPr>
          <a:xfrm>
            <a:off x="2986200" y="1968480"/>
            <a:ext cx="1962000" cy="830160"/>
            <a:chOff x="2986200" y="1968480"/>
            <a:chExt cx="1962000" cy="830160"/>
          </a:xfrm>
        </p:grpSpPr>
        <p:pic>
          <p:nvPicPr>
            <p:cNvPr id="139" name="Picture 8" descr="san_antonio_spurs30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986200" y="2079360"/>
              <a:ext cx="100476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1" descr="knicks_accountmanager_hdr"/>
            <p:cNvPicPr/>
            <p:nvPr/>
          </p:nvPicPr>
          <p:blipFill>
            <a:blip r:embed="rId7"/>
            <a:srcRect l="18238" t="24220" r="18120" b="0"/>
            <a:stretch/>
          </p:blipFill>
          <p:spPr>
            <a:xfrm>
              <a:off x="3978360" y="1968480"/>
              <a:ext cx="96984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6"/>
          <p:cNvGrpSpPr/>
          <p:nvPr/>
        </p:nvGrpSpPr>
        <p:grpSpPr>
          <a:xfrm>
            <a:off x="5978520" y="4886280"/>
            <a:ext cx="1636200" cy="817560"/>
            <a:chOff x="5978520" y="4886280"/>
            <a:chExt cx="1636200" cy="817560"/>
          </a:xfrm>
        </p:grpSpPr>
        <p:pic>
          <p:nvPicPr>
            <p:cNvPr id="142" name="Picture 9" descr="Detroit_Pistons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797520" y="4886280"/>
              <a:ext cx="8172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Dallas%2520Mavericks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978520" y="4896000"/>
              <a:ext cx="75708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7"/>
          <p:cNvGrpSpPr/>
          <p:nvPr/>
        </p:nvGrpSpPr>
        <p:grpSpPr>
          <a:xfrm>
            <a:off x="6361200" y="2206800"/>
            <a:ext cx="1550880" cy="1056960"/>
            <a:chOff x="6361200" y="2206800"/>
            <a:chExt cx="1550880" cy="1056960"/>
          </a:xfrm>
        </p:grpSpPr>
        <p:pic>
          <p:nvPicPr>
            <p:cNvPr id="145" name="Picture 10" descr="chicago%2520bulls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361200" y="2349360"/>
              <a:ext cx="7398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3" descr="945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7159680" y="2206800"/>
              <a:ext cx="752400" cy="10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5 0.00602 L -0.29375 -0.45 E">
                                      <p:cBhvr>
                                        <p:cTn id="1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51852E-006 L 0.31962 0.41945 E">
                                      <p:cBhvr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5434E-006 L 0.62899 -0.42659 E">
                                      <p:cBhvr>
                                        <p:cTn id="11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00695 L -0.57917 0.40694 E">
                                      <p:cBhvr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75 -0.44994 L 0.07396 -0.37318 E">
                                      <p:cBhvr>
                                        <p:cTn id="12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62 0.41942 L -0.26475 0.47468 E">
                                      <p:cBhvr>
                                        <p:cTn id="12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-0.4259 L 0.27795 -0.47122 E">
                                      <p:cBhvr>
                                        <p:cTn id="12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916 0.40694 L -0.03107 0.37434 E">
                                      <p:cBhvr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2 -0.38081 L -0.58281 0.05272 E">
                                      <p:cBhvr>
                                        <p:cTn id="13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63 0.45827 L 0.37448 0.04486 E">
                                      <p:cBhvr>
                                        <p:cTn id="13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3 -0.49572 L 0.60174 -0.0185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0.36809 L -0.33611 -0.06774 E">
                                      <p:cBhvr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2"/>
          <p:cNvSpPr/>
          <p:nvPr/>
        </p:nvSpPr>
        <p:spPr>
          <a:xfrm>
            <a:off x="9525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4" descr=""/>
          <p:cNvPicPr/>
          <p:nvPr/>
        </p:nvPicPr>
        <p:blipFill>
          <a:blip r:embed="rId1"/>
          <a:stretch/>
        </p:blipFill>
        <p:spPr>
          <a:xfrm>
            <a:off x="200160" y="2379600"/>
            <a:ext cx="874548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55"/>
          <p:cNvSpPr/>
          <p:nvPr/>
        </p:nvSpPr>
        <p:spPr>
          <a:xfrm>
            <a:off x="2730600" y="4848120"/>
            <a:ext cx="34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Cost = $723,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-54000" y="237960"/>
            <a:ext cx="90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s &amp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4773600" y="2457360"/>
            <a:ext cx="4260960" cy="3943440"/>
          </a:xfrm>
          <a:prstGeom prst="roundRect">
            <a:avLst>
              <a:gd name="adj" fmla="val 7940"/>
            </a:avLst>
          </a:prstGeom>
          <a:noFill/>
          <a:ln w="9360">
            <a:solidFill>
              <a:srgbClr val="ff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"/>
          <p:cNvSpPr/>
          <p:nvPr/>
        </p:nvSpPr>
        <p:spPr>
          <a:xfrm rot="10800000">
            <a:off x="228240" y="2441520"/>
            <a:ext cx="4259160" cy="3959280"/>
          </a:xfrm>
          <a:prstGeom prst="roundRect">
            <a:avLst>
              <a:gd name="adj" fmla="val 7569"/>
            </a:avLst>
          </a:prstGeom>
          <a:noFill/>
          <a:ln w="9360">
            <a:solidFill>
              <a:srgbClr val="4f81b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87280" y="3054600"/>
            <a:ext cx="4160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-Atlantic flight costs were the highest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may make sense to increase the duration of the t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ounded Rectangle 10" descr=""/>
          <p:cNvPicPr/>
          <p:nvPr/>
        </p:nvPicPr>
        <p:blipFill>
          <a:blip r:embed="rId3"/>
          <a:stretch/>
        </p:blipFill>
        <p:spPr>
          <a:xfrm>
            <a:off x="480960" y="1542960"/>
            <a:ext cx="3664080" cy="1341360"/>
          </a:xfrm>
          <a:prstGeom prst="rect">
            <a:avLst/>
          </a:prstGeom>
          <a:ln w="0">
            <a:noFill/>
          </a:ln>
        </p:spPr>
      </p:pic>
      <p:pic>
        <p:nvPicPr>
          <p:cNvPr id="159" name="Rounded Rectangle 11" descr=""/>
          <p:cNvPicPr/>
          <p:nvPr/>
        </p:nvPicPr>
        <p:blipFill>
          <a:blip r:embed="rId4"/>
          <a:stretch/>
        </p:blipFill>
        <p:spPr>
          <a:xfrm>
            <a:off x="4913280" y="1542960"/>
            <a:ext cx="3846600" cy="1341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782960" y="2781360"/>
            <a:ext cx="41594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 advance ticket purchases, group rates, discounted air 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ate other NBA teams through European t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 other European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pand to other world regions. Attract best players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990720" y="2590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19960" y="3584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3"/>
          <a:stretch/>
        </p:blipFill>
        <p:spPr>
          <a:xfrm>
            <a:off x="19080" y="303516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4" descr=""/>
          <p:cNvPicPr/>
          <p:nvPr/>
        </p:nvPicPr>
        <p:blipFill>
          <a:blip r:embed="rId4"/>
          <a:stretch/>
        </p:blipFill>
        <p:spPr>
          <a:xfrm>
            <a:off x="3333600" y="3029040"/>
            <a:ext cx="1860840" cy="22986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5" descr=""/>
          <p:cNvPicPr/>
          <p:nvPr/>
        </p:nvPicPr>
        <p:blipFill>
          <a:blip r:embed="rId5"/>
          <a:stretch/>
        </p:blipFill>
        <p:spPr>
          <a:xfrm>
            <a:off x="5181480" y="3029040"/>
            <a:ext cx="1657440" cy="22986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6" descr=""/>
          <p:cNvPicPr/>
          <p:nvPr/>
        </p:nvPicPr>
        <p:blipFill>
          <a:blip r:embed="rId6"/>
          <a:stretch/>
        </p:blipFill>
        <p:spPr>
          <a:xfrm>
            <a:off x="6808680" y="3029040"/>
            <a:ext cx="226872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7" descr=""/>
          <p:cNvPicPr/>
          <p:nvPr/>
        </p:nvPicPr>
        <p:blipFill>
          <a:blip r:embed="rId7"/>
          <a:stretch/>
        </p:blipFill>
        <p:spPr>
          <a:xfrm>
            <a:off x="1633680" y="3029040"/>
            <a:ext cx="1706400" cy="229860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10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977760" y="777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bball.jpg"/>
          <p:cNvPicPr/>
          <p:nvPr/>
        </p:nvPicPr>
        <p:blipFill>
          <a:blip r:embed="rId8"/>
          <a:stretch/>
        </p:blipFill>
        <p:spPr>
          <a:xfrm>
            <a:off x="380880" y="20829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Rounded Rectangle 24"/>
          <p:cNvSpPr/>
          <p:nvPr/>
        </p:nvSpPr>
        <p:spPr>
          <a:xfrm rot="10800000">
            <a:off x="0" y="6553080"/>
            <a:ext cx="914400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3148 L 0.05538 -0.04514 C 0.06702 -0.0625 0.08438 -0.07199 0.10261 -0.07199 C 0.12327 -0.07199 0.13976 -0.0625 0.15139 -0.04514 L 0.20695 0.03148 E">
                                      <p:cBhvr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94 0.03148 L 0.26476 -0.03009 C 0.27726 -0.04398 0.29531 -0.05162 0.31458 -0.05162 C 0.33611 -0.05162 0.35365 -0.04398 0.36615 -0.03009 L 0.425 0.03148 E">
                                      <p:cBhvr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 0.03149 L 0.47361 -0.03819 C 0.48385 -0.05416 0.49913 -0.06273 0.5151 -0.06273 C 0.53333 -0.06273 0.54774 -0.05416 0.55799 -0.03819 L 0.60694 0.03149 E">
                                      <p:cBhvr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94 0.03148 L 0.66476 -0.0382 C 0.67708 -0.05417 0.69531 -0.06273 0.71441 -0.06273 C 0.73628 -0.06273 0.75382 -0.05417 0.76597 -0.0382 L 0.825 0.03148 E">
                                      <p:cBhvr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977760" y="90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5"/>
          <p:cNvSpPr/>
          <p:nvPr/>
        </p:nvSpPr>
        <p:spPr>
          <a:xfrm>
            <a:off x="216000" y="1143000"/>
            <a:ext cx="56800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the NBA continues to expand its business overseas, team tours showcasing the league’s talent to the world are becoming more prominent and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7"/>
          <p:cNvSpPr/>
          <p:nvPr/>
        </p:nvSpPr>
        <p:spPr>
          <a:xfrm>
            <a:off x="3341520" y="3541680"/>
            <a:ext cx="5454720" cy="270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BA has commissioned four smart, good-looking young men from NYU Stern School of Business to figure out how to minimize flight costs when eight pre-selected teams play a European t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2"/>
          <p:cNvSpPr/>
          <p:nvPr/>
        </p:nvSpPr>
        <p:spPr>
          <a:xfrm>
            <a:off x="9651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914400" y="1238400"/>
            <a:ext cx="7316640" cy="4705200"/>
            <a:chOff x="914400" y="1238400"/>
            <a:chExt cx="7316640" cy="4705200"/>
          </a:xfrm>
        </p:grpSpPr>
        <p:pic>
          <p:nvPicPr>
            <p:cNvPr id="80" name="Picture 18" descr="usa_color"/>
            <p:cNvPicPr/>
            <p:nvPr/>
          </p:nvPicPr>
          <p:blipFill>
            <a:blip r:embed="rId1"/>
            <a:stretch/>
          </p:blipFill>
          <p:spPr>
            <a:xfrm>
              <a:off x="960480" y="1238400"/>
              <a:ext cx="7089840" cy="46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19"/>
            <p:cNvSpPr/>
            <p:nvPr/>
          </p:nvSpPr>
          <p:spPr>
            <a:xfrm>
              <a:off x="4781520" y="5654880"/>
              <a:ext cx="10954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1649520" y="5649840"/>
              <a:ext cx="184140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21" descr="knicks_accountmanager_hdr"/>
            <p:cNvPicPr/>
            <p:nvPr/>
          </p:nvPicPr>
          <p:blipFill>
            <a:blip r:embed="rId2"/>
            <a:srcRect l="18238" t="24220" r="18120" b="0"/>
            <a:stretch/>
          </p:blipFill>
          <p:spPr>
            <a:xfrm>
              <a:off x="7261200" y="2664000"/>
              <a:ext cx="96984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2" descr="chicago%2520bulls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118120" y="2833920"/>
              <a:ext cx="7398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3" descr="lakers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932040" y="3284640"/>
              <a:ext cx="1019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4" descr="945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559560" y="4872240"/>
              <a:ext cx="752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5" descr="Golden_State_Warriors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914400" y="2254320"/>
              <a:ext cx="84924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6" descr="Dallas%2520Mavericks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226040" y="4568760"/>
              <a:ext cx="75708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7" descr="san_antonio_spurs300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232080" y="4381560"/>
              <a:ext cx="10051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8" descr="Detroit_Pistons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5587920" y="1986120"/>
              <a:ext cx="817560" cy="8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42"/>
          <p:cNvGrpSpPr/>
          <p:nvPr/>
        </p:nvGrpSpPr>
        <p:grpSpPr>
          <a:xfrm>
            <a:off x="3581280" y="3040200"/>
            <a:ext cx="5410440" cy="3395520"/>
            <a:chOff x="3581280" y="3040200"/>
            <a:chExt cx="5410440" cy="3395520"/>
          </a:xfrm>
        </p:grpSpPr>
        <p:pic>
          <p:nvPicPr>
            <p:cNvPr id="92" name="Picture 32" descr="Political map of Europe"/>
            <p:cNvPicPr/>
            <p:nvPr/>
          </p:nvPicPr>
          <p:blipFill>
            <a:blip r:embed="rId17"/>
            <a:srcRect l="12420" t="54184" r="32003" b="16854"/>
            <a:stretch/>
          </p:blipFill>
          <p:spPr>
            <a:xfrm>
              <a:off x="3733920" y="3040200"/>
              <a:ext cx="525780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Oval 36"/>
            <p:cNvSpPr/>
            <p:nvPr/>
          </p:nvSpPr>
          <p:spPr>
            <a:xfrm>
              <a:off x="5486400" y="3505320"/>
              <a:ext cx="990720" cy="60948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7"/>
            <p:cNvSpPr/>
            <p:nvPr/>
          </p:nvSpPr>
          <p:spPr>
            <a:xfrm>
              <a:off x="7772400" y="3124080"/>
              <a:ext cx="990720" cy="60984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8"/>
            <p:cNvSpPr/>
            <p:nvPr/>
          </p:nvSpPr>
          <p:spPr>
            <a:xfrm>
              <a:off x="3581280" y="5791320"/>
              <a:ext cx="990720" cy="60948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9"/>
            <p:cNvSpPr/>
            <p:nvPr/>
          </p:nvSpPr>
          <p:spPr>
            <a:xfrm>
              <a:off x="7467480" y="5638680"/>
              <a:ext cx="990720" cy="60984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3"/>
          <p:cNvSpPr/>
          <p:nvPr/>
        </p:nvSpPr>
        <p:spPr>
          <a:xfrm>
            <a:off x="4921200" y="1612800"/>
            <a:ext cx="36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alibri"/>
              </a:rPr>
              <a:t>Which teams go where for the first g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325440" y="4560840"/>
            <a:ext cx="323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alibri"/>
              </a:rPr>
              <a:t>Then once those pairings are determined, what is the optimal inter-Europe route for each matchup to minimize flight cost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26667 -0.17917 E">
                                      <p:cBhvr>
                                        <p:cTn id="4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774720" y="4610160"/>
            <a:ext cx="7238880" cy="146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798480" y="2500200"/>
            <a:ext cx="7264440" cy="194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06400" y="1236600"/>
            <a:ext cx="7237440" cy="1046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9777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58880" y="1268280"/>
            <a:ext cx="72896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tain flight costs for all trans-Atlantic and city-to-city ro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termine first-week matchups and city assignments based on minimized trans-Atlantic fligh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optimal cost-minimizing routes for each matchup throughou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9651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4"/>
          <p:cNvSpPr/>
          <p:nvPr/>
        </p:nvSpPr>
        <p:spPr>
          <a:xfrm flipH="1">
            <a:off x="2911320" y="3043080"/>
            <a:ext cx="38592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45"/>
          <p:cNvSpPr/>
          <p:nvPr/>
        </p:nvSpPr>
        <p:spPr>
          <a:xfrm>
            <a:off x="2682720" y="4102200"/>
            <a:ext cx="2048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46"/>
          <p:cNvSpPr/>
          <p:nvPr/>
        </p:nvSpPr>
        <p:spPr>
          <a:xfrm flipH="1" flipV="1">
            <a:off x="3404880" y="5835600"/>
            <a:ext cx="2286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3240" r="0" b="21509"/>
          <a:stretch/>
        </p:blipFill>
        <p:spPr>
          <a:xfrm>
            <a:off x="114480" y="1487520"/>
            <a:ext cx="89787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6360" y="1351080"/>
            <a:ext cx="8604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4320" y="1085760"/>
            <a:ext cx="5162400" cy="536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8840" y="2117880"/>
            <a:ext cx="334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s 2-4 turn into an intra-European circuit, as teams move iteratively around the continent based on their original Wk 1 match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8840" y="5622840"/>
            <a:ext cx="33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 4 marks the completion of the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" descr="Political map of Europe"/>
          <p:cNvPicPr/>
          <p:nvPr/>
        </p:nvPicPr>
        <p:blipFill>
          <a:blip r:embed="rId1"/>
          <a:srcRect l="12420" t="54184" r="32003" b="16854"/>
          <a:stretch/>
        </p:blipFill>
        <p:spPr>
          <a:xfrm>
            <a:off x="1136520" y="1976400"/>
            <a:ext cx="6873840" cy="44388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Golden_State_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7320" y="1008000"/>
            <a:ext cx="849240" cy="82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lake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84120" y="1001880"/>
            <a:ext cx="101952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san_antonio_spurs3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0800" y="1117440"/>
            <a:ext cx="1005120" cy="606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Detroit_Pisto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11920" y="101124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chicago%2520bull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94200" y="1035000"/>
            <a:ext cx="73980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knicks_accountmanager_hdr"/>
          <p:cNvPicPr/>
          <p:nvPr/>
        </p:nvPicPr>
        <p:blipFill>
          <a:blip r:embed="rId12"/>
          <a:srcRect l="18238" t="24220" r="18120" b="0"/>
          <a:stretch/>
        </p:blipFill>
        <p:spPr>
          <a:xfrm>
            <a:off x="8034480" y="1006560"/>
            <a:ext cx="969840" cy="83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9" descr="Dallas%2520Maverick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30760" y="1023840"/>
            <a:ext cx="757080" cy="795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945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85000" y="892080"/>
            <a:ext cx="75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0434 0.60879 E">
                                      <p:cBhvr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-0.00417 0.59328 E">
                                      <p:cBhvr>
                                        <p:cTn id="8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24 L 0.03351 0.29282 E">
                                      <p:cBhvr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45122 0.29282 E">
                                      <p:cBhvr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20278 0.57361 E">
                                      <p:cBhvr>
                                        <p:cTn id="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06701 0.57547 E">
                                      <p:cBhvr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1408 0.23865 E">
                                      <p:cBhvr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8.51852E-006 L 0.01579 0.22824 E">
                                      <p:cBhvr>
                                        <p:cTn id="9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22:09Z</dcterms:created>
  <dc:creator>Sekou White</dc:creator>
  <dc:description/>
  <dc:language>en-US</dc:language>
  <cp:lastModifiedBy>Stephen Armbruster</cp:lastModifiedBy>
  <dcterms:modified xsi:type="dcterms:W3CDTF">2007-04-30T01:41:16Z</dcterms:modified>
  <cp:revision>36</cp:revision>
  <dc:subject/>
  <dc:title>Slide 1</dc:title>
</cp:coreProperties>
</file>