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F336-1252-40A5-873E-F9CAA3BB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DC8F-DFC2-4FEE-8A79-21DC4C9E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C6CE-BBB0-49C3-9313-0EE8FD83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827B-D28C-4832-B4E1-C60C6C96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957-77CB-455E-BCAB-A0DFEA77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08BA-422A-4E69-B02E-1AA98C22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C552-FC98-4AA6-B8AB-7F3EBA3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215E-92CB-46E4-9B12-F769351F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E1F8-127C-4F3C-8C67-41AD18F9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DC8A-D3EE-46CE-8F04-28E353F1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DF3F-E376-449D-89B4-3F5FC3F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20F4-25B5-4768-B13E-FCA0F38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4921-9671-446E-9B06-7389982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9CEA-34ED-47A3-910F-3307DCB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A9F9-624C-479F-89DF-39F91202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B574-DC82-4661-A90A-51DBBFF1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A129-9680-409B-BA82-67A95A68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D6BE-936C-476E-A6DB-8C305A4A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0C19-2613-4D5B-91DA-8F12F943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0BD5-71FD-45D9-8036-C1BBB8C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8436-A84A-4565-9697-B6D18DF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9E72-D3C8-4155-A370-30A5F6D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58DA-B520-4C54-AF2D-8593488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F265-91AE-4CB2-995A-7BFA573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6EE5-A753-45F4-9F86-0FF0C98A32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1081-C4D8-4687-AFE6-2D8B8DC0B5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M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60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O in the U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92000"/>
          </a:blip>
          <a:stretch/>
        </p:blipFill>
        <p:spPr>
          <a:xfrm>
            <a:off x="2895480" y="1905120"/>
            <a:ext cx="2962440" cy="3524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77156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decision models project o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 life… at least for the next 60 days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 to be outdon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o adds a constraint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w York to Boston and Boston to New York cells cannot be more than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d Mateo outsmart Solv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64767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ose…But No Cig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w he goes fro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 York to Boston to Baltimo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akland to Los Angeles to Seat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Mateo adds a new set of constrain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Y to Boston + Boston to NY + NY to Baltimore + Baltimore to NY + Boston to Baltimore + Baltimore to Boston ≤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 does the same for the west coast loop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almost works but now he’s left with a loop in the Midwest. So he adds a third looping constraint with Chicago/Detroit/Cleve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! Optimal Rou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848360" cy="514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7311960" y="3276720"/>
            <a:ext cx="30816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09880"/>
            <a:ext cx="536760" cy="1905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419720" y="5257800"/>
            <a:ext cx="23652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219320" y="4495320"/>
            <a:ext cx="320328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837720" y="3733920"/>
            <a:ext cx="38124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38080" y="1905120"/>
            <a:ext cx="533520" cy="1828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905120"/>
            <a:ext cx="3657600" cy="99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00600" y="2895480"/>
            <a:ext cx="231840" cy="1067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3429000"/>
            <a:ext cx="9144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715000" y="3276360"/>
            <a:ext cx="60948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276720"/>
            <a:ext cx="22860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553080" y="2971800"/>
            <a:ext cx="137160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620120" y="2971800"/>
            <a:ext cx="30456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124080"/>
            <a:ext cx="2546280" cy="119124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tal Miles Travel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8,8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50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mes Schedu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371600"/>
          <a:ext cx="8229600" cy="5222880"/>
        </p:xfrm>
        <a:graphic>
          <a:graphicData uri="http://schemas.openxmlformats.org/drawingml/2006/table">
            <a:tbl>
              <a:tblPr/>
              <a:tblGrid>
                <a:gridCol w="977760"/>
                <a:gridCol w="1559160"/>
                <a:gridCol w="2565360"/>
                <a:gridCol w="3127320"/>
              </a:tblGrid>
              <a:tr h="50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9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York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Yank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0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tim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il Rays at Orio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5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1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x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Rang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8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s Ange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 at Ang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9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Athlet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31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Marin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8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nes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s at Twi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9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llies at Roy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0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c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ros at White So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2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tro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ewers at Tig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5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ve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ves at India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6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st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ants at Red So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7/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York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s at Yank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 that i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doesn’t just want to see the games…he wants to see the teams win at h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Mateo pulls the 2006 record from the MLB.com website and decides to run a CrystalBall simulation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876920" y="1600200"/>
          <a:ext cx="3885840" cy="4525560"/>
        </p:xfrm>
        <a:graphic>
          <a:graphicData uri="http://schemas.openxmlformats.org/drawingml/2006/table">
            <a:tbl>
              <a:tblPr/>
              <a:tblGrid>
                <a:gridCol w="1575360"/>
                <a:gridCol w="2310480"/>
              </a:tblGrid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 Rec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anke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il R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e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hletic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y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So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g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a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So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tting up Crystal B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creates win/loss assumptions for each city and calculates the games needed to see a w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001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ump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bases each team’s win/lose assumptions on their record last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63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10,000 runs, Mateo sees that his trip, on average, will take 25 “game day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wants to see an example of how that would work, in pract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487656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362320" cy="1944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runs Crystal Ball once to get an average 25-game-day in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352680" y="327816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52480" y="327816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52880" y="190512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00800" y="5698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400800" y="190512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228600" y="47242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1752480" y="47242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3352680" y="47242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876920" y="3278160"/>
            <a:ext cx="2361960" cy="194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4876920" y="4724280"/>
            <a:ext cx="236196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6400800" y="3276720"/>
            <a:ext cx="2362320" cy="194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6400800" y="4724280"/>
            <a:ext cx="2362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2819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am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chedu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905120" y="154080"/>
          <a:ext cx="8229600" cy="6551640"/>
        </p:xfrm>
        <a:graphic>
          <a:graphicData uri="http://schemas.openxmlformats.org/drawingml/2006/table">
            <a:tbl>
              <a:tblPr/>
              <a:tblGrid>
                <a:gridCol w="977760"/>
                <a:gridCol w="1559160"/>
                <a:gridCol w="2565360"/>
                <a:gridCol w="3127320"/>
              </a:tblGrid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York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Yanke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0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tim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il Rays at Orio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5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7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pa B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lins at Devil Ray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1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x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Rang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s Ange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 at Ange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2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s Ange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ners at Ange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30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3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ins at Athle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4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 at Mari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5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 at Mari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6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oles at Mari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neso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s at Twi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llies at Roy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0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llies at Roy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2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nsas 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dinals at Roy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18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cag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lins at White So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5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tro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Tig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6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ve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hletics at India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7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eve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hletics at India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/29/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st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gers at Red So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teo Rodriguez-Braun i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00200" y="1287360"/>
          <a:ext cx="419112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87360"/>
                    <a:ext cx="41911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t must be it?!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o is convinced that he has the perfect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… he needs to run the plans by his wi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will allow this vacation, but she will set his budget so that he can meet it with 95% likelih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7623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Budg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95% confidence, Mateo’s trip will cost less than $5852.00 -- roughly equivalent to one semester of Decision Mod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ny extra money, he should buy souvenirs for his wi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2819520" cy="2320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42670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¿Pregunta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teo passes his life yearning to live in the 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ly one day, he makes application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is accepted b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city of New York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7124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 2 years he receives far too much work from all his professors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never really gets to see the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133720"/>
            <a:ext cx="8305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o, upon graduation, he sets out to do just that…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 u="sng">
                <a:solidFill>
                  <a:srgbClr val="e5e5ff"/>
                </a:solidFill>
                <a:uFillTx/>
                <a:latin typeface="Garamond"/>
              </a:rPr>
              <a:t>El Plane: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Objective Function)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o visit as many American League baseball stadiums as possible in a 60 day period (after graduation). 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e5e5ff"/>
                </a:solidFill>
                <a:uFillTx/>
                <a:latin typeface="Garamond"/>
              </a:rPr>
              <a:t>Subject to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: Lack of money and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ime, green card issues, and a desire to see home team victories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o Trav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of high gas prices Mateo wants to find the shortest route to the American League stadiu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of his green card issues, Mateo can’t go to Toronto to see the Blue Jays play at h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he’s left with 13 cities to vi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o uses Juran’s wisdom to create a route in Sol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erican League Te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907920"/>
          <a:ext cx="6172200" cy="5111640"/>
        </p:xfrm>
        <a:graphic>
          <a:graphicData uri="http://schemas.openxmlformats.org/drawingml/2006/table">
            <a:tbl>
              <a:tblPr/>
              <a:tblGrid>
                <a:gridCol w="3085920"/>
                <a:gridCol w="308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catio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g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s Ange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hle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ak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vil R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mpa B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eve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in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o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ti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ng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d So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os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y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nsas 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g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tro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w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nneso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te So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ank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Y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6102360"/>
            <a:ext cx="82296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st Try: Total Miles = 6,98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715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t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r is wrong &amp; does not loop cities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o is traveling in cir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York to Boston to New Y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timore to Tampa Bay to Baltimo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as to Kansas City to Tex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cago to Minneapolis to Chica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veland to Detroit to Cleve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 Angeles to Oakland to Seattle to Los Ange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2:46:55Z</dcterms:created>
  <dc:creator> </dc:creator>
  <dc:description/>
  <dc:language>en-US</dc:language>
  <cp:lastModifiedBy>t</cp:lastModifiedBy>
  <dcterms:modified xsi:type="dcterms:W3CDTF">2007-04-23T12:53:11Z</dcterms:modified>
  <cp:revision>38</cp:revision>
  <dc:subject/>
  <dc:title>M-a-t-e-o in the USA</dc:title>
</cp:coreProperties>
</file>