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1.png" ContentType="image/png"/>
  <Override PartName="/ppt/media/image29.png" ContentType="image/png"/>
  <Override PartName="/ppt/media/image9.png" ContentType="image/png"/>
  <Override PartName="/ppt/media/image42.wmf" ContentType="image/x-wmf"/>
  <Override PartName="/ppt/media/image39.png" ContentType="image/png"/>
  <Override PartName="/ppt/media/image41.png" ContentType="image/png"/>
  <Override PartName="/ppt/media/image38.wmf" ContentType="image/x-wmf"/>
  <Override PartName="/ppt/media/image40.png" ContentType="image/png"/>
  <Override PartName="/ppt/media/image44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F8F-6338-44E5-A52E-719C544D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C86-546C-43B8-8F1D-4232224F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FD1-6739-4119-84BB-683472C7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C5F1-6C7D-4D7D-ACBC-09E186F2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81FA-4B9D-4A74-96A2-24322633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9C43-507E-4DD2-8535-88B829D6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A6C9-79B0-416D-9390-A89B28B2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F376-393C-44C9-9E41-23407C6B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A8DA-84BD-4F04-B0F0-E680672F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F9A3-8677-4C89-8F5A-72912DC3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4A16-94A5-4AD8-A7BB-E84BD44A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0F3-6C58-48C9-8652-E68972F3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D0BC-D3CF-48D4-AF1F-2246557B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CD6F-BFF7-45F0-BF65-312DF979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2B4D-C547-437A-A7BC-E5EDCA06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24F4-BB24-4F3B-9698-5C4B9926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BB79-27C1-4574-893A-AEA5E56D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D43-F134-429A-9E87-C22316B6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B1F-34E5-4098-A66E-120C2979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3B6-7F38-419E-AD4B-570A6DA0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29C-770E-49E7-8EEC-82B5AD94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D5A-FC5B-42DD-8C74-C7359C8C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1E52-E2B5-46A3-9A00-7F209FA6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F22-21D8-4629-A707-BCB06720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A3DC-6A34-40F7-B08B-3AEE0CB035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0229-E72F-4B78-8EB7-BF7B1FA3AB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39720" y="3733920"/>
            <a:ext cx="4529160" cy="2801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435560" y="762120"/>
            <a:ext cx="3717720" cy="4771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121360" y="5486400"/>
            <a:ext cx="76176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327400">
            <a:off x="-1121040" y="591480"/>
            <a:ext cx="8134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oudy Old Style"/>
              </a:rPr>
              <a:t>Forg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oudy Old Style"/>
              </a:rPr>
              <a:t>“</a:t>
            </a:r>
            <a:r>
              <a:rPr b="1" lang="en-US" sz="4800" spc="-1" strike="noStrike">
                <a:solidFill>
                  <a:srgbClr val="ffffff"/>
                </a:solidFill>
                <a:latin typeface="Goudy Old Style"/>
              </a:rPr>
              <a:t>THE APPRENTICE”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879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Model – Where the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agic Happe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1868400"/>
            <a:ext cx="84945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ptimal Solver Solu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228600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8600" y="2225520"/>
            <a:ext cx="8666280" cy="1202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28600" y="3825720"/>
            <a:ext cx="5705640" cy="669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7432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          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lternate Solver Solutions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           – by changing constrai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ve diversity requirements AND budget constraints, buildings 1, 2 &amp; 4 become optimal ($376M in Profit) Compared to $231M in the solver optimal portfol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ve budget constraint - 1 &amp; 4 remain opti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ve diversity requirements -  1 &amp; 4 remain opti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 a use requirement (residential and commercial) OR force residential investments - no optimal solutions!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1587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ystal Ba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843768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1587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rystal Ball - Distribu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7200" y="1622520"/>
            <a:ext cx="3352680" cy="2351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3362400" cy="2352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952880" y="1600200"/>
            <a:ext cx="3353040" cy="2362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4952880" y="4118040"/>
            <a:ext cx="33530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isk analysis – solver solu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477200" cy="3286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49440" cy="190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0274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Risk analysis – Residential buildings 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have negative NPV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3505320" cy="223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3495960" cy="2224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743200" y="4619520"/>
            <a:ext cx="3276720" cy="2086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549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49440" cy="1905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dividual Building Profitabi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residential buildings (3, 5 &amp; 6) offer no opportunity for profitabi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ilding 2 is most profitable, but with a high level of ris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ilding 1 offers the most secure inc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ilding 4 offers the cheapest source of inc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62120" y="1219320"/>
            <a:ext cx="7848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isk analysis – Alternative Portfoli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90920" y="1414440"/>
            <a:ext cx="5715000" cy="2511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0880" y="3489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uildings 1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590920" y="4268880"/>
            <a:ext cx="5715000" cy="2512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80880" y="6324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uildings 1 +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549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isk analysis – Alternative Portfoli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59436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uildings 1, 2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14400" y="2505240"/>
            <a:ext cx="7477200" cy="3286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49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600200" y="3809880"/>
            <a:ext cx="4529160" cy="2801880"/>
            <a:chOff x="1600200" y="3809880"/>
            <a:chExt cx="4529160" cy="280188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1600200" y="3809880"/>
              <a:ext cx="4529160" cy="28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1981440" y="5638680"/>
              <a:ext cx="3214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2743200" y="4952880"/>
              <a:ext cx="685800" cy="74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5181480" y="548640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800600" y="1295280"/>
            <a:ext cx="3317760" cy="4267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rot="20327400">
            <a:off x="-606600" y="456480"/>
            <a:ext cx="7494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oudy Old Style"/>
              </a:rPr>
              <a:t>We give you 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oudy Old Style"/>
              </a:rPr>
              <a:t>“</a:t>
            </a:r>
            <a:r>
              <a:rPr b="1" lang="en-US" sz="4800" spc="-1" strike="noStrike">
                <a:solidFill>
                  <a:srgbClr val="ffffff"/>
                </a:solidFill>
                <a:latin typeface="Goudy Old Style"/>
              </a:rPr>
              <a:t>THE GRADUATES”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49440" cy="19051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lternative Portfoli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ver’s solution doesn’t take risk into accou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&amp; 2 ranks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ut is not a diverse portfol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, 2 &amp; 4 is the best balance but exceeds budg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&amp; 4 offers a better balance of risk and retu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868680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137160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Recommend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2004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the results of our optimization models, we have determined that by investing in bo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Building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Building 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maximize ou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isk/return rati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while still falling within our constraints (both budget and extern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nt t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ek out more fun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purchase portfolio 1, 2 &amp; 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9880" y="304920"/>
            <a:ext cx="5207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indings: NYC Residential Rental Marke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ly, real estate development for rental residential purposes is NOT profi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build unless sufficient government incentives exis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les tax breaks for mixed use developments (Ex. condo and residenti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er must build 20- 40 % of affordable housing rental uni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idential Condos may be more profi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specific buildings may be b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Q&amp;A with Our Project Manager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5640" y="403812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lie Spe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114800" y="2514600"/>
            <a:ext cx="922320" cy="1295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.0)">
                                      <p:cBhvr>
                                        <p:cTn id="18" dur="3872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To Buy or Not to Buy?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520" y="3124080"/>
            <a:ext cx="4800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real estate decision b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ff Kole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lie Spe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is Prest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rah Evanetz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Laine Ya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k Lam Kh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389560" y="1828800"/>
            <a:ext cx="3602160" cy="4876920"/>
            <a:chOff x="5389560" y="1828800"/>
            <a:chExt cx="3602160" cy="4876920"/>
          </a:xfrm>
        </p:grpSpPr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5389560" y="1828800"/>
              <a:ext cx="3602160" cy="48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6455520" y="2804040"/>
              <a:ext cx="636480" cy="97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7245720" y="1828800"/>
              <a:ext cx="660600" cy="97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5483160" y="1828800"/>
              <a:ext cx="69624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6"/>
            <a:stretch/>
          </p:blipFill>
          <p:spPr>
            <a:xfrm>
              <a:off x="5483160" y="5730120"/>
              <a:ext cx="635400" cy="9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7"/>
            <a:stretch/>
          </p:blipFill>
          <p:spPr>
            <a:xfrm>
              <a:off x="6455520" y="4754880"/>
              <a:ext cx="669600" cy="93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8"/>
            <a:stretch/>
          </p:blipFill>
          <p:spPr>
            <a:xfrm>
              <a:off x="8157240" y="4754880"/>
              <a:ext cx="564480" cy="78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7353360" y="3809880"/>
            <a:ext cx="6858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1120" y="380880"/>
            <a:ext cx="4495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hallen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r REIT has a budget of $100M to invest in a number of potential opportun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must meet certain diversification requiremen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ave return expectations to me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r business model is to purchase entire buildings and rent/lease the individual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672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Solver to find the optimal portfolio m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Crystal Ball to factor in ris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ze discrepancies between outpu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 and recommend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Opportun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 options on the market include 6 prope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in Manhattan, 3 in Brookly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commercial, 3 resident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2362320" cy="3276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90920" y="2819520"/>
            <a:ext cx="2090520" cy="3276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280" y="22860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30 Park Aven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75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ven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Opportun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3657600" cy="3276360"/>
          </a:xfrm>
          <a:prstGeom prst="rect">
            <a:avLst/>
          </a:prstGeom>
          <a:solidFill>
            <a:srgbClr val="808080"/>
          </a:solidFill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hatta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230 Park Aven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ercial building, $240M purchase pr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475 5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Aven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ercial building,$160M purchase pr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12 E. 36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Stre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idential building, $82M purchase pric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29200" y="2819160"/>
            <a:ext cx="3581280" cy="3276360"/>
          </a:xfrm>
          <a:prstGeom prst="rect">
            <a:avLst/>
          </a:prstGeom>
          <a:solidFill>
            <a:srgbClr val="808080"/>
          </a:solidFill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ookly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177 Livings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ercial building, $45M purchase pr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31 Ocean Pkw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idential building, $38M purchase pr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65 Washington Stre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idential building, $436M purchase pr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879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Model – Where the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agic Happe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04920" y="1868400"/>
            <a:ext cx="84945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Model – Assumptions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d Constrai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2880" y="2190600"/>
            <a:ext cx="8067600" cy="3981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7956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23:16:49Z</dcterms:created>
  <dc:creator>Dave Haldi</dc:creator>
  <dc:description/>
  <dc:language>en-US</dc:language>
  <cp:lastModifiedBy>Chris Preston</cp:lastModifiedBy>
  <dcterms:modified xsi:type="dcterms:W3CDTF">2007-04-23T15:34:16Z</dcterms:modified>
  <cp:revision>35</cp:revision>
  <dc:subject/>
  <dc:title>To Buy or Not to Buy??</dc:title>
</cp:coreProperties>
</file>