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4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EC4-7EFE-4D6C-8B5F-B1527C58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860-BAFB-4247-9EA8-92DDB89E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00D-A6F4-429E-A7DB-6CBDEFD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9AC-591A-4823-AC9B-1D48F90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45E1-6209-46B2-8C05-CABB0226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7183-4C6D-4145-87D9-21DBFED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7AF-ABA3-4B5C-B619-711B4FEA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F6F3-147C-4820-B9C0-8519276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4D7-6DC6-44BE-AB9F-D8841915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DBC-E594-42D9-9106-294EB49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CB5E-7A24-418D-BACB-36C0718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23D-45D7-4163-A8D6-F2A0192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1C1-4267-4205-AB7D-5D27764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4C2-42CB-487F-926A-B73D221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00A-EC3F-40DC-83B3-8B4AC3A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5B8D-A426-41B2-BC3A-1B4DFD87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D42-065D-4842-A4D8-A005216E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BD1-1815-4031-A741-D4DCB4F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879-A59A-4806-9E18-0A8BF32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9BD-0B5E-46D2-9BA7-0A2C2025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79E-4BDB-416E-9241-E02D5724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BCC-733E-4E4C-8F9D-86EC9C2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A4B-4CC4-48E3-9A9E-F298431F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CA9-F442-4F4D-97DD-9451D500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A8A-1013-4BF9-BF22-3643C13CE3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3654-5270-4A68-A9F6-1CD209B80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39720" y="3733920"/>
            <a:ext cx="4529160" cy="280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35560" y="762120"/>
            <a:ext cx="3717720" cy="47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21360" y="5486400"/>
            <a:ext cx="76176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327400">
            <a:off x="-1121040" y="591480"/>
            <a:ext cx="8134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For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THE APPRENTICE”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7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Where the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gic Happe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1868400"/>
            <a:ext cx="84945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timal Solver 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2860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2225520"/>
            <a:ext cx="8666280" cy="1202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28600" y="3825720"/>
            <a:ext cx="570564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432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ternate Solver Solution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– by changing constra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diversity requirements AND budget constraints, buildings 1, 2 &amp; 4 become optimal ($376M in Profit) Compared to $231M in the solver optimal portf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budget constraint - 1 &amp; 4 remain opti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diversity requirements -  1 &amp; 4 remain opti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a use requirement (residential and commercial) OR force residential investments - no optimal solutions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587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Ba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4376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58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ystal Ball - Distribu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1622520"/>
            <a:ext cx="3352680" cy="2351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362400" cy="2352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52880" y="160020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952880" y="4118040"/>
            <a:ext cx="33530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sk analysis – solver 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477200" cy="3286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027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isk analysis – Residential buildings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have negative NPV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5053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495960" cy="22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743200" y="4619520"/>
            <a:ext cx="3276720" cy="208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ividual Building Profi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residential buildings (3, 5 &amp; 6) offer no opportunity for profit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2 is most profitable, but with a high level of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1 offers the most secure in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4 offers the cheapest source of in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62120" y="1219320"/>
            <a:ext cx="7848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sk analysis – Alternative Portfol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90920" y="1414440"/>
            <a:ext cx="5715000" cy="251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3489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90920" y="4268880"/>
            <a:ext cx="5715000" cy="2512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 +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sk analysis – Alternative Portfol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5943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, 2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14400" y="2505240"/>
            <a:ext cx="7477200" cy="328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600200" y="3809880"/>
            <a:ext cx="4529160" cy="2801880"/>
            <a:chOff x="1600200" y="3809880"/>
            <a:chExt cx="4529160" cy="28018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1600200" y="3809880"/>
              <a:ext cx="4529160" cy="28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981440" y="5638680"/>
              <a:ext cx="3214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2743200" y="4952880"/>
              <a:ext cx="6858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5181480" y="548640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800600" y="1295280"/>
            <a:ext cx="33177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20327400">
            <a:off x="-606600" y="456480"/>
            <a:ext cx="749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We give you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THE GRADUATES”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ternative Portfol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r’s solution doesn’t take risk into acc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&amp; 2 rank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t is not a diverse portf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, 2 &amp; 4 is the best balance but exceeds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&amp; 4 offers a better balance of risk and retu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86868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3716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Recommend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200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 results of our optimization models, we have determined that by investing in bo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uilding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uilding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maximize o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isk/return rat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hile still falling within our constraints (both budget and exter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nt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ek out more fu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urchase portfolio 1, 2 &amp;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9880" y="304920"/>
            <a:ext cx="5207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indings: NYC Residential Rental Mark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, real estate development for rental residential purposes is NOT profi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build unless sufficient government incentives exi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es tax breaks for mixed use developments (Ex. condo and resident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er must build 20- 40 % of affordable housing rental uni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dential Condos may be more profi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specific buildings may be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Q&amp;A with Our Project Manage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ie Sp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922320" cy="1295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18" dur="3872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To Buy or Not to Buy?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520" y="31240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l estate decision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ff Kole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ie Sp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 Prest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h Evanetz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Laine Ya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k Lam K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89560" y="1828800"/>
            <a:ext cx="3602160" cy="4876920"/>
            <a:chOff x="5389560" y="1828800"/>
            <a:chExt cx="3602160" cy="487692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389560" y="1828800"/>
              <a:ext cx="360216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455520" y="2804040"/>
              <a:ext cx="636480" cy="9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245720" y="1828800"/>
              <a:ext cx="660600" cy="9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5483160" y="1828800"/>
              <a:ext cx="69624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483160" y="5730120"/>
              <a:ext cx="63540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6455520" y="4754880"/>
              <a:ext cx="66960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8157240" y="4754880"/>
              <a:ext cx="564480" cy="78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353360" y="3809880"/>
            <a:ext cx="6858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hallen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REIT has a budget of $100M to invest in a number of potential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must meet certain diversification require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return expectations to m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business model is to purchase entire buildings and rent/lease the individual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Solver to find the optimal portfolio m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rystal Ball to factor in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 discrepancies between outpu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and recommen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Opportun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options on the market include 6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in Manhattan, 3 in Brookly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ommercial, 3 resid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90520" cy="327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2286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30 Park A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75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pportun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657600" cy="3276360"/>
          </a:xfrm>
          <a:prstGeom prst="rect">
            <a:avLst/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hatta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230 Park Aven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 $240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75 5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Aven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$160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2 E. 3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82M purchase pri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9200" y="2819160"/>
            <a:ext cx="3581280" cy="3276360"/>
          </a:xfrm>
          <a:prstGeom prst="rect">
            <a:avLst/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okly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77 Livings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 $45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31 Ocean Pkw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38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5 Washington 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436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79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Where the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gic Happe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1868400"/>
            <a:ext cx="84945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Assumption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Constra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2880" y="2190600"/>
            <a:ext cx="8067600" cy="3981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79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3:16:49Z</dcterms:created>
  <dc:creator>Dave Haldi</dc:creator>
  <dc:description/>
  <dc:language>en-US</dc:language>
  <cp:lastModifiedBy>Chris Preston</cp:lastModifiedBy>
  <dcterms:modified xsi:type="dcterms:W3CDTF">2007-04-23T15:34:16Z</dcterms:modified>
  <cp:revision>35</cp:revision>
  <dc:subject/>
  <dc:title>To Buy or Not to Buy??</dc:title>
</cp:coreProperties>
</file>