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CDFA-C2DC-43EA-B16E-71EC7D44E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solver will only get you so far. And as we all know from the MBA teams problem, not everything is solvable with a model.  This is a case where solver can only take you so far. This serves as a reminder that every business decision does not have a definite answer, and we can be the most technologically sophisticated quant jocks in the world, but there will still be times when you have to use a human brain to do something that a computer can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n this specific instance, in something as important as a wedding, you would have to go over the results and make sure that every person sitting at a table is appropriate for that table.  You wouldn't ever just trust a program (or someone else for that matter) to do it for you perf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ial and business relevance/other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i will be getting married in June and she needs a model that will help her to optimize the seating arrangements for the reception. There will be 150 guests in attendance. The reception hall offers the option of tables that seat 8 or 10 people. Randi is concerned about the mix of personalities at each table and therefore wants to maximize the enjoyment of all in attendance by ensuring a favorable mix of occupations, relationship to the happy couple, proclivity towards drunkenness, political affiliation and most importantly, fu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ased our model on the following gues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vs 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, crazy, Sterni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, doctor, lawyer,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, social drinker, cheap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f the party, tolerable, l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just a snapshot of our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output of the frequencies of each utility at each table based on the output from evolutionary so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FA3-BC8A-4CEC-B856-240752DE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F32-245B-4F14-BA85-829BF295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F39-C58E-42D4-820E-B9201954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1D5-AE80-4233-BF76-0ACEF0A8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091F-C6E1-4072-8B78-D7123C44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DC4E-4A96-4AD4-AA5A-4E9FC2E3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CEB9-D4E8-4E7B-8EA3-96F9701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AF3A-873F-4D2E-81EE-6CAD29EC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E3FE-41D2-45E6-AE56-82E1B5A3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1A92-26F1-49C4-ADFE-152D737B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8CC6-B4EE-4CEC-9B5E-AED02586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F74-9CB9-4C51-93F2-68513023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4AC4-AF95-4D11-887A-7CC6C9A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E7C0-BE02-4EC7-9021-B6E5AAFC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5111-6A6E-4BD2-B4C8-767E7F1A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5E46-F02B-4E04-ABF0-B281AC61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AA73-9364-441C-9C36-90114448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EB8-6DD6-4B78-A1BA-829FB619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99E-8CC3-426C-BC51-DB03E2AE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7DC-DC9E-4569-B078-A2EC4FAF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C5E-1FB1-418A-B9ED-A8EED6FA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271-1D26-4C84-BE5E-34AC7EF2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21B-4956-42EE-8396-9120A91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735-1E3E-4697-87B2-A3A6F96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5CFD-3B57-4A2A-A3D1-43AF2B40F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A15-C17D-4D51-9CE3-B23ABB967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Holy Matrimony: Maximizing Marriage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Chitra Agrawal, Jennifer Clarke, Sarah Kalter, Randi Kirtman &amp; Kimberly Schoenhal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volutionary solver will only get you so far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odel’s complexity led to constraint limitation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Human touch still needed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Why Should You Care?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undraising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hareholder Meeting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onference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Office Holiday Partie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Divorce rate is high, you may need to plan another wedding some day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Q&amp;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Happily Ever After…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9291" r="0" b="0"/>
          <a:stretch/>
        </p:blipFill>
        <p:spPr>
          <a:xfrm>
            <a:off x="1676520" y="2133720"/>
            <a:ext cx="59436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Problem Description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olution Formulation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ohabitation Constraint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hallenges Bested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Why Should You Care/Managerial Relevance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Matrimonial Problem Definition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June wedding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150 guest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Use utility model to maximize overall happiness of guests by optimizing mix of personalitie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BECAUSE HAPPY GUESTS PAY MORE!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Utility Functions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olitical leaning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Relationship to couple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rofession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ropensity towards drunkennes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un factor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Solution Formulation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reated a binary matrix describing each guest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Input utility table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Used SUMIF formulas to capture frequency of each utility function per table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Used sequence of IF formulas to calculate utility of each table based on instances of occurrence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UM utility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92962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39952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Evolutionary Solver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ased on the constraints: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ach table must seat “whole” people (integer)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ere will be between 1 and 19 table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ssume non-negativity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U Stern School of Business</cp:lastModifiedBy>
  <dcterms:modified xsi:type="dcterms:W3CDTF">2007-04-22T16:02:31Z</dcterms:modified>
  <cp:revision>16</cp:revision>
  <dc:subject/>
  <dc:title>Holy Matrimony: Maximizing Marriage</dc:title>
</cp:coreProperties>
</file>