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2.wmf" ContentType="image/x-wmf"/>
  <Override PartName="/ppt/media/image4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3.jpeg" ContentType="image/jpeg"/>
  <Override PartName="/ppt/media/image1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25.wmf" ContentType="image/x-wmf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240" y="4113360"/>
            <a:ext cx="72010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1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62920" y="155700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97600" y="155700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240" y="411336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62920" y="411336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97600" y="411336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28240" y="90468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2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1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13360"/>
            <a:ext cx="72010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28240" y="4113360"/>
            <a:ext cx="72010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91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62920" y="155700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97600" y="155700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28240" y="411336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662920" y="411336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097600" y="411336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F190-1D89-4245-8B90-3A421D14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4C7-D848-42A8-848E-FDD5D075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463-FCD2-455B-AF34-9F6AEFB5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DE44-F76D-48D5-8D51-6A7F56F7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56A1-59F0-4EE2-8C9C-CCE83D02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28240" y="90468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283-7797-44EB-8F71-4D854A8D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2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C2A9-2033-48BD-9B8C-8882FA0D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91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F0C-6096-479C-BD87-3A62CEDE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240" y="4113360"/>
            <a:ext cx="72010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627D-5A86-4B0C-9ECF-0BA154D1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28240" y="4113360"/>
            <a:ext cx="72010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B49-E5F8-4907-9C73-F8B307CA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2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391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C95-35BE-422D-A976-CBD1F18F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662920" y="155700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97600" y="155700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28240" y="411336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2662920" y="411336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097600" y="411336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86F-C6F1-4B02-8C3E-ED2C5FDB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240" y="90468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1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4113360"/>
            <a:ext cx="72010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048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2158-A80F-4953-B9FA-F49F97F14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hyperlink" Target="http://images.google.com/imgres?imgurl=http://www.ci.gardena.ca.us/residents/images/amtrak_logo.jpg&amp;imgrefurl=http://www.ci.gardena.ca.us/government/Transportation/publictransportation.asp&amp;h=144&amp;w=216&amp;sz=7&amp;hl=en&amp;start=2&amp;tbnid=9rJc1SfM5vtoUM:&amp;tbnh=71&amp;tbnw=107&amp;prev=/images%3Fq%3Damtrak%2Blogo%26gbv%3D2%26svnum%3D10%26hl%3Den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njtransit.com/index.jsp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6108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Developing Manhattan Office Spa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838080"/>
            <a:ext cx="5181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8f8f8"/>
                </a:solidFill>
                <a:latin typeface="Garamond"/>
              </a:rPr>
              <a:t>Michael DiNapoli </a:t>
            </a:r>
            <a:r>
              <a:rPr b="1" lang="en-US" sz="2200" spc="-1" strike="noStrike">
                <a:solidFill>
                  <a:srgbClr val="f8f8f8"/>
                </a:solidFill>
                <a:latin typeface="Garamond"/>
                <a:ea typeface="Arial"/>
              </a:rPr>
              <a:t>● </a:t>
            </a:r>
            <a:r>
              <a:rPr b="1" lang="en-US" sz="2200" spc="-1" strike="noStrike">
                <a:solidFill>
                  <a:srgbClr val="f8f8f8"/>
                </a:solidFill>
                <a:latin typeface="Garamond"/>
              </a:rPr>
              <a:t>Sophia Hart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8f8f8"/>
                </a:solidFill>
                <a:latin typeface="Garamond"/>
              </a:rPr>
              <a:t>Eric Lok </a:t>
            </a:r>
            <a:r>
              <a:rPr b="1" lang="en-US" sz="2200" spc="-1" strike="noStrike">
                <a:solidFill>
                  <a:srgbClr val="f8f8f8"/>
                </a:solidFill>
                <a:latin typeface="Garamond"/>
                <a:ea typeface="Arial"/>
              </a:rPr>
              <a:t>● </a:t>
            </a:r>
            <a:r>
              <a:rPr b="1" lang="en-US" sz="2200" spc="-1" strike="noStrike">
                <a:solidFill>
                  <a:srgbClr val="f8f8f8"/>
                </a:solidFill>
                <a:latin typeface="Garamond"/>
              </a:rPr>
              <a:t>Mayank Moha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8f8f8"/>
                </a:solidFill>
                <a:latin typeface="Garamond"/>
              </a:rPr>
              <a:t>Hector Shibat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5715000"/>
            <a:ext cx="5181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8f8f8"/>
                </a:solidFill>
                <a:latin typeface="Garamond"/>
              </a:rPr>
              <a:t>Decision Model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8f8f8"/>
                </a:solidFill>
                <a:latin typeface="Garamond"/>
              </a:rPr>
              <a:t>Professor Jura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8f8f8"/>
                </a:solidFill>
                <a:latin typeface="Garamond"/>
              </a:rPr>
              <a:t>April 23, 2007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382240" cy="473220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79246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rystal Ball Simulatio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orecasted Office Ren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1676520"/>
          <a:ext cx="8305920" cy="441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676520"/>
                    <a:ext cx="8305920" cy="4419360"/>
                  </a:xfrm>
                  <a:prstGeom prst="rect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pace Devoted to Elevato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Each block of 20 floors requires an individual bank of 8 elevators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As the building gets taller, more of the lower floors are </a:t>
            </a: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consumed by elevators,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reducing rentable space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383000" y="1219320"/>
            <a:ext cx="4601880" cy="5410080"/>
            <a:chOff x="4383000" y="1219320"/>
            <a:chExt cx="4601880" cy="5410080"/>
          </a:xfrm>
        </p:grpSpPr>
        <p:sp>
          <p:nvSpPr>
            <p:cNvPr id="164" name=""/>
            <p:cNvSpPr/>
            <p:nvPr/>
          </p:nvSpPr>
          <p:spPr>
            <a:xfrm>
              <a:off x="4383000" y="4821480"/>
              <a:ext cx="1308240" cy="1807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18840" y="2995560"/>
              <a:ext cx="1335960" cy="363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88160" y="1219320"/>
              <a:ext cx="1296720" cy="5410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44600" y="4821480"/>
              <a:ext cx="197640" cy="1807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05360" y="2995560"/>
              <a:ext cx="189720" cy="3633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32640" y="1219320"/>
              <a:ext cx="197280" cy="5410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07000" y="4821480"/>
              <a:ext cx="198000" cy="1807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43840" y="4821480"/>
              <a:ext cx="198720" cy="1807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42920" y="2995560"/>
              <a:ext cx="189720" cy="3633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volutionary Solver Mode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8458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etting up the Mode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Constraints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Each new level between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0-10 floors inclusive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Number of floors is an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integer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343400" y="1851120"/>
            <a:ext cx="444024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Using Penalties as Constraint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xample:  95 Floo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72010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ptimal Solution:  74 Floo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04920" y="1905120"/>
          <a:ext cx="8534160" cy="3886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5341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Number of Floors vs. Profit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7360"/>
          <a:ext cx="8686800" cy="433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827360"/>
                    <a:ext cx="8686800" cy="43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 flipV="1" rot="978000">
            <a:off x="5867280" y="2590560"/>
            <a:ext cx="370080" cy="1371600"/>
          </a:xfrm>
          <a:prstGeom prst="downArrow">
            <a:avLst>
              <a:gd name="adj1" fmla="val 50000"/>
              <a:gd name="adj2" fmla="val 92656"/>
            </a:avLst>
          </a:prstGeom>
          <a:solidFill>
            <a:srgbClr val="3366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403848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Garamond"/>
              </a:rPr>
              <a:t>Maximum Profit at 74 Floo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Valuation Assumption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868680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Garamond"/>
              </a:rPr>
              <a:t>Land Selection</a:t>
            </a:r>
            <a:endParaRPr b="0" lang="en-US" sz="2400" spc="-1" strike="noStrike">
              <a:solidFill>
                <a:srgbClr val="4d4d4d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Garamond"/>
              </a:rPr>
              <a:t>Forecasting Rent</a:t>
            </a:r>
            <a:endParaRPr b="0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Garamond"/>
              </a:rPr>
              <a:t>Historical Data and Indicators</a:t>
            </a:r>
            <a:endParaRPr b="1" lang="en-US" sz="20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Garamond"/>
              </a:rPr>
              <a:t>Regression</a:t>
            </a:r>
            <a:endParaRPr b="1" lang="en-US" sz="20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Garamond"/>
              </a:rPr>
              <a:t>Crystal Ball</a:t>
            </a:r>
            <a:endParaRPr b="1" lang="en-US" sz="2000" spc="-1" strike="noStrike">
              <a:solidFill>
                <a:srgbClr val="4d4d4d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Garamond"/>
              </a:rPr>
              <a:t>Development Decisions</a:t>
            </a:r>
            <a:endParaRPr b="0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Garamond"/>
              </a:rPr>
              <a:t>Building Height</a:t>
            </a:r>
            <a:endParaRPr b="1" lang="en-US" sz="2000" spc="-1" strike="noStrike">
              <a:solidFill>
                <a:srgbClr val="4d4d4d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Garamond"/>
              </a:rPr>
              <a:t>Evolutionary Solver</a:t>
            </a:r>
            <a:endParaRPr b="0" lang="en-US" sz="2000" spc="-1" strike="noStrike">
              <a:solidFill>
                <a:srgbClr val="4d4d4d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Garamond"/>
              </a:rPr>
              <a:t>Valuation</a:t>
            </a:r>
            <a:endParaRPr b="0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Garamond"/>
              </a:rPr>
              <a:t>Scenario Analysis</a:t>
            </a:r>
            <a:endParaRPr b="1" lang="en-US" sz="2000" spc="-1" strike="noStrike">
              <a:solidFill>
                <a:srgbClr val="4d4d4d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Garamond"/>
              </a:rPr>
              <a:t>Conclusion</a:t>
            </a:r>
            <a:endParaRPr b="0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Garamond"/>
              </a:rPr>
              <a:t>Develop or Not?</a:t>
            </a:r>
            <a:endParaRPr b="1" lang="en-US" sz="20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Valuation Assumption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8686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Valuation Mode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86868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NPV Scenario Analysi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990720" y="1557360"/>
            <a:ext cx="70246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Key Learning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Solver, Crystal Ball, Scenario Analysis and NPV calculations are handy tools with real-world applications (not just Decision Models assignments)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Optimal Number of Floors 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Computed as of now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This may change over time, leading to a different NPV and a possible change in decision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Decisio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Based on the assumptions of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Discount Rate (WACC) = 10%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Terminal Value = 10 times value in 2016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We get an NPV of -$98,117,253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Garamond"/>
              </a:rPr>
              <a:t>Hence, the project is a NO-GO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8000" y="44280"/>
            <a:ext cx="7128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nd Selectio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8000" y="838080"/>
            <a:ext cx="7128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Prime location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38-46 West 33</a:t>
            </a:r>
            <a:r>
              <a:rPr b="1" lang="en-US" sz="2400" spc="-1" strike="noStrike" baseline="30000">
                <a:solidFill>
                  <a:srgbClr val="4d4d4d"/>
                </a:solidFill>
                <a:latin typeface="Garamond"/>
              </a:rPr>
              <a:t>rd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 Street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Penn Plaza / Garment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Center submarket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2 blocks from Penn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Station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Convenient to several subway lines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Site details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2.27 acres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Price: $31,500,000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48758" t="41363" r="12594" b="24852"/>
          <a:stretch/>
        </p:blipFill>
        <p:spPr>
          <a:xfrm>
            <a:off x="5867280" y="1328760"/>
            <a:ext cx="3048120" cy="20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162920" y="4038480"/>
            <a:ext cx="1714320" cy="1257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4114800"/>
            <a:ext cx="1600200" cy="1062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New Jersey Transit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5543640"/>
            <a:ext cx="251460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904680"/>
            <a:ext cx="8153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verage Annual Office Ren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80880" y="1695600"/>
          <a:ext cx="8425080" cy="4628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695600"/>
                    <a:ext cx="8425080" cy="4628880"/>
                  </a:xfrm>
                  <a:prstGeom prst="rect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Minitab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2514600"/>
          <a:ext cx="7696080" cy="374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514600"/>
                    <a:ext cx="7696080" cy="374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Predicted rent in 2012, the year the building opens, is $57.48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28600" y="1650960"/>
            <a:ext cx="8610480" cy="330192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istorical Data and Indicato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562720" y="51055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4724280"/>
            <a:ext cx="838440" cy="381240"/>
          </a:xfrm>
          <a:prstGeom prst="ellipse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41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oincident Economic Indicator has the highest correlation with ren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79246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oincident Economic Indicator (CEI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1735200"/>
            <a:ext cx="51814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Index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Federal Reserve Bank of New York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Tracks the current state of the 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econom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Data includ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Employ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Real earning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Unemployment rat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Average weekly hours worked                   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(manufacturing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562720" y="2281320"/>
            <a:ext cx="3352680" cy="2747880"/>
            <a:chOff x="5562720" y="2281320"/>
            <a:chExt cx="3352680" cy="27478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5638680" y="2738520"/>
              <a:ext cx="3200400" cy="22906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144" name="" descr=""/>
            <p:cNvPicPr/>
            <p:nvPr/>
          </p:nvPicPr>
          <p:blipFill>
            <a:blip r:embed="rId3"/>
            <a:srcRect l="0" t="0" r="27694" b="33790"/>
            <a:stretch/>
          </p:blipFill>
          <p:spPr>
            <a:xfrm>
              <a:off x="5562720" y="2281320"/>
              <a:ext cx="335268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904680"/>
            <a:ext cx="8153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EI and Average Annual Office Ren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80880" y="1695600"/>
          <a:ext cx="8352000" cy="4705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695600"/>
                    <a:ext cx="8352000" cy="4705200"/>
                  </a:xfrm>
                  <a:prstGeom prst="rect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904680"/>
            <a:ext cx="7696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egression: CEI v. Avg. Office Ren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1832040"/>
          <a:ext cx="3886200" cy="203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32040"/>
                    <a:ext cx="3886200" cy="20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8600" y="4118040"/>
          <a:ext cx="8534520" cy="911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4118040"/>
                    <a:ext cx="853452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4191120" y="1828800"/>
            <a:ext cx="4572000" cy="7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R-Squared value of 63.8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Very low P-value of   0.000354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320" y="2666880"/>
            <a:ext cx="4114800" cy="381240"/>
          </a:xfrm>
          <a:prstGeom prst="ellipse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91520" y="3962520"/>
            <a:ext cx="1523880" cy="685800"/>
          </a:xfrm>
          <a:prstGeom prst="ellipse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6:08:50Z</dcterms:created>
  <dc:creator>Stern School of Business</dc:creator>
  <dc:description/>
  <dc:language>en-US</dc:language>
  <cp:lastModifiedBy>Michael L. DiNapoli</cp:lastModifiedBy>
  <dcterms:modified xsi:type="dcterms:W3CDTF">2007-04-23T12:20:02Z</dcterms:modified>
  <cp:revision>54</cp:revision>
  <dc:subject/>
  <dc:title>Name of presentation</dc:title>
</cp:coreProperties>
</file>