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15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4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3AD8-1795-46F5-AF62-072DC73E51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planation of Flex Fac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ready 34% of the OP Budget of the year has been sp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vide some flexibility to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2381400" cy="23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2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file:///tmp/home/.config/libreoffice/4/user/gallery/cat_meow2.wav" TargetMode="External"/><Relationship Id="rId5" Type="http://schemas.microsoft.com/office/2007/relationships/media" Target="file:///tmp/home/.config/libreoffice/4/user/gallery/cat_meow2.wav" TargetMode="External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LAYOFF SPECIALIST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6095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ebastien Ba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6095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hivon R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rye Sap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Jane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579132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alysis focus 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udge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ow to deliver the Sales &amp; OP Budge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ales = fx (OP ) wit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P = fx (# of employees over the year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&gt; How many employees to keep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ployee Productivity”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ow to maximize the value for the company post lay-off plan implementati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ax (EV) = Max (employee Prod x # of employees over the year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&gt; Who should leave / go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traints &amp; Flex facto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intain Current Struct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lex facto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008 sales must reach at least 3 billion (due to industry forecasts and taking into consideration product recall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429000" y="2514600"/>
            <a:ext cx="48006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OUTSOURCING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3657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In case where # of people working in Production &amp; Facility might be lower than 1,500, outsourcing production plan might be required in order to reduce the large fixed cost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191120" y="1676520"/>
            <a:ext cx="4572000" cy="3746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3520" y="5257800"/>
            <a:ext cx="7848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Gain: 75% of the Production costs &amp; significant improvement of the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YCLICAL TR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In case where next year, sales would increase according to the forecasts, rehiring might be required to face the workloa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Only applicable to Sales and Marketing For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Hiring costs: ½ Monthly Operating co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5029200" y="1447920"/>
            <a:ext cx="35798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2952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25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9144000" cy="2836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048120" y="3733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e period – minimiz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1371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e period – maximiz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952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3733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e period – minimiz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34120" y="13096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wo periods – maximiz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952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TH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5138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34120" y="5500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wo periods – maximize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2952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dge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entive Plan should be maxim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low flex factor (1.2) is required to implement the outsourcing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ductivity analysi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3644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2952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provide an optimal solution based on a specific analytical framework (i.e. Budget or Productivity a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dget &amp; Productivity Analysis can only be merged by adding data and pondering their respective benef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larger constraints are the upper and lower boundary of the acceptable % lay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952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(GOOD)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586728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’re a good worker, Steve, but I just don’t think you’re fitting in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467080" y="1066680"/>
            <a:ext cx="43480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agerial Problem Overview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rmul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cision Variabl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bjective Fun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lution Methodolog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Good) Discuss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5791320" y="2438280"/>
            <a:ext cx="16192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2952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3686400" cy="4181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124080" y="1219320"/>
            <a:ext cx="2057400" cy="1347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23880" y="1828800"/>
            <a:ext cx="1600200" cy="380880"/>
          </a:xfrm>
          <a:prstGeom prst="wedgeRectCallout">
            <a:avLst>
              <a:gd name="adj1" fmla="val 56745"/>
              <a:gd name="adj2" fmla="val 151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’re Fir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2971800" y="3048120"/>
            <a:ext cx="2166840" cy="2895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352680" y="6172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ald the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352320" y="13716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Whole Pet Foods Compan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the single largest pet food company in the world, announced a product recall in January.  Apparently some newly-hired undergrads laced the food with a certain herbal ingredient.  The ingredient added, while relatively harmless to humans, was too much for certain pets who had only recently begun to experiment with catnip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2219400" cy="2990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84280" y="3505320"/>
            <a:ext cx="2990880" cy="2219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80880" y="2133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ROBLEM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60020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707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9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product recall has forced Whole Pet Foods to forecast a 20% decrease in sales for the current yea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February, management decided to implement a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yoff pla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ROBLEM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714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aw Data Inpu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yro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entive Pla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dustry Foreca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886200" y="2438280"/>
            <a:ext cx="4905360" cy="3959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rot="21057000">
            <a:off x="7391520" y="45720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Whole Pet Fo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181120" y="571320"/>
            <a:ext cx="2514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yro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30120" y="1371600"/>
          <a:ext cx="8458200" cy="5132520"/>
        </p:xfrm>
        <a:graphic>
          <a:graphicData uri="http://schemas.openxmlformats.org/drawingml/2006/table">
            <a:tbl>
              <a:tblPr/>
              <a:tblGrid>
                <a:gridCol w="2361960"/>
                <a:gridCol w="990720"/>
                <a:gridCol w="2438280"/>
                <a:gridCol w="26672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ub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# 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Operating Cost (per employee, 000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Operating Cost (per SubCategory, 000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uman Re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6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inance, Legal, other 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T &amp; Hot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&amp;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oduction &amp; Fac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upply Cha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ales (packaging, study, direct marketi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9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urch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6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1,4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1,060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181480" y="571320"/>
            <a:ext cx="3657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entive Pla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04920" y="1371600"/>
          <a:ext cx="8381880" cy="5132520"/>
        </p:xfrm>
        <a:graphic>
          <a:graphicData uri="http://schemas.openxmlformats.org/drawingml/2006/table">
            <a:tbl>
              <a:tblPr/>
              <a:tblGrid>
                <a:gridCol w="2361960"/>
                <a:gridCol w="990720"/>
                <a:gridCol w="685800"/>
                <a:gridCol w="1676520"/>
                <a:gridCol w="1295280"/>
                <a:gridCol w="13716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ubCategory (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# 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(Y)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(Y)*#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Incentive (% Sala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ost (000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uman Re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inance, Legal, other 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T &amp; Hot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&amp;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oduction &amp; Facil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upply Cha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ales (packaging, study, direct marketi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5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urch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92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2,7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57168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dustry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1752480"/>
          <a:ext cx="7772400" cy="441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752480"/>
                    <a:ext cx="77724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781680" y="38098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281952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sales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009920" y="3759120"/>
            <a:ext cx="68580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ecision Variabl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umber of people to lay-off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llocation of fired people through different functions within the compan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iming implement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t the end of March, 34% of the yearly Budget already expens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33520" y="457200"/>
            <a:ext cx="698400" cy="762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95280" y="2286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952880" y="1523880"/>
            <a:ext cx="363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4:37:37Z</dcterms:created>
  <dc:creator> </dc:creator>
  <dc:description/>
  <dc:language>en-US</dc:language>
  <cp:lastModifiedBy> </cp:lastModifiedBy>
  <dcterms:modified xsi:type="dcterms:W3CDTF">2007-04-30T13:16:42Z</dcterms:modified>
  <cp:revision>38</cp:revision>
  <dc:subject/>
  <dc:title>Slide 1</dc:title>
</cp:coreProperties>
</file>