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5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8D2-C1D5-41CB-95F0-31BF689FA7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planation of Flex Fac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ready 34% of the OP Budget of the year has been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vide some flexibility to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file:///tmp/home/.config/libreoffice/4/user/gallery/cat_meow2.wav" TargetMode="External"/><Relationship Id="rId5" Type="http://schemas.microsoft.com/office/2007/relationships/media" Target="file:///tmp/home/.config/libreoffice/4/user/gallery/cat_meow2.wav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AYOFF SPECIALIS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bastien Ba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6095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ivon R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rye Sa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an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57913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alysis focus 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 to deliver the Sales &amp; OP Budge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ales = fx (OP ) wi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P = fx (# of employees over the yea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&gt; How many employees to keep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ee Productivity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 to maximize the value for the company post lay-off plan implement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x (EV) = Max (employee Prod x # of employees over the yea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&gt; Who should leave / go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traints &amp; Flex fac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intain Current Stru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 fac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08 sales must reach at least 3 billion (due to industry forecasts and taking into consideration product recal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429000" y="2514600"/>
            <a:ext cx="4800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UTSOURCING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In case where # of people working in Production &amp; Facility might be lower than 1,500, outsourcing production plan might be required in order to reduce the large fixed cos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4572000" cy="3746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5257800"/>
            <a:ext cx="7848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Gain: 75% of the Production costs &amp; significant improvement of th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YCLICAL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n case where next year, sales would increase according to the forecasts, rehiring might be required to face the workloa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nly applicable to Sales and Marketing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Hiring costs: ½ Monthly Operating co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029200" y="1447920"/>
            <a:ext cx="3579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25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83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812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in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ax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in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4120" y="1309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wo periods – max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4120" y="55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wo periods – maximize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dg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 should be maxim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low flex factor (1.2) is required to implement the outsourc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ivity analys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644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provide an optimal solution based on a specific analytical framework (i.e. Budget or Productivity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dget &amp; Productivity Analysis can only be merged by adding data and pondering their respective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rger constraints are the upper and lower boundary of the acceptable % lay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(GOOD)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8672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’re a good worker, Steve, but I just don’t think you’re fitting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467080" y="1066680"/>
            <a:ext cx="4348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agerial Problem Overview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Good) Discu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243828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686400" cy="4181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124080" y="1219320"/>
            <a:ext cx="2057400" cy="1347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3880" y="1828800"/>
            <a:ext cx="1600200" cy="380880"/>
          </a:xfrm>
          <a:prstGeom prst="wedgeRectCallout">
            <a:avLst>
              <a:gd name="adj1" fmla="val 56745"/>
              <a:gd name="adj2" fmla="val 15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F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971800" y="3048120"/>
            <a:ext cx="2166840" cy="2895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352680" y="6172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ald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352320" y="13716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Whole Pet Foods Compa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the single largest pet food company in the world, announced a product recall in January.  Apparently some newly-hired undergrads laced the food with a certain herbal ingredient.  The ingredient added, while relatively harmless to humans, was too much for certain pets who had only recently begun to experiment with catnip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219400" cy="299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4280" y="3505320"/>
            <a:ext cx="2990880" cy="221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6002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0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roduct recall has forced Whole Pet Foods to forecast a 20% decrease in sales for the current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February, management decided to implement 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off pla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aw Data Inpu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ustry Foreca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886200" y="2438280"/>
            <a:ext cx="49053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1057000">
            <a:off x="739152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Whole Pet F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181120" y="57132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0120" y="1371600"/>
          <a:ext cx="8458200" cy="5132520"/>
        </p:xfrm>
        <a:graphic>
          <a:graphicData uri="http://schemas.openxmlformats.org/drawingml/2006/table">
            <a:tbl>
              <a:tblPr/>
              <a:tblGrid>
                <a:gridCol w="2361960"/>
                <a:gridCol w="990720"/>
                <a:gridCol w="2438280"/>
                <a:gridCol w="2667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ub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# 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perating Cost (per employee, 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perating Cost (per SubCategory, 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uman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nance, Legal, other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T &amp; Hot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&amp;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on &amp;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pply Cha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les (packaging, study, direct market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9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c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,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,060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81480" y="57132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371600"/>
          <a:ext cx="8381880" cy="5132520"/>
        </p:xfrm>
        <a:graphic>
          <a:graphicData uri="http://schemas.openxmlformats.org/drawingml/2006/table">
            <a:tbl>
              <a:tblPr/>
              <a:tblGrid>
                <a:gridCol w="2361960"/>
                <a:gridCol w="990720"/>
                <a:gridCol w="685800"/>
                <a:gridCol w="1676520"/>
                <a:gridCol w="129528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ubCategory 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# 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(Y)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(Y)*#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centive (% Sal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ost (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uman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nance, Legal, other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T &amp; Hot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&amp;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on &amp;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pply Cha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les (packaging, study, direct market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c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2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2,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716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ustry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752480"/>
          <a:ext cx="7772400" cy="441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81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28195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sale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09920" y="375912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umber of people to lay-off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ocation of fired people through different functions within the compa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ing implem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 the end of March, 34% of the yearly Budget already expens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952880" y="1523880"/>
            <a:ext cx="363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4:37:37Z</dcterms:created>
  <dc:creator> </dc:creator>
  <dc:description/>
  <dc:language>en-US</dc:language>
  <cp:lastModifiedBy> </cp:lastModifiedBy>
  <dcterms:modified xsi:type="dcterms:W3CDTF">2007-04-30T13:16:42Z</dcterms:modified>
  <cp:revision>38</cp:revision>
  <dc:subject/>
  <dc:title>Slide 1</dc:title>
</cp:coreProperties>
</file>