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6.wmf" ContentType="image/x-wmf"/>
  <Override PartName="/ppt/media/image24.png" ContentType="image/png"/>
  <Override PartName="/ppt/media/image11.jpeg" ContentType="image/jpeg"/>
  <Override PartName="/ppt/media/image25.wmf" ContentType="image/x-wmf"/>
  <Override PartName="/ppt/media/image23.jpeg" ContentType="image/jpeg"/>
  <Override PartName="/ppt/media/image49.png" ContentType="image/png"/>
  <Override PartName="/ppt/media/image22.wmf" ContentType="image/x-wmf"/>
  <Override PartName="/ppt/media/image20.png" ContentType="image/png"/>
  <Override PartName="/ppt/media/image36.jpeg" ContentType="image/jpeg"/>
  <Override PartName="/ppt/media/image21.wmf" ContentType="image/x-wmf"/>
  <Override PartName="/ppt/media/image19.wmf" ContentType="image/x-wmf"/>
  <Override PartName="/ppt/media/image18.jpeg" ContentType="image/jpeg"/>
  <Override PartName="/ppt/media/image15.png" ContentType="image/png"/>
  <Override PartName="/ppt/media/image28.png" ContentType="image/png"/>
  <Override PartName="/ppt/media/image31.wmf" ContentType="image/x-wmf"/>
  <Override PartName="/ppt/media/image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29.png" ContentType="image/png"/>
  <Override PartName="/ppt/media/image32.jpeg" ContentType="image/jpeg"/>
  <Override PartName="/ppt/media/image33.wmf" ContentType="image/x-wmf"/>
  <Override PartName="/ppt/media/image48.png" ContentType="image/png"/>
  <Override PartName="/ppt/media/image50.png" ContentType="image/png"/>
  <Override PartName="/ppt/media/image13.png" ContentType="image/png"/>
  <Override PartName="/ppt/media/image41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wmf" ContentType="image/x-wmf"/>
  <Override PartName="/ppt/media/image35.wmf" ContentType="image/x-wmf"/>
  <Override PartName="/ppt/media/image37.wmf" ContentType="image/x-wmf"/>
  <Override PartName="/ppt/media/image30.jpeg" ContentType="image/jpeg"/>
  <Override PartName="/ppt/media/image47.wmf" ContentType="image/x-wmf"/>
  <Override PartName="/ppt/media/image4.png" ContentType="image/png"/>
  <Override PartName="/ppt/media/image38.wmf" ContentType="image/x-wmf"/>
  <Override PartName="/ppt/media/image39.png" ContentType="image/png"/>
  <Override PartName="/ppt/media/image42.wmf" ContentType="image/x-wmf"/>
  <Override PartName="/ppt/media/image9.png" ContentType="image/png"/>
  <Override PartName="/ppt/media/image17.wmf" ContentType="image/x-wmf"/>
  <Override PartName="/ppt/media/image12.wmf" ContentType="image/x-wmf"/>
  <Override PartName="/ppt/media/image51.png" ContentType="image/png"/>
  <Override PartName="/ppt/media/image8.png" ContentType="image/png"/>
  <Override PartName="/ppt/media/image16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6.png" ContentType="image/png"/>
  <Override PartName="/ppt/media/image1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782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782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20760" y="4782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6080" y="2514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3720" y="25142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782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6080" y="4782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3720" y="478296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782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20760" y="478296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20760" y="25142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78296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371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http://www.acclaimimages.com/_gallery/_pages/0093-0604-1916-2650.html" TargetMode="External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wmf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24.png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Ok, let’s get started…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3271680" y="2982960"/>
            <a:ext cx="266724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Poster Print of Cartoon Money Character Holding Silverware and Wearing a Bib"/>
          <p:cNvPicPr/>
          <p:nvPr/>
        </p:nvPicPr>
        <p:blipFill>
          <a:blip r:embed="rId1"/>
          <a:stretch/>
        </p:blipFill>
        <p:spPr>
          <a:xfrm>
            <a:off x="255600" y="3191040"/>
            <a:ext cx="2371680" cy="285732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Index Percent Return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028960" y="2697120"/>
            <a:ext cx="6906960" cy="331488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986120" y="6251400"/>
            <a:ext cx="5040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ata through to December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Defaulted indices based on Professor Edward Altman’s dat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3480" y="1433520"/>
            <a:ext cx="2073240" cy="1649520"/>
          </a:xfrm>
          <a:prstGeom prst="cloudCallout">
            <a:avLst>
              <a:gd name="adj1" fmla="val -4976"/>
              <a:gd name="adj2" fmla="val 736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’m hungry for some retur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Defaulted Securities Portfolio 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69120" y="2101680"/>
            <a:ext cx="1814400" cy="257832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476280" y="2019240"/>
            <a:ext cx="6732720" cy="481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63520" y="1486080"/>
            <a:ext cx="88804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Defaulted Securities Portfolio Sensitivity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85880" y="3062160"/>
            <a:ext cx="1990800" cy="2857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2297160" y="2513160"/>
            <a:ext cx="4124160" cy="36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Non-defaulted Securities Portfolio 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176480" y="2092320"/>
            <a:ext cx="6789600" cy="44323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Poster Print of Cartoon Money Character Golfi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11960" y="2103480"/>
            <a:ext cx="23875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41200" y="1514160"/>
            <a:ext cx="8645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Non-defaulted Securities Portfolio Sensitivity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2562120" y="2320920"/>
            <a:ext cx="4668840" cy="4240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4000680"/>
            <a:ext cx="2286000" cy="2857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76160" y="1908000"/>
            <a:ext cx="1839960" cy="2156040"/>
          </a:xfrm>
          <a:prstGeom prst="cloudCallout">
            <a:avLst>
              <a:gd name="adj1" fmla="val -43958"/>
              <a:gd name="adj2" fmla="val 56185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licing and dicing the da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Poster Print of Cartoon Money Character Pointing Finger Up"/>
          <p:cNvPicPr/>
          <p:nvPr/>
        </p:nvPicPr>
        <p:blipFill>
          <a:blip r:embed="rId1"/>
          <a:stretch/>
        </p:blipFill>
        <p:spPr>
          <a:xfrm>
            <a:off x="7134120" y="2293920"/>
            <a:ext cx="2009880" cy="2857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All Indices Portfolio 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574560" y="1982880"/>
            <a:ext cx="8458200" cy="48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All Indices Portfolio Sensitivity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88960" y="2471760"/>
            <a:ext cx="5230800" cy="37796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Poster Print of Cartoon Money Character Holding a Megaphone"/>
          <p:cNvPicPr/>
          <p:nvPr/>
        </p:nvPicPr>
        <p:blipFill>
          <a:blip r:embed="rId2"/>
          <a:stretch/>
        </p:blipFill>
        <p:spPr>
          <a:xfrm>
            <a:off x="5923080" y="3200400"/>
            <a:ext cx="2857320" cy="25718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5813280" y="1965240"/>
            <a:ext cx="2266920" cy="1306440"/>
          </a:xfrm>
          <a:prstGeom prst="cloudCallout">
            <a:avLst>
              <a:gd name="adj1" fmla="val 4833"/>
              <a:gd name="adj2" fmla="val 80861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ood looking number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816440" y="1984320"/>
            <a:ext cx="1936800" cy="1063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Summary Statistic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798560" y="2560680"/>
            <a:ext cx="5562720" cy="41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Summary Statistic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7800" y="2035080"/>
            <a:ext cx="8304480" cy="4822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Poster Print of Cartoon Money Character Wearing a Saint Patrick's Day Hat"/>
          <p:cNvPicPr/>
          <p:nvPr/>
        </p:nvPicPr>
        <p:blipFill>
          <a:blip r:embed="rId2"/>
          <a:stretch/>
        </p:blipFill>
        <p:spPr>
          <a:xfrm>
            <a:off x="7388280" y="3246480"/>
            <a:ext cx="1638360" cy="28573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985080" y="1658880"/>
            <a:ext cx="1638360" cy="1360440"/>
          </a:xfrm>
          <a:prstGeom prst="cloudCallout">
            <a:avLst>
              <a:gd name="adj1" fmla="val -9981"/>
              <a:gd name="adj2" fmla="val 85703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Feeling lucky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08120" y="16495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Now that we are in good shape with the optimal portfolio…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338640" y="3664080"/>
            <a:ext cx="2474640" cy="26510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 rot="505200">
            <a:off x="5895720" y="2484360"/>
            <a:ext cx="3085920" cy="1816200"/>
          </a:xfrm>
          <a:prstGeom prst="cloudCallout">
            <a:avLst>
              <a:gd name="adj1" fmla="val -61439"/>
              <a:gd name="adj2" fmla="val 4373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ateo aint got nothing on m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¡Que lástim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Data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~1300 bonds covering 5 different distressed bond classes from senior secured to senior discount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00 distressed lo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hly prices after default starting from January 1987 to December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Monte Carlo Simulation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551400" y="2835360"/>
            <a:ext cx="2035080" cy="2908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438880" y="2044800"/>
            <a:ext cx="2662200" cy="1593720"/>
          </a:xfrm>
          <a:prstGeom prst="cloudCallout">
            <a:avLst>
              <a:gd name="adj1" fmla="val -44574"/>
              <a:gd name="adj2" fmla="val 60356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ig money, no whammie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Poster Print of Cartoon Money Character Looking Through a Magnifying Glass"/>
          <p:cNvPicPr/>
          <p:nvPr/>
        </p:nvPicPr>
        <p:blipFill>
          <a:blip r:embed="rId1"/>
          <a:stretch/>
        </p:blipFill>
        <p:spPr>
          <a:xfrm>
            <a:off x="1035000" y="4413240"/>
            <a:ext cx="1884240" cy="235584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Simulation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5520" y="2279520"/>
            <a:ext cx="8856720" cy="305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Poster Print of Cartoon Money Character Bicycling"/>
          <p:cNvPicPr/>
          <p:nvPr/>
        </p:nvPicPr>
        <p:blipFill>
          <a:blip r:embed="rId1"/>
          <a:stretch/>
        </p:blipFill>
        <p:spPr>
          <a:xfrm>
            <a:off x="6735600" y="4479840"/>
            <a:ext cx="2251080" cy="237816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Portfolio 1:  All Asset Classe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58840" y="2048040"/>
            <a:ext cx="7315200" cy="32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Poster Print of Cartoon Money Character Water Skiing"/>
          <p:cNvPicPr/>
          <p:nvPr/>
        </p:nvPicPr>
        <p:blipFill>
          <a:blip r:embed="rId1"/>
          <a:stretch/>
        </p:blipFill>
        <p:spPr>
          <a:xfrm>
            <a:off x="6286680" y="4867200"/>
            <a:ext cx="2857320" cy="199080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5680" y="1371240"/>
            <a:ext cx="8796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Portfolio 2:  Defaulted Bonds and Loans 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255600" y="2065320"/>
            <a:ext cx="731520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Poster Print of Cartoon Money Character Driving a Car"/>
          <p:cNvPicPr/>
          <p:nvPr/>
        </p:nvPicPr>
        <p:blipFill>
          <a:blip r:embed="rId1"/>
          <a:stretch/>
        </p:blipFill>
        <p:spPr>
          <a:xfrm>
            <a:off x="6323040" y="5043600"/>
            <a:ext cx="2857320" cy="18478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22320" y="1371240"/>
            <a:ext cx="92217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Portfolio 3:  Non-defaulted Bonds and Loans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55600" y="2065320"/>
            <a:ext cx="7340760" cy="322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Comparison of method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89040" y="2287440"/>
            <a:ext cx="779472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58360" y="5184720"/>
            <a:ext cx="8332920" cy="10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ulation shows that with the weights suggested by optimization, none of the 3 portfolios beat the historical S&amp;P average, and 2 of the 3 portfolios have a higher standard devi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Doomsday Scenario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370320" y="2401920"/>
            <a:ext cx="245412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Weighted Average Portfolio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907920" y="2305080"/>
            <a:ext cx="732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Graph of monthly return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5440" y="3276720"/>
            <a:ext cx="2229120" cy="20732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265480" y="2157480"/>
            <a:ext cx="6878520" cy="470052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35080" y="2198520"/>
            <a:ext cx="2349360" cy="873360"/>
          </a:xfrm>
          <a:prstGeom prst="cloudCallout">
            <a:avLst>
              <a:gd name="adj1" fmla="val -35000"/>
              <a:gd name="adj2" fmla="val 85634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mpressed ye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Historical Returns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20680" y="5361120"/>
            <a:ext cx="1258920" cy="95400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956280" y="5767560"/>
            <a:ext cx="2187720" cy="12016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786120" y="5262480"/>
            <a:ext cx="2700360" cy="882720"/>
          </a:xfrm>
          <a:prstGeom prst="cloudCallout">
            <a:avLst>
              <a:gd name="adj1" fmla="val 77925"/>
              <a:gd name="adj2" fmla="val 5162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hat the #@&amp;%?!?!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2920" y="6505560"/>
            <a:ext cx="380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* Note: Expletive omitted due to recent even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201600" y="1932120"/>
            <a:ext cx="8739360" cy="299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08120" y="1560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What do we do with all of this data?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427560" y="2720880"/>
            <a:ext cx="2293920" cy="31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Sensitivity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5045040"/>
            <a:ext cx="1947960" cy="18129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3017880"/>
            <a:ext cx="1989000" cy="1584360"/>
          </a:xfrm>
          <a:prstGeom prst="cloudCallout">
            <a:avLst>
              <a:gd name="adj1" fmla="val 361"/>
              <a:gd name="adj2" fmla="val 723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’m a sensitive gu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063880" y="2057400"/>
            <a:ext cx="630396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Efficient Frontier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62760" y="4859280"/>
            <a:ext cx="1392480" cy="19987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201680" y="2260440"/>
            <a:ext cx="6720120" cy="361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194600" y="2414520"/>
            <a:ext cx="1923840" cy="1865520"/>
          </a:xfrm>
          <a:prstGeom prst="cloudCallout">
            <a:avLst>
              <a:gd name="adj1" fmla="val 11550"/>
              <a:gd name="adj2" fmla="val 80129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OAH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ice Fronti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Summary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344320" y="2525400"/>
            <a:ext cx="6559560" cy="40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aulted securities can be a valuable part of a portfol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re prepared to make money from a doomsday default scen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le there are many defaulted bonds we can invest in, there are no such investable indices curr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3200" y="3038400"/>
            <a:ext cx="2233800" cy="27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3490920" y="2627280"/>
            <a:ext cx="3376440" cy="335448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 rot="21445200">
            <a:off x="5549760" y="3317760"/>
            <a:ext cx="9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440" y="2054160"/>
            <a:ext cx="2638440" cy="1435320"/>
          </a:xfrm>
          <a:prstGeom prst="wedgeEllipseCallout">
            <a:avLst>
              <a:gd name="adj1" fmla="val 47773"/>
              <a:gd name="adj2" fmla="val 560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I’m going to miss the give and tak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Let’s party!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23880" y="3352680"/>
            <a:ext cx="2032200" cy="23623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5862600" y="3511440"/>
            <a:ext cx="2174760" cy="2203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44440" y="1541520"/>
            <a:ext cx="2179800" cy="1606320"/>
          </a:xfrm>
          <a:prstGeom prst="cloudCallout">
            <a:avLst>
              <a:gd name="adj1" fmla="val 17518"/>
              <a:gd name="adj2" fmla="val 79842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 hear drinks are on Jura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8720" y="1521000"/>
            <a:ext cx="2533680" cy="1501560"/>
          </a:xfrm>
          <a:prstGeom prst="wedgeEllipseCallout">
            <a:avLst>
              <a:gd name="adj1" fmla="val -27819"/>
              <a:gd name="adj2" fmla="val 8118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m not going to give you a bowl of $@#&amp; and tell you it’s ice crea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I have an idea!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287880" y="2871720"/>
            <a:ext cx="2579400" cy="36514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 rot="597000">
            <a:off x="5532480" y="2192040"/>
            <a:ext cx="1839960" cy="1042920"/>
          </a:xfrm>
          <a:prstGeom prst="cloudCallout">
            <a:avLst>
              <a:gd name="adj1" fmla="val -40337"/>
              <a:gd name="adj2" fmla="val 94291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21324600">
            <a:off x="1324080" y="2017440"/>
            <a:ext cx="1782720" cy="1230120"/>
          </a:xfrm>
          <a:prstGeom prst="cloudCallout">
            <a:avLst>
              <a:gd name="adj1" fmla="val 76740"/>
              <a:gd name="adj2" fmla="val 10225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rystal B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39640" y="3511440"/>
            <a:ext cx="1803600" cy="1090800"/>
          </a:xfrm>
          <a:prstGeom prst="cloudCallout">
            <a:avLst>
              <a:gd name="adj1" fmla="val 83976"/>
              <a:gd name="adj2" fmla="val 9133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716880" y="3271680"/>
            <a:ext cx="2226960" cy="1254240"/>
          </a:xfrm>
          <a:prstGeom prst="cloudCallout">
            <a:avLst>
              <a:gd name="adj1" fmla="val -84782"/>
              <a:gd name="adj2" fmla="val 69875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olver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671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Decision Models Project:</a:t>
            </a:r>
            <a:br>
              <a:rPr sz="3600"/>
            </a:br>
            <a:r>
              <a:rPr b="0" lang="en-US" sz="3600" spc="-1" strike="noStrike">
                <a:solidFill>
                  <a:srgbClr val="371c70"/>
                </a:solidFill>
                <a:latin typeface="Arial"/>
              </a:rPr>
              <a:t>Distressed Debt 101</a:t>
            </a:r>
            <a:endParaRPr b="0" lang="en-US" sz="36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420920" y="2882880"/>
            <a:ext cx="6296040" cy="27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 Amd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icole Henggel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rc Regenba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an Serviansk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eff Swans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42880" y="3430440"/>
            <a:ext cx="2098800" cy="22561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308640" y="3274920"/>
            <a:ext cx="2210040" cy="2440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rot="21188400">
            <a:off x="6380280" y="3511440"/>
            <a:ext cx="131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UR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25142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te Car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omsday Scen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Let’s dive right in…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3840" y="2489040"/>
            <a:ext cx="1427040" cy="27082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-11160" y="4610160"/>
            <a:ext cx="2857680" cy="22096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272280" y="2416320"/>
            <a:ext cx="2479680" cy="690480"/>
          </a:xfrm>
          <a:prstGeom prst="wedgeEllipseCallout">
            <a:avLst>
              <a:gd name="adj1" fmla="val -51472"/>
              <a:gd name="adj2" fmla="val 1518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nonball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Problem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271600"/>
            <a:ext cx="780912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defaulted bonds and loans provide value to a portfoli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d three portfoli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aulted securities (bonds and loans) and S&amp;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defaulted securities (high yield and investment grade) and S&amp;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ind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70680" y="5105520"/>
            <a:ext cx="1273320" cy="17524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125960" y="4879800"/>
            <a:ext cx="2998800" cy="1287720"/>
          </a:xfrm>
          <a:prstGeom prst="cloudCallout">
            <a:avLst>
              <a:gd name="adj1" fmla="val 77527"/>
              <a:gd name="adj2" fmla="val 22009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ouston, we have a problem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1c70"/>
                </a:solidFill>
                <a:latin typeface="Arial"/>
              </a:rPr>
              <a:t>It’s number crunching time…</a:t>
            </a:r>
            <a:endParaRPr b="0" lang="en-US" sz="4000" spc="-1" strike="noStrike">
              <a:solidFill>
                <a:srgbClr val="371c7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452760" y="3352680"/>
            <a:ext cx="2333520" cy="28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31T04:26:19Z</dcterms:created>
  <dc:creator>Ken Goldman</dc:creator>
  <dc:description/>
  <dc:language>en-US</dc:language>
  <cp:lastModifiedBy>Jeff</cp:lastModifiedBy>
  <cp:lastPrinted>2000-08-02T18:41:14Z</cp:lastPrinted>
  <dcterms:modified xsi:type="dcterms:W3CDTF">2007-04-30T00:48:54Z</dcterms:modified>
  <cp:revision>908</cp:revision>
  <dc:subject/>
  <dc:title>Info Session Presentation</dc:title>
</cp:coreProperties>
</file>