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F3B-DC11-4053-BE1F-2C731703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D06-1E6D-443F-9C19-7DE1B7BC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802-D1F4-4BC0-BA50-459CCB8F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999-4FF7-453D-8D91-C2CA9305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2E6-854A-4086-AE6A-3F04377D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156-9E3F-4428-95F5-5E21F3C1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1D1-2336-4433-B928-E0CB9C0B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7B1-D9E2-4440-AA4B-B225D41D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E2D-8EAC-4287-B9A3-34EFA26C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BB3-3556-4066-9DFE-D4B5626B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44E-C1D7-4AF3-84CD-3B33F723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B04-CA56-49A1-9538-F3D21F63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31B3-8F58-4019-992C-8A0C29C6D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828800"/>
            <a:ext cx="4495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Perpetua Titling MT"/>
              </a:rPr>
              <a:t>The Stone Bow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35960" y="4495680"/>
            <a:ext cx="150804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111720" y="4495680"/>
            <a:ext cx="158436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48320" y="4495680"/>
            <a:ext cx="150804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320" y="4038480"/>
            <a:ext cx="419076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Decision Mod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April 28, 20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Rebecca Berm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Tira Gre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Robb Henz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Daniel Kura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Perpetua Titling MT"/>
              </a:rPr>
              <a:t>David ne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447920"/>
            <a:ext cx="8153280" cy="33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Stone Bowl “roc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nal labor force needed at peak lunch ho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520" y="2882880"/>
            <a:ext cx="82296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447920"/>
            <a:ext cx="861048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2375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Company Concep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375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Operational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375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Goals and Constra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375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Demand &amp; Labor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375"/>
              </a:spcBef>
              <a:buClr>
                <a:srgbClr val="000000"/>
              </a:buClr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pany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600200"/>
            <a:ext cx="670572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3200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Stone Bowl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 is a fast-casual restaurant that introduces a new approach to soups, salads and rice bowls by allowing customers to customize their perfect bowl of food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enu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7086600" cy="55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peration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54080" y="1360440"/>
            <a:ext cx="702324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50 customers per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167 order per minute (not including online order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mployees must be scheduled for full h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abor costs per 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Cashiers: $9.50 h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Mixers: $9.75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Servers: $8.50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Floaters: $7.50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038480" y="3314880"/>
            <a:ext cx="472464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oals &amp;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52892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rvice goal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Total wait time of less than 13 minutes time per customer (T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Cashiers: 1 minute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Mixers: 2 minute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Servers: 30 seconds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Floaters: 15 seconds TP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96252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Labor Mo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3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74678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taff Per Customer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1209600"/>
          <a:ext cx="8001000" cy="5648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09600"/>
                    <a:ext cx="800100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17:17:27Z</dcterms:created>
  <dc:creator>Robert Henzi</dc:creator>
  <dc:description/>
  <dc:language>en-US</dc:language>
  <cp:lastModifiedBy>Tira Grey</cp:lastModifiedBy>
  <dcterms:modified xsi:type="dcterms:W3CDTF">2008-04-27T21:34:32Z</dcterms:modified>
  <cp:revision>14</cp:revision>
  <dc:subject/>
  <dc:title>PowerPoint Presentation</dc:title>
</cp:coreProperties>
</file>