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681-C07E-4E23-AC31-D90B9B52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9AA-DDC9-4D58-B20E-B1AFB6E4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3FE-6EFA-4320-AC11-1DEBC0FB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4EC-6A52-4C11-ADF8-3CB8F893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1A0-8820-48BA-8CBA-35537190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B7F-678C-47E5-8FC9-AD3DF58C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175-5A1D-42F8-8453-6BFC4AF7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8E5-91EA-4986-BA5F-138EF0BB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2D6-5605-4286-ADFF-C1CDF629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104-0933-408F-A706-55F6120B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CB9-38B9-4788-BAD1-4F84366B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892-A3E1-4AE3-A604-1E337BA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B7D0-0B40-4A08-968B-EA9CCB1E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828800"/>
            <a:ext cx="449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Perpetua Titling MT"/>
              </a:rPr>
              <a:t>The Stone Bow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5960" y="4495680"/>
            <a:ext cx="150804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111720" y="4495680"/>
            <a:ext cx="158436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8320" y="4495680"/>
            <a:ext cx="150804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4038480"/>
            <a:ext cx="419076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Decision Mod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April 28, 20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Rebecca Ber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Tira Gre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Robb Henz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Daniel Kura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David ne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8153280" cy="33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Stone Bowl “roc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nal labor force needed at peak lunch ho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2882880"/>
            <a:ext cx="82296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447920"/>
            <a:ext cx="861048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Company Concep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Operational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Goals and Constra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Demand &amp; Labor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pany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600200"/>
            <a:ext cx="670572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3200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Stone Bowl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is a fast-casual restaurant that introduces a new approach to soups, salads and rice bowls by allowing customers to customize their perfect bowl of food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nu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708660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peration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54080" y="1360440"/>
            <a:ext cx="702324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50 customers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167 order per minute (not including online order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mployees must be scheduled for full h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abor costs per 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Cashiers: $9.50 h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Mixers: $9.75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Servers: $8.50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Floaters: $7.50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038480" y="3314880"/>
            <a:ext cx="472464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oals &amp;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52892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rvice goal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Total wait time of less than 13 minutes time per customer (T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Cashiers: 1 minute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Mixers: 2 minute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Servers: 30 seconds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Floaters: 15 seconds TP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9625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Labor Mo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74678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taff Per Customer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1209600"/>
          <a:ext cx="8001000" cy="5648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09600"/>
                    <a:ext cx="800100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7:17:27Z</dcterms:created>
  <dc:creator>Robert Henzi</dc:creator>
  <dc:description/>
  <dc:language>en-US</dc:language>
  <cp:lastModifiedBy>Tira Grey</cp:lastModifiedBy>
  <dcterms:modified xsi:type="dcterms:W3CDTF">2008-04-27T21:34:32Z</dcterms:modified>
  <cp:revision>14</cp:revision>
  <dc:subject/>
  <dc:title>PowerPoint Presentation</dc:title>
</cp:coreProperties>
</file>