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media/image9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74B-7C51-4126-A04B-53733672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639-F8BE-4B2F-AAD0-8F4FB681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A48-5A03-4D26-B159-92010920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308-42F3-41DE-9D00-5F636310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EE39-4D34-404A-B3E5-0A049BA8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E176-172B-482D-A1E7-53B98162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60B0-DA98-4FB3-BDE7-381C0525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A7FC-36F4-47CA-AAF4-DEF541AA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C21A-AD57-42E3-B07C-CD2BB7E0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FFA6-3A2F-48E7-9D53-096172F0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24F8-BB9E-4D3E-8135-92E405D4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D69-0141-4DCC-8A4B-4098823D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4E3F-F806-4C33-B943-D94FC70F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2235-B169-46B2-8329-85AB94E6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0C5F-7244-448E-BDE4-FF8733A8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2513-5B63-40FD-8E64-6631604F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1F1E-4BCD-4814-BA55-61AE3C47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4DB-88A5-4F97-900A-0234254C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FAF6-4095-4288-8C03-3048F8AA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1A1-4014-4A94-AB35-87F5CD46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E5B-5DD9-4DAB-B2CC-22545291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E88-A143-4184-9784-E6F2A4E3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4D2-274A-4A91-8CFB-8FA5AE29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D05-8892-46FF-ABF4-9251F0A8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31A9-943D-4030-888F-347216549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9079-7272-42A5-9095-F73842433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516" t="1920" r="7769" b="134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5335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Zach &amp; Christy Move to L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6248520"/>
            <a:ext cx="8610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b7"/>
                </a:solidFill>
                <a:latin typeface="Arial"/>
              </a:rPr>
              <a:t>Decision Modelers and Realtors: Krista, Noreen, Zach, Hayal and Susi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del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98520" y="1866960"/>
            <a:ext cx="708336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del Outpu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8007480" cy="1255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4174920" cy="3133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419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 &amp; A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1629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kground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ch and his wife Christy are moving to Los Angeles after graduation. They are ready for a change of scenery, a bigger house, and year-round sunshi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76720" y="41911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 rot="16870200">
            <a:off x="7619040" y="1600560"/>
            <a:ext cx="887400" cy="885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92229E-006 C -0.13438 -0.06961 -0.26875 -0.13922 -0.40156 -0.09458 C -0.53438 -0.04995 -0.7316 0.20791 -0.79722 0.26828 E">
                                      <p:cBhvr>
                                        <p:cTn id="6" dur="3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263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bjecti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the dream house th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izes their joint happiness given the cost, commute time, house size and charm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ch will work in Santa Monica and Christy will work in Beverly Hil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cision Variab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bjecti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Maximize joint utility of Zach and Chris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npu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nkings based on cost of house, commute time, size and cha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nstrai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commute ti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st of house (Mortgage and Remodeling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ze in square foot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rm (Age of house, Yard size, Neighborhood, etc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utpu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ect Dream Ho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ata Sour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5 houses listed on LA real estate mark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anking Methodolo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riteria was ranked on a scale of 1-3, or a penalty of 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thly mortgage payment assuming $200,000 down payment and 6.5% interest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deling cost varies from 0, $100,000 or $200,000, amortized over 30 year loan peri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te Tim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assumed that average travel speed in rush hour would be 15 MPH*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commute / 15 M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6477120"/>
            <a:ext cx="66294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Source: Lewis Center for Regional Studies re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anking Methodolo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houses ranked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alty assigned for houses under 1600 square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style of house, neighborhood, yard size, landscaping, and basic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m Sca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200400" cy="2122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10080" y="2133720"/>
            <a:ext cx="2895840" cy="2133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53481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5424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66680" y="5119560"/>
            <a:ext cx="6934320" cy="228600"/>
            <a:chOff x="1066680" y="5119560"/>
            <a:chExt cx="6934320" cy="228600"/>
          </a:xfrm>
        </p:grpSpPr>
        <p:sp>
          <p:nvSpPr>
            <p:cNvPr id="126" name=""/>
            <p:cNvSpPr/>
            <p:nvPr/>
          </p:nvSpPr>
          <p:spPr>
            <a:xfrm>
              <a:off x="1066680" y="5195880"/>
              <a:ext cx="693432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5119560"/>
              <a:ext cx="0" cy="228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01000" y="5119560"/>
              <a:ext cx="0" cy="228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858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ata Colle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8001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21:26:11Z</dcterms:created>
  <dc:creator>Noreen Haider</dc:creator>
  <dc:description/>
  <dc:language>en-US</dc:language>
  <cp:lastModifiedBy>Noreen Haider</cp:lastModifiedBy>
  <dcterms:modified xsi:type="dcterms:W3CDTF">2008-04-25T17:57:27Z</dcterms:modified>
  <cp:revision>7</cp:revision>
  <dc:subject/>
  <dc:title>Slide 1</dc:title>
</cp:coreProperties>
</file>