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639481-9B4B-45ED-A31C-04EBE9B2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E942D2-F8DB-4DCC-88BB-05510620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7A1D48-47DF-4A0F-84E8-02101762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BBE-6077-4F53-86C0-B2390229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3F1-0952-450B-8843-075768E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128-94BF-4801-AD95-D1894727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CA2-86A1-44F9-ABDA-125AF00F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52D-95DC-4FFE-95FA-826C9680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9B9-7A05-4331-ABE3-6304656F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AC8-1AFA-4552-9492-9035AD6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8F1-FD4D-4323-925F-C1ADFA4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33E-921B-4FAD-9EF6-DB81CBB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263B-E681-4A36-90C4-08A56F6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EF9-4F9E-45A9-9C90-CE019FFF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D49-03E3-49AB-8495-3CC419E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C352-7252-4D15-8DFC-37A6336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D32-8BE9-4301-B14F-368EA79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0E9-03CD-48D4-99AE-30DE4C8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1DF8-1272-493F-864C-CE598E4F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3D4-6C1D-4812-A0FC-38C09D65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28F-D35A-42F8-B1A9-E803D09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A62-4123-466D-91CF-E06B29C0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C48-1353-4B51-8380-29DF81A8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92C-625E-48BC-869C-9F0E25F5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42B-024F-42A5-B7EE-F95DBFC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8EA-2604-4C2B-9AAD-621BA48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E46-8864-4742-B765-73211B9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5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5400" y="6610320"/>
            <a:ext cx="1828800" cy="21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07600" y="6571800"/>
            <a:ext cx="536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C03-88E6-4EA4-BF33-1BF1C4A7E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64160"/>
            <a:ext cx="9144000" cy="88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38160"/>
            <a:ext cx="9144000" cy="176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15880"/>
            <a:ext cx="9144000" cy="42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38D-E2AB-4B49-A053-9086F6707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tegic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uardo S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rcelo Eric Fre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blo Caic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ardo Fryd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19360" y="1947960"/>
            <a:ext cx="55530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Forecast of market share in “not Compete” op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3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Not Compe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920" y="2228760"/>
          <a:ext cx="43606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28760"/>
                    <a:ext cx="43606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981680" y="3774960"/>
          <a:ext cx="337176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1680" y="377496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049720" y="1258920"/>
          <a:ext cx="3382920" cy="235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9720" y="1258920"/>
                    <a:ext cx="3382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B81-E441-45A4-91ED-B3D1254FE2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We then use Market Share as our assumption vari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ingular distribution seems the best option to project EH’s market share in both scenarios (compete and not compete) due to the uncertainty in the forecas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87400" y="2981160"/>
            <a:ext cx="5943600" cy="3333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20960" y="587520"/>
            <a:ext cx="52380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1A8-91E3-4087-85EB-2950B26CBE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ells turning into green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822960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20F-D55D-4234-B468-A7B091CD9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Forcast NP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e output of this model is a distribution of a 5-year NPV for both scenarios in order to help us decide upon the best option to choos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178840" y="3975120"/>
            <a:ext cx="706320" cy="598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10800000">
            <a:off x="7826400" y="4684680"/>
            <a:ext cx="738000" cy="1363680"/>
          </a:xfrm>
          <a:custGeom>
            <a:avLst/>
            <a:gdLst>
              <a:gd name="textAreaLeft" fmla="*/ 0 w 738000"/>
              <a:gd name="textAreaRight" fmla="*/ 738360 w 73800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7" stAng="10800000" swAng="5400000"/>
                <a:lnTo>
                  <a:pt x="15050" y="3243"/>
                </a:lnTo>
                <a:lnTo>
                  <a:pt x="15050" y="0"/>
                </a:lnTo>
                <a:lnTo>
                  <a:pt x="21600" y="6079"/>
                </a:lnTo>
                <a:lnTo>
                  <a:pt x="15050" y="12158"/>
                </a:lnTo>
                <a:lnTo>
                  <a:pt x="15050" y="8915"/>
                </a:lnTo>
                <a:lnTo>
                  <a:pt x="12427" y="8915"/>
                </a:lnTo>
                <a:arcTo wR="6755" hR="3245" stAng="16200000" swAng="-5400000"/>
                <a:lnTo>
                  <a:pt x="5672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89120" y="3000240"/>
            <a:ext cx="6864120" cy="28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F7D-8C17-4AD7-A096-BC31B8C6C8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0040" y="1995480"/>
            <a:ext cx="4546800" cy="3255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52840" y="1989000"/>
            <a:ext cx="4552920" cy="32623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8607600" y="6572160"/>
            <a:ext cx="536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443-9140-4C0D-93D5-2B985C21B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200" y="1546200"/>
            <a:ext cx="43052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PV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0" y="1546200"/>
            <a:ext cx="43401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PV not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6280" y="2682720"/>
            <a:ext cx="1616040" cy="457200"/>
          </a:xfrm>
          <a:prstGeom prst="wedgeEllipseCallout">
            <a:avLst>
              <a:gd name="adj1" fmla="val 87032"/>
              <a:gd name="adj2" fmla="val 202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$ 1.1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2000" y="5491080"/>
            <a:ext cx="4092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WACC = 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g WC = 0; CAPEX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hoenix = $ 20,000 ; ECP3000 = $13,000 ; ECP4000 = $20,000 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upergraphics = $32,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4948200"/>
            <a:ext cx="1749240" cy="795240"/>
          </a:xfrm>
          <a:prstGeom prst="wedgeRoundRectCallout">
            <a:avLst>
              <a:gd name="adj1" fmla="val -59800"/>
              <a:gd name="adj2" fmla="val -112273"/>
              <a:gd name="adj3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 chance of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7468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In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-yea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orizon, Cash Cow (not compete) provides a higher net present value, with lower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57880" y="1546200"/>
            <a:ext cx="207720" cy="37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57880" y="2682720"/>
            <a:ext cx="1666800" cy="457200"/>
          </a:xfrm>
          <a:prstGeom prst="wedgeEllipseCallout">
            <a:avLst>
              <a:gd name="adj1" fmla="val 80189"/>
              <a:gd name="adj2" fmla="val 199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$ 2.4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ABB-468C-4A7D-8B82-5729C93BF8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8607600" y="6572160"/>
            <a:ext cx="536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196-354B-40F2-A716-0849B948D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likely market share forecast: Until 1994, Compete strategy results in negative cumulative cash fl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9320" y="5675400"/>
            <a:ext cx="8089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WACC = 15% (with Phoenix) &amp; 12% (without Phoeni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hag WC = 0; CAPEX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enix = $ 20,000 ; ECP3000 = $13,000 ; ECP4000 = $20,000 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graphics = $32,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9920" y="1415880"/>
          <a:ext cx="418932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920" y="1415880"/>
                    <a:ext cx="41893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65040" y="1392120"/>
          <a:ext cx="4191120" cy="41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1392120"/>
                    <a:ext cx="419112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CE8-DEA2-4922-A270-634064E62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Recommendation &amp; concl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e believe that Electrohome should not compete with Barco and Sony and exit the business withinh the next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D30-6E78-40C6-9C2E-1B964700A9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ny, Barco, and Electrohome compete in three main segments with Sony pushing into Superdata/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21080" y="1271520"/>
            <a:ext cx="203652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8460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data/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852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781360"/>
            <a:ext cx="412740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6400" y="2781360"/>
            <a:ext cx="206352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/perform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2520" y="3846600"/>
            <a:ext cx="412740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2520" y="4917960"/>
            <a:ext cx="4127400" cy="7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-of-us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9160" y="2781360"/>
            <a:ext cx="743040" cy="369720"/>
          </a:xfrm>
          <a:prstGeom prst="rightArrow">
            <a:avLst>
              <a:gd name="adj1" fmla="val 50000"/>
              <a:gd name="adj2" fmla="val 50243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195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4080" y="219564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3400" y="219564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8520" y="2195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606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94080" y="16606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1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3400" y="16606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8520" y="16606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54560" y="4983120"/>
            <a:ext cx="220500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0" r="0" b="68498"/>
          <a:stretch/>
        </p:blipFill>
        <p:spPr>
          <a:xfrm>
            <a:off x="4043520" y="387504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37113" r="0" b="37113"/>
          <a:stretch/>
        </p:blipFill>
        <p:spPr>
          <a:xfrm>
            <a:off x="1787400" y="2840040"/>
            <a:ext cx="1470240" cy="282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840" y="17114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" y="225756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8520" y="2637000"/>
            <a:ext cx="203688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Market does not exist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cc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51800" y="1176480"/>
            <a:ext cx="2265120" cy="4665600"/>
          </a:xfrm>
          <a:prstGeom prst="rect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BB1-9936-4700-840D-830C90C599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ny/Barco tech war leaves EH with uncompetitive $/kHz and falling Graphics sh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44640" y="1762200"/>
            <a:ext cx="0" cy="42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44640" y="6005520"/>
            <a:ext cx="77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6840" y="6005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286200" y="31190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44640" y="1454040"/>
            <a:ext cx="5813280" cy="398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60040" y="2158920"/>
            <a:ext cx="5612040" cy="384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232160"/>
            <a:ext cx="488880" cy="7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2973240"/>
            <a:ext cx="488880" cy="7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77080" y="2009880"/>
            <a:ext cx="488880" cy="71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68498"/>
          <a:stretch/>
        </p:blipFill>
        <p:spPr>
          <a:xfrm>
            <a:off x="1944720" y="459756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37113" r="0" b="37113"/>
          <a:stretch/>
        </p:blipFill>
        <p:spPr>
          <a:xfrm>
            <a:off x="1476360" y="5091120"/>
            <a:ext cx="146988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184560" y="3917880"/>
            <a:ext cx="2205000" cy="26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0" r="0" b="68498"/>
          <a:stretch/>
        </p:blipFill>
        <p:spPr>
          <a:xfrm>
            <a:off x="3892680" y="336564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0" t="37113" r="0" b="37113"/>
          <a:stretch/>
        </p:blipFill>
        <p:spPr>
          <a:xfrm>
            <a:off x="3157560" y="4232160"/>
            <a:ext cx="1469880" cy="282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28880" y="5464080"/>
            <a:ext cx="89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4597560"/>
            <a:ext cx="79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77360" y="3413160"/>
            <a:ext cx="199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(7-8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44440" y="2357280"/>
            <a:ext cx="257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GRAPHICS (9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43360" y="1711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rcRect l="0" t="0" r="65215" b="0"/>
          <a:stretch/>
        </p:blipFill>
        <p:spPr>
          <a:xfrm>
            <a:off x="1116000" y="5438880"/>
            <a:ext cx="828720" cy="209520"/>
          </a:xfrm>
          <a:prstGeom prst="rect">
            <a:avLst/>
          </a:prstGeom>
          <a:ln w="0">
            <a:noFill/>
          </a:ln>
        </p:spPr>
      </p:pic>
      <p:cxnSp>
        <p:nvCxnSpPr>
          <p:cNvPr id="144" name=""/>
          <p:cNvCxnSpPr>
            <a:stCxn id="137" idx="1"/>
            <a:endCxn id="145" idx="1"/>
          </p:cNvCxnSpPr>
          <p:nvPr/>
        </p:nvCxnSpPr>
        <p:spPr>
          <a:xfrm flipH="1" rot="10800000">
            <a:off x="3157200" y="1647000"/>
            <a:ext cx="792720" cy="2726640"/>
          </a:xfrm>
          <a:prstGeom prst="curvedConnector5">
            <a:avLst>
              <a:gd name="adj1" fmla="val -28850"/>
              <a:gd name="adj2" fmla="val 49993"/>
              <a:gd name="adj3" fmla="val -2885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406760" y="1436760"/>
            <a:ext cx="2059200" cy="2241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44880" y="2009880"/>
            <a:ext cx="486000" cy="841320"/>
          </a:xfrm>
          <a:prstGeom prst="upArrow">
            <a:avLst>
              <a:gd name="adj1" fmla="val 41833"/>
              <a:gd name="adj2" fmla="val 741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1711440"/>
            <a:ext cx="485640" cy="841320"/>
          </a:xfrm>
          <a:prstGeom prst="upArrow">
            <a:avLst>
              <a:gd name="adj1" fmla="val 41833"/>
              <a:gd name="adj2" fmla="val 741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4844880" y="3049560"/>
            <a:ext cx="2205360" cy="26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rcRect l="0" t="37113" r="0" b="37113"/>
          <a:stretch/>
        </p:blipFill>
        <p:spPr>
          <a:xfrm>
            <a:off x="3949560" y="1506600"/>
            <a:ext cx="1470240" cy="282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rcRect l="0" t="0" r="0" b="68498"/>
          <a:stretch/>
        </p:blipFill>
        <p:spPr>
          <a:xfrm>
            <a:off x="5435640" y="1298520"/>
            <a:ext cx="1106280" cy="34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3D6-9C39-41EC-8171-26822F231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H needs short-term cash for investments in media and to cover short-term debt oblig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88760"/>
            <a:ext cx="40384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ort-term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meeting short-term debt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ers threatening to drop Electrohome’s products due to potential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688760"/>
            <a:ext cx="40384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ort-term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division of EH is currently busy acquiring several radio and television stations across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Division is critical source of funds (15% of total corporate sales; $5.3MM in cash in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CB0-0FA5-4614-9F79-F71E53DB6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Compete with Sony and Barco or not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8880" y="2787480"/>
            <a:ext cx="2063880" cy="47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88000" y="4226040"/>
            <a:ext cx="2681280" cy="1438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sh Cow the business and prepare to exit it within the next 3-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80080" y="1882800"/>
            <a:ext cx="2689200" cy="13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a projector (Phoenix) capable of exceeding Barco’s and Sony’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2760" y="4226040"/>
            <a:ext cx="20635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3"/>
            <a:endCxn id="158" idx="1"/>
          </p:cNvCxnSpPr>
          <p:nvPr/>
        </p:nvCxnSpPr>
        <p:spPr>
          <a:xfrm flipV="1">
            <a:off x="4622400" y="2547720"/>
            <a:ext cx="105804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3"/>
            <a:endCxn id="157" idx="1"/>
          </p:cNvCxnSpPr>
          <p:nvPr/>
        </p:nvCxnSpPr>
        <p:spPr>
          <a:xfrm>
            <a:off x="4615920" y="4441680"/>
            <a:ext cx="10724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495360" y="3575160"/>
            <a:ext cx="1352520" cy="46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3"/>
            <a:endCxn id="156" idx="1"/>
          </p:cNvCxnSpPr>
          <p:nvPr/>
        </p:nvCxnSpPr>
        <p:spPr>
          <a:xfrm flipV="1">
            <a:off x="1847520" y="3021840"/>
            <a:ext cx="7117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3"/>
            <a:endCxn id="159" idx="1"/>
          </p:cNvCxnSpPr>
          <p:nvPr/>
        </p:nvCxnSpPr>
        <p:spPr>
          <a:xfrm>
            <a:off x="1847880" y="3809520"/>
            <a:ext cx="70524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266-9EE2-4433-B73C-5D64318C0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enix Characteristics: aimed at exceeding the price/performance levels of Sony and Bar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month to develop the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ynergy of simultaneously developing a Graphic and Supergraphic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.8MM incremental R&amp;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563-656B-4321-90C0-7810C2D6B2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Cash Cow and Phoenix imply different tac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379520"/>
          <a:ext cx="8229600" cy="3560760"/>
        </p:xfrm>
        <a:graphic>
          <a:graphicData uri="http://schemas.openxmlformats.org/drawingml/2006/table">
            <a:tbl>
              <a:tblPr/>
              <a:tblGrid>
                <a:gridCol w="1949400"/>
                <a:gridCol w="3140280"/>
                <a:gridCol w="313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h 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t compe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e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mpe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8MM additional inve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drop in 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drop until new product is fully develo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enter this new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the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t projector business within the next 3-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in the project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AEB-6F17-41F1-89D4-0D7140E85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2297160"/>
            <a:ext cx="9144000" cy="1163160"/>
            <a:chOff x="0" y="2297160"/>
            <a:chExt cx="9144000" cy="1163160"/>
          </a:xfrm>
        </p:grpSpPr>
        <p:sp>
          <p:nvSpPr>
            <p:cNvPr id="170" name=""/>
            <p:cNvSpPr/>
            <p:nvPr/>
          </p:nvSpPr>
          <p:spPr>
            <a:xfrm>
              <a:off x="0" y="2521800"/>
              <a:ext cx="9144000" cy="9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97160"/>
              <a:ext cx="9144000" cy="22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stal Ball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625-6B5B-4FC6-849A-F72A2A62A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Forecast of market share in “Compete” op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3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Compe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981680" y="1271520"/>
          <a:ext cx="337176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27152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981680" y="3774960"/>
          <a:ext cx="337176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1680" y="377496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17520" y="2070000"/>
          <a:ext cx="4373640" cy="30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520" y="2070000"/>
                    <a:ext cx="43736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F28-8981-4A59-A6BB-5692AAC51A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33:09Z</dcterms:created>
  <dc:creator>Blue Radiance</dc:creator>
  <dc:description/>
  <dc:language>en-US</dc:language>
  <cp:lastModifiedBy>David Juran</cp:lastModifiedBy>
  <dcterms:modified xsi:type="dcterms:W3CDTF">2008-04-28T16:31:10Z</dcterms:modified>
  <cp:revision>110</cp:revision>
  <dc:subject/>
  <dc:title>Slide 1</dc:title>
</cp:coreProperties>
</file>