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media/image7.jpeg" ContentType="image/jpe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72C9-2718-46FB-8131-25D36381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F2B2-F618-4892-A546-9FC57780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B64-2F99-4C9A-A3EA-DEF05163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B3D-89E6-4F55-84E1-CBA44C6C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B1B5-B9C3-4DB3-898B-93F9C215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D7B-EB0D-453B-A3F5-7E328A92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1193-DE70-465D-91AD-208C4E58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3150-66A2-44DF-8E11-3714E8C1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E8A-AE2D-4634-B7C8-E67114C8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919-7684-42FB-ACBD-FACD3149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5B1-F639-4FE0-88C9-9A542C5B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E5B-B3AC-44E5-9BC2-1C99DC4B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DD26-F9FB-43D6-A79A-22D69A8D7532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2120" y="2162160"/>
            <a:ext cx="76276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fice of 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erational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ay 5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746280" y="3124080"/>
            <a:ext cx="765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6348240" y="5029200"/>
            <a:ext cx="199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Greg Eber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odd Hegl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Ross Rock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li Tah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lam Tamb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stern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4F57-14F0-4DFF-B721-E2984BB540FE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ys to Improve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a better understanding of student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efficiency differences amongst full-time, part-time and student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eak demand statistics and break down analysis into smaller time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CA8F-0BB3-49E6-BECB-09DD30988841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http://z.about.com/d/manhattan/1/7/K/B/nyustern.jpg"/>
          <p:cNvPicPr/>
          <p:nvPr/>
        </p:nvPicPr>
        <p:blipFill>
          <a:blip r:embed="rId1"/>
          <a:stretch/>
        </p:blipFill>
        <p:spPr>
          <a:xfrm>
            <a:off x="1066680" y="2438280"/>
            <a:ext cx="3048120" cy="2895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http://www.newsweek.com/media/25/71014_MoneyHappiness_vl-vertical.jpg"/>
          <p:cNvPicPr/>
          <p:nvPr/>
        </p:nvPicPr>
        <p:blipFill>
          <a:blip r:embed="rId2"/>
          <a:stretch/>
        </p:blipFill>
        <p:spPr>
          <a:xfrm>
            <a:off x="5181480" y="2438280"/>
            <a:ext cx="28576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 Snapsh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0536-ADC0-41B4-B8B2-8F2648E52EAA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2"/>
          <p:cNvGraphicFramePr/>
          <p:nvPr/>
        </p:nvGraphicFramePr>
        <p:xfrm>
          <a:off x="0" y="1219320"/>
          <a:ext cx="9144000" cy="509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50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CE10-9C76-4CC1-AECB-70321254A48A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ject Summ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determine the current operating capacity of Office of Career Development (OCD) to address MBAs career development needs, we conducted a survey of OCD Career Counsel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this data, we identified the staffing allocation that would best meet student needs while minimizing associa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1280-F0BD-48D8-A99E-59D76C54CC83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rvey of OCD Career Counsel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ach question below, except #1, was asked separately for FALL and SPRING semest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suming you are a career counselor, how many YEARS have you worked for the OCD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any HOURS per (a 5-day) week did you work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uch availability (HOURS) do you have per (a 5-day) week to meet with MBA1s and MBA2s, 1-on-1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any MBA1s and MBA2s did you meet with 1-on-1 per day (excluding open hour)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uch TIME (minutes) did you spend 1-on-1 with each student (excluding open hour)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any STUDENTS do you see 1-on-1 per week during open hou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uch TIME (minutes) do you spend with each student during open hou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any E-MAILS from MBA1s and MBA2s do you respond to per day (1 e-mail = 1 issue, resolved or not)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uch TIME (minutes) does it take to respond to/resolve each e-mail/issu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ject Assumpt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4 open hours/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10 hours/week/counselor for 1-on-1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20 hours/week/counselor communicating with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workers cannot meet with othe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alty attached to prevent this result ($1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-Time workers cannot be fired/hired between Fall and Sp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-time counselor: $36/hour (plus benef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-time counselor: $40/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workers: $24/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FE47-90B9-4E9A-9FB7-69FB36B4BD12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lected Survey Resul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 of students utilize OCD on a 1-on-1 basis in the following man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BB97-F46B-406D-8F79-5F42F73E82CF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604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62D1-EB82-4A62-AA3F-C2F61FB8FA4C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ults of Analysis – Fall On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on-1 Meetings: All 1,198 minutes allocated to full time counse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s: All 927 minutes allocated to student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Hour Meetings: All 259 minutes allocated to part-time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Requi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full-time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art-time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tudent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2843-0B06-4EF1-A623-FF4E89A1663E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ults of Analysis – Spring On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on-1 Meetings: All 839 minutes allocated to full-time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s: 200 minutes allocated to full-time workers, 327 allocated to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Hour Meetings: 159 minutes allocated to full-time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Requi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full-time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part-time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tudent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and Demand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minimized cost is $2,497.70 dedicated to students based on the following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assumed a 99% likelihood of meeting demand and not wasting via excess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analyses of 50%, 75%, 90% and 95% were conduc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2D70-2E9C-4FA2-BFE4-24AFDEE19607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295280" y="5410080"/>
            <a:ext cx="6842160" cy="1268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53704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mand Per Day Distribut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94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21:33:36Z</dcterms:created>
  <dc:creator>Todd Heglund</dc:creator>
  <dc:description/>
  <dc:language>en-US</dc:language>
  <cp:lastModifiedBy>Todd Heglund</cp:lastModifiedBy>
  <dcterms:modified xsi:type="dcterms:W3CDTF">2008-05-04T16:54:50Z</dcterms:modified>
  <cp:revision>26</cp:revision>
  <dc:subject/>
  <dc:title>Slide 1</dc:title>
</cp:coreProperties>
</file>