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4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6.wmf" ContentType="image/x-wmf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5.wmf" ContentType="image/x-wmf"/>
  <Override PartName="/ppt/media/image10.png" ContentType="image/png"/>
  <Override PartName="/ppt/media/image30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19.png" ContentType="image/png"/>
  <Override PartName="/ppt/media/image18.png" ContentType="image/png"/>
  <Override PartName="/ppt/media/image21.wmf" ContentType="image/x-wmf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17D6-7FF1-4761-84C1-BC7B74F6B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9B67-0F63-4BC9-A6B3-7252D3DE9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CEF6-A8C1-4C54-A2E8-031A96998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3BF4-D6E6-4BE6-8AB7-B4C5F978D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1AA5-CD4E-40E0-B086-A1B04547E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67A7-A3C3-48CA-980C-7835BC9AC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92CF-606C-4187-8E3D-130C7844A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2883-F499-40AE-BDBD-2BD0E9286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F029-3786-4525-A4A4-1328618C4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0EC3-E6EA-4721-BB6C-5BDA98E63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7E1E-AFCD-489A-813A-38BFA013F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0DD5-7A46-4B95-876A-65E6FA01D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3E83-0CCB-4A7E-B295-EF3596506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259D-BD34-46FC-B444-E19F7BE44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C4DF-E9FB-4C9F-8833-5FA8790ED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7660-B8DD-48FF-BCFE-E6907DD79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F88F-E96F-411E-AF03-E9E4465AB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833C-51B3-423F-B329-327D96F7F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0197-B48B-482D-AFB3-0E9B2D5DB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EB4E-041E-4144-9150-F4CAD1672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1CE7-836E-4B60-8DB0-1B41ECFF0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541D-FF6D-445C-95A4-403C53E14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27CD-CF11-4E73-B5AA-1CE80EAB8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88E8-759B-4850-A07A-8E970936B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C1B1-4658-48A9-AAA9-87AAA061D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F703-503B-4164-B658-F5621DD7F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310-C074-441A-9305-A7416187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648-FDEF-461D-B335-85BCF6EE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3309-D277-40CD-BE2F-3FADCE76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6EC-C0A3-4792-BABE-D7BE17B2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7BE2-86DA-4EF7-AE87-F3489772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78C-1325-422E-B9BE-46D823E4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B0B-26AE-49EB-9393-2857618B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50C-1CD5-44A7-A2F9-533D9D9D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40EA-DE8D-4E22-93CC-C89620A8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F7D6-765A-4AA1-90D2-8D3D4C97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D50-E503-407C-9294-179D9117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2F7C-50FA-4225-9ACB-DB732006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4869-E98E-4570-8D27-B0BD18242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228600" y="6172200"/>
            <a:ext cx="876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oup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ris Dal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ngli Ha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eremy Johnson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mmel Marti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raldo Par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http://www.tripoli-lebanon.com/images/world-map.jpg"/>
          <p:cNvPicPr/>
          <p:nvPr/>
        </p:nvPicPr>
        <p:blipFill>
          <a:blip r:embed="rId1"/>
          <a:stretch/>
        </p:blipFill>
        <p:spPr>
          <a:xfrm>
            <a:off x="-542880" y="298440"/>
            <a:ext cx="10283760" cy="626112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9" descr=""/>
          <p:cNvPicPr/>
          <p:nvPr/>
        </p:nvPicPr>
        <p:blipFill>
          <a:blip r:embed="rId2"/>
          <a:stretch/>
        </p:blipFill>
        <p:spPr>
          <a:xfrm>
            <a:off x="987480" y="-139680"/>
            <a:ext cx="6943680" cy="16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4"/>
          <p:cNvSpPr/>
          <p:nvPr/>
        </p:nvSpPr>
        <p:spPr>
          <a:xfrm>
            <a:off x="509040" y="1806480"/>
            <a:ext cx="582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II. Route Optim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C4BC-7633-4740-9485-D54C45E673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952880" y="3886200"/>
            <a:ext cx="3124440" cy="23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2028600" y="787320"/>
            <a:ext cx="44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Bolivia Cluste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74BE-C783-49BA-B17B-79BC04DF81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19560" cy="4701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1447560" cy="9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4"/>
          <p:cNvSpPr/>
          <p:nvPr/>
        </p:nvSpPr>
        <p:spPr>
          <a:xfrm>
            <a:off x="461160" y="533520"/>
            <a:ext cx="33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Solver Set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80880" y="914400"/>
            <a:ext cx="8534520" cy="70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Objectiv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Minimize distance travel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npu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stance between cap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repping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et up Minimization and Sumproduct parame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F197-E400-4082-BDD3-10B7BB1484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1"/>
          <p:cNvSpPr/>
          <p:nvPr/>
        </p:nvSpPr>
        <p:spPr>
          <a:xfrm>
            <a:off x="1066680" y="1828800"/>
            <a:ext cx="69343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226200" cy="39038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5105520" y="6094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inimize distance within chosen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4191120" y="9144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685800" y="52236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oute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B587-E8EE-4032-A727-971EA713FE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1"/>
          <p:cNvSpPr/>
          <p:nvPr/>
        </p:nvSpPr>
        <p:spPr>
          <a:xfrm>
            <a:off x="298440" y="609480"/>
            <a:ext cx="573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Most efficient ro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8" descr="Map of Latin America"/>
          <p:cNvPicPr/>
          <p:nvPr/>
        </p:nvPicPr>
        <p:blipFill>
          <a:blip r:embed="rId1"/>
          <a:stretch/>
        </p:blipFill>
        <p:spPr>
          <a:xfrm>
            <a:off x="380880" y="1371600"/>
            <a:ext cx="4953240" cy="4924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8"/>
          <p:cNvSpPr/>
          <p:nvPr/>
        </p:nvSpPr>
        <p:spPr>
          <a:xfrm>
            <a:off x="5562720" y="1982880"/>
            <a:ext cx="3352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ezu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gu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617080" y="13716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Rout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A34E-9981-4008-AE65-F7ACBBEAB6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4"/>
          <p:cNvSpPr/>
          <p:nvPr/>
        </p:nvSpPr>
        <p:spPr>
          <a:xfrm>
            <a:off x="1466280" y="1273320"/>
            <a:ext cx="532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III. Expected Bud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BC84-9328-48AE-87A4-EEF077B9E0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2479680" cy="33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F886-B460-4FE2-ABDA-D588C1A27A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3520" y="380880"/>
            <a:ext cx="7848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Objective: Use Crystal Ball to simulate expected airfar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ource – Kayak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verage airfares for last 12 month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riangular Distrib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 Best case, worst case, average 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D40B-D4C2-4B48-BDD9-253558D649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0" t="0" r="41253" b="0"/>
          <a:stretch/>
        </p:blipFill>
        <p:spPr>
          <a:xfrm>
            <a:off x="228600" y="1371600"/>
            <a:ext cx="4584600" cy="4876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1688760" y="482760"/>
            <a:ext cx="55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Introducing Kayak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5118120" y="1295280"/>
            <a:ext cx="3720960" cy="4876920"/>
          </a:xfrm>
          <a:custGeom>
            <a:avLst/>
            <a:gdLst>
              <a:gd name="textAreaLeft" fmla="*/ 181440 w 3720960"/>
              <a:gd name="textAreaRight" fmla="*/ 3539520 w 3720960"/>
              <a:gd name="textAreaTop" fmla="*/ 181440 h 4876920"/>
              <a:gd name="textAreaBottom" fmla="*/ 4695480 h 4876920"/>
            </a:gdLst>
            <a:ahLst/>
            <a:rect l="textAreaLeft" t="textAreaTop" r="textAreaRight" b="textAreaBottom"/>
            <a:pathLst>
              <a:path w="21600" h="28310">
                <a:moveTo>
                  <a:pt x="3600" y="0"/>
                </a:moveTo>
                <a:arcTo wR="3600" hR="3600" stAng="16200000" swAng="-5400000"/>
                <a:lnTo>
                  <a:pt x="0" y="24710"/>
                </a:lnTo>
                <a:arcTo wR="3600" hR="3600" stAng="10800000" swAng="-5400000"/>
                <a:lnTo>
                  <a:pt x="18000" y="283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334120" y="1717560"/>
            <a:ext cx="3352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Airf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12 mo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low estim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high estim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=&gt; distribu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279A-3868-4E8D-A700-E4144D29AA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6487" t="25168" r="1622" b="0"/>
          <a:stretch/>
        </p:blipFill>
        <p:spPr>
          <a:xfrm>
            <a:off x="1676520" y="2057400"/>
            <a:ext cx="5602320" cy="41148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154080" y="762120"/>
            <a:ext cx="847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When you don’t have better data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go triangul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"/>
          <p:cNvPicPr/>
          <p:nvPr/>
        </p:nvPicPr>
        <p:blipFill>
          <a:blip r:embed="rId1"/>
          <a:srcRect l="0" t="15000" r="2813" b="8750"/>
          <a:stretch/>
        </p:blipFill>
        <p:spPr>
          <a:xfrm>
            <a:off x="457200" y="1752480"/>
            <a:ext cx="7853400" cy="462924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2CF4-72C9-4038-9C94-97F6258A3A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752480" y="609480"/>
            <a:ext cx="59436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rebuchet MS"/>
              </a:rPr>
              <a:t>Budget Distribution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33200" y="609480"/>
            <a:ext cx="595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Problem Defin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80880" y="1447920"/>
            <a:ext cx="73152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MBAs like to travel but want to justify it as a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CULTURA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experi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is “culture quest” we ne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1) what region to vis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2) optimal travel rou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3) expected budget ($$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3429000" cy="2694240"/>
          </a:xfrm>
          <a:prstGeom prst="rect">
            <a:avLst/>
          </a:prstGeom>
          <a:ln w="0">
            <a:noFill/>
          </a:ln>
        </p:spPr>
      </p:pic>
      <p:sp>
        <p:nvSpPr>
          <p:cNvPr id="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5959-1FA7-47FF-929C-2BCFBCC07F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7221-BE05-438D-80E8-7D1C33FCF9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898640" y="647640"/>
            <a:ext cx="5086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rebuchet MS"/>
              </a:rPr>
              <a:t>Expected Budge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68788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1155960" y="2797200"/>
            <a:ext cx="25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IV. Rec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1265-2544-4511-AD6D-F85F6DC1CB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" descr=""/>
          <p:cNvPicPr/>
          <p:nvPr/>
        </p:nvPicPr>
        <p:blipFill>
          <a:blip r:embed="rId1"/>
          <a:stretch/>
        </p:blipFill>
        <p:spPr>
          <a:xfrm>
            <a:off x="181080" y="2514600"/>
            <a:ext cx="4695840" cy="35812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7"/>
          <p:cNvSpPr/>
          <p:nvPr/>
        </p:nvSpPr>
        <p:spPr>
          <a:xfrm>
            <a:off x="4952880" y="2405160"/>
            <a:ext cx="4114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Team 14: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Yes we did  - (and dude what’s in your hand?)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547560"/>
            <a:ext cx="95248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Juran asks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“Did they just bust out clusters, Solver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and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C-ball?”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7F14-8538-4BEC-9547-B4EDFFCB08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685800" y="609480"/>
            <a:ext cx="36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d1c24"/>
                </a:solidFill>
                <a:latin typeface="Trebuchet MS"/>
              </a:rPr>
              <a:t>Summar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915C-7F83-4D5F-A830-50F964DD31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533520" y="1754280"/>
            <a:ext cx="7696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Split world into clusters based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ltural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Minimized travel distance with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 Generated expected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228600" y="114300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orporate other modes of trave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rains, car rentals, fer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y duration of tra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X volatility in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ural barriers/ infrastructure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69200" y="457200"/>
            <a:ext cx="837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d1c24"/>
                </a:solidFill>
                <a:latin typeface="Trebuchet MS"/>
              </a:rPr>
              <a:t>Suggestions for version 3.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040B-84E1-4A71-9207-87BE3D0B5E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4267080" y="5257800"/>
            <a:ext cx="2000520" cy="144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2"/>
          <a:stretch/>
        </p:blipFill>
        <p:spPr>
          <a:xfrm>
            <a:off x="1295280" y="5257800"/>
            <a:ext cx="205740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914400" y="1828800"/>
            <a:ext cx="36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d1c24"/>
                </a:solidFill>
                <a:latin typeface="Trebuchet MS"/>
              </a:rPr>
              <a:t>Gracia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657600" y="3733920"/>
            <a:ext cx="4343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d1c24"/>
                </a:solidFill>
                <a:latin typeface="Trebuchet MS"/>
              </a:rPr>
              <a:t>Questions ?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2DF3-518C-4B04-A729-E6ECDB5C9A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152280" y="5867280"/>
            <a:ext cx="876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oup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ris Dal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ngli Ha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eremy Johnson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mmel Marti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raldo Par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20240" y="609480"/>
            <a:ext cx="574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Decision Variab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838080" y="1523880"/>
            <a:ext cx="70866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UNESCO – World Heritage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ite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ultural, natural &amp; mix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Geographic Lo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ow many sites pe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ravel distance between cap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lane ticke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6F04-1A6D-4639-A1BA-CECAAE56C0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169560" y="609480"/>
            <a:ext cx="446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Plan of Atta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838080" y="1447920"/>
            <a:ext cx="708660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lust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roup countries depending on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nimize distance between cap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Monte-Carlo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orecast expected airfare for tr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2579-958A-4DF7-9A96-F492085A6B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4"/>
          <p:cNvSpPr/>
          <p:nvPr/>
        </p:nvSpPr>
        <p:spPr>
          <a:xfrm>
            <a:off x="302760" y="1266840"/>
            <a:ext cx="520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I. Country Group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0934-1DF4-4A02-B932-3731EFE027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rcRect l="8688" t="0" r="0" b="25902"/>
          <a:stretch/>
        </p:blipFill>
        <p:spPr>
          <a:xfrm>
            <a:off x="2895480" y="2209680"/>
            <a:ext cx="5765760" cy="41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4"/>
          <p:cNvSpPr/>
          <p:nvPr/>
        </p:nvSpPr>
        <p:spPr>
          <a:xfrm>
            <a:off x="465480" y="533520"/>
            <a:ext cx="42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Cluster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80880" y="1219320"/>
            <a:ext cx="853452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npu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umber of cultural sites pe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- Distance between cap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PP of each country as FX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repping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tandardiz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se sum of square to find similarities like 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ssum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- 10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4465-9D75-4029-91F1-FA1176F9A1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2"/>
          <p:cNvSpPr/>
          <p:nvPr/>
        </p:nvSpPr>
        <p:spPr>
          <a:xfrm>
            <a:off x="76320" y="1295280"/>
            <a:ext cx="8915400" cy="518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1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763120" cy="4889520"/>
          </a:xfrm>
          <a:prstGeom prst="rect">
            <a:avLst/>
          </a:prstGeom>
          <a:ln w="0">
            <a:noFill/>
          </a:ln>
        </p:spPr>
      </p:pic>
      <p:cxnSp>
        <p:nvCxnSpPr>
          <p:cNvPr id="69" name="Straight Arrow Connector 14"/>
          <p:cNvCxnSpPr/>
          <p:nvPr/>
        </p:nvCxnSpPr>
        <p:spPr>
          <a:xfrm flipH="1">
            <a:off x="2361960" y="3352680"/>
            <a:ext cx="457920" cy="6105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70" name="Straight Arrow Connector 17"/>
          <p:cNvCxnSpPr/>
          <p:nvPr/>
        </p:nvCxnSpPr>
        <p:spPr>
          <a:xfrm flipV="1">
            <a:off x="5942520" y="4190760"/>
            <a:ext cx="229320" cy="30528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71" name="Straight Arrow Connector 20"/>
          <p:cNvCxnSpPr/>
          <p:nvPr/>
        </p:nvCxnSpPr>
        <p:spPr>
          <a:xfrm flipV="1">
            <a:off x="2589840" y="5486040"/>
            <a:ext cx="229320" cy="534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6019920" y="5562360"/>
            <a:ext cx="762480" cy="381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73" name="Straight Arrow Connector 24"/>
          <p:cNvCxnSpPr/>
          <p:nvPr/>
        </p:nvCxnSpPr>
        <p:spPr>
          <a:xfrm flipV="1">
            <a:off x="7315200" y="5486040"/>
            <a:ext cx="534240" cy="381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74" name="Rectangle 14"/>
          <p:cNvSpPr/>
          <p:nvPr/>
        </p:nvSpPr>
        <p:spPr>
          <a:xfrm>
            <a:off x="54000" y="533520"/>
            <a:ext cx="43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Model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E9B0-805E-4DFD-9237-3473888572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80880" y="914400"/>
            <a:ext cx="876312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00E0-E0FE-4964-B0AF-413AEA7146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210520" cy="225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9"/>
          <p:cNvSpPr/>
          <p:nvPr/>
        </p:nvSpPr>
        <p:spPr>
          <a:xfrm>
            <a:off x="2872800" y="3530520"/>
            <a:ext cx="30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Observ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914400" y="4038480"/>
            <a:ext cx="769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Egypt is center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UK early w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China drops out at 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Bias for smaller countries w/ lots of neighb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153640" cy="4645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3984480" cy="2666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4"/>
          <p:cNvSpPr/>
          <p:nvPr/>
        </p:nvSpPr>
        <p:spPr>
          <a:xfrm>
            <a:off x="-990720" y="3049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Output Example: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10 “Centroid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780E-A749-42F4-8298-9E9224C8F9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1219320" y="3124080"/>
            <a:ext cx="761760" cy="381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4"/>
          <a:stretch/>
        </p:blipFill>
        <p:spPr>
          <a:xfrm>
            <a:off x="5410080" y="2895480"/>
            <a:ext cx="569880" cy="381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5"/>
          <a:stretch/>
        </p:blipFill>
        <p:spPr>
          <a:xfrm>
            <a:off x="4800600" y="4191120"/>
            <a:ext cx="635040" cy="382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6"/>
          <a:stretch/>
        </p:blipFill>
        <p:spPr>
          <a:xfrm>
            <a:off x="4191120" y="3581280"/>
            <a:ext cx="54288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"/>
          <p:cNvPicPr/>
          <p:nvPr/>
        </p:nvPicPr>
        <p:blipFill>
          <a:blip r:embed="rId7"/>
          <a:stretch/>
        </p:blipFill>
        <p:spPr>
          <a:xfrm>
            <a:off x="4762440" y="3124080"/>
            <a:ext cx="486000" cy="32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8"/>
          <a:stretch/>
        </p:blipFill>
        <p:spPr>
          <a:xfrm>
            <a:off x="4800600" y="4724280"/>
            <a:ext cx="576360" cy="38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9"/>
          <a:stretch/>
        </p:blipFill>
        <p:spPr>
          <a:xfrm>
            <a:off x="1749600" y="4419720"/>
            <a:ext cx="604800" cy="409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10"/>
          <a:stretch/>
        </p:blipFill>
        <p:spPr>
          <a:xfrm>
            <a:off x="2666880" y="5029200"/>
            <a:ext cx="660600" cy="447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"/>
          <p:cNvPicPr/>
          <p:nvPr/>
        </p:nvPicPr>
        <p:blipFill>
          <a:blip r:embed="rId11"/>
          <a:stretch/>
        </p:blipFill>
        <p:spPr>
          <a:xfrm>
            <a:off x="4952880" y="3505320"/>
            <a:ext cx="590760" cy="392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"/>
          <p:cNvPicPr/>
          <p:nvPr/>
        </p:nvPicPr>
        <p:blipFill>
          <a:blip r:embed="rId12"/>
          <a:stretch/>
        </p:blipFill>
        <p:spPr>
          <a:xfrm>
            <a:off x="5334120" y="5105520"/>
            <a:ext cx="609480" cy="40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6:31:26Z</dcterms:created>
  <dc:creator>Roberto Kriete</dc:creator>
  <dc:description/>
  <dc:language>en-US</dc:language>
  <cp:lastModifiedBy>tm</cp:lastModifiedBy>
  <dcterms:modified xsi:type="dcterms:W3CDTF">2008-04-28T04:02:14Z</dcterms:modified>
  <cp:revision>351</cp:revision>
  <dc:subject/>
  <dc:title>PowerPoint Presentation</dc:title>
</cp:coreProperties>
</file>