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1271-E336-4AF1-9F5A-53E98C26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0A13-3128-40AD-BC44-31F277DEF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A9DB-32CB-45EC-9294-D238E1B70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D7C7-6D75-401C-8D58-CC8DEFD32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8595-163F-4750-B335-D1F94662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21A8-BC0E-4430-A82E-983F9E60C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AFFA-C44F-43FA-876A-8D87F64C4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7B63-4BC2-4C97-917F-D092C35C9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DAD9-563B-4C79-8CE1-5DEF4648C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7A8D-B2E7-4A3A-AEBE-57361CD07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85F7-B230-4C8A-81EA-B3C7EFED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C77D-8EC0-4F94-A9B4-3C3D4C161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CD3-AB20-49F9-B48C-1E6576E5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34C-3614-4D26-BACB-A347F97A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7B8-F3ED-4D56-BCA3-8E91775B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FFE-BA11-4799-A0BB-C6041ADD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30D-A111-41FF-B3F6-AF25C6C1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C3E-D958-42CF-A26B-E57F56A7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C50-0FEA-40A8-9A4F-75B032A0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F42-7F1E-44F8-8B54-D455A7FD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7C7-13AA-4D2A-90C3-BD5BE155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5C3-EE5D-4E7F-972F-F05D562A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C92-8A65-4B9C-816F-DE7B3732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055-1C51-4480-9318-434A3F1F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D2BF-316D-45CA-AAD9-B7FB795D4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group22"/>
          <p:cNvPicPr/>
          <p:nvPr/>
        </p:nvPicPr>
        <p:blipFill>
          <a:blip r:embed="rId1"/>
          <a:stretch/>
        </p:blipFill>
        <p:spPr>
          <a:xfrm>
            <a:off x="1066680" y="22096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228600" y="44197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152280"/>
            <a:ext cx="6096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ACE of BA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roadway"/>
              </a:rPr>
              <a:t>Totally addicted to bas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USA Re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609480" y="2109960"/>
            <a:ext cx="807732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group2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562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5105520" y="152280"/>
            <a:ext cx="3886200" cy="990720"/>
          </a:xfrm>
          <a:prstGeom prst="wedgeRoundRectCallout">
            <a:avLst>
              <a:gd name="adj1" fmla="val -45342"/>
              <a:gd name="adj2" fmla="val 66986"/>
              <a:gd name="adj3" fmla="val 16667"/>
            </a:avLst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roadway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group6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 of BASE Redefined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ning the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get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ultimate USA reun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ACE of BASE Redefined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060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90s Swedish Pop wonders Jenny, Jonas, Malin, and Ulf have releas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DEFIN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re going on tou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ies: Ukraine, Russia, Bulgaria, Denmark, Norway, Tur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’t AoB share thei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defin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U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group21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48320" y="1600200"/>
          <a:ext cx="403848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0200"/>
                    <a:ext cx="40384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2"/>
          <p:cNvSpPr/>
          <p:nvPr/>
        </p:nvSpPr>
        <p:spPr>
          <a:xfrm>
            <a:off x="4800600" y="1981080"/>
            <a:ext cx="3733920" cy="16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ooooove AoB. When the heck are these guys coming back to the US? Fans are dying here…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ehard Base 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Quote from Min Kim’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ddicted to Bas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Planning </a:t>
            </a:r>
            <a:r>
              <a:rPr b="0" i="1" lang="en-US" sz="40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week window to come to the 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returns based on predicted sales in pre-selected citie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ci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here to play? in which or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572000" cy="174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group"/>
          <p:cNvPicPr/>
          <p:nvPr/>
        </p:nvPicPr>
        <p:blipFill>
          <a:blip r:embed="rId2"/>
          <a:stretch/>
        </p:blipFill>
        <p:spPr>
          <a:xfrm>
            <a:off x="4921200" y="3809880"/>
            <a:ext cx="3492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0"/>
          <p:cNvGrpSpPr/>
          <p:nvPr/>
        </p:nvGrpSpPr>
        <p:grpSpPr>
          <a:xfrm>
            <a:off x="304920" y="1143000"/>
            <a:ext cx="8610840" cy="5315040"/>
            <a:chOff x="304920" y="1143000"/>
            <a:chExt cx="8610840" cy="5315040"/>
          </a:xfrm>
        </p:grpSpPr>
        <p:pic>
          <p:nvPicPr>
            <p:cNvPr id="68" name="Picture 6" descr="usa-conic-1225"/>
            <p:cNvPicPr/>
            <p:nvPr/>
          </p:nvPicPr>
          <p:blipFill>
            <a:blip r:embed="rId1"/>
            <a:stretch/>
          </p:blipFill>
          <p:spPr>
            <a:xfrm>
              <a:off x="304920" y="1143000"/>
              <a:ext cx="8610480" cy="53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AutoShape 7"/>
            <p:cNvSpPr/>
            <p:nvPr/>
          </p:nvSpPr>
          <p:spPr>
            <a:xfrm>
              <a:off x="7543800" y="3105360"/>
              <a:ext cx="457200" cy="457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9"/>
            <p:cNvCxnSpPr/>
            <p:nvPr/>
          </p:nvCxnSpPr>
          <p:spPr>
            <a:xfrm>
              <a:off x="8915040" y="380016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Line 10"/>
            <p:cNvSpPr/>
            <p:nvPr/>
          </p:nvSpPr>
          <p:spPr>
            <a:xfrm flipV="1">
              <a:off x="8001000" y="3028680"/>
              <a:ext cx="914400" cy="228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1"/>
            <p:cNvSpPr/>
            <p:nvPr/>
          </p:nvSpPr>
          <p:spPr>
            <a:xfrm>
              <a:off x="8001000" y="2419560"/>
              <a:ext cx="380880" cy="30456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2"/>
            <p:cNvSpPr/>
            <p:nvPr/>
          </p:nvSpPr>
          <p:spPr>
            <a:xfrm>
              <a:off x="7620120" y="280044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3"/>
            <p:cNvSpPr/>
            <p:nvPr/>
          </p:nvSpPr>
          <p:spPr>
            <a:xfrm>
              <a:off x="7467480" y="29527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4"/>
            <p:cNvSpPr/>
            <p:nvPr/>
          </p:nvSpPr>
          <p:spPr>
            <a:xfrm>
              <a:off x="7391520" y="3333960"/>
              <a:ext cx="380880" cy="30456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5"/>
            <p:cNvSpPr/>
            <p:nvPr/>
          </p:nvSpPr>
          <p:spPr>
            <a:xfrm>
              <a:off x="5562720" y="2876760"/>
              <a:ext cx="380880" cy="30456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6"/>
            <p:cNvSpPr/>
            <p:nvPr/>
          </p:nvSpPr>
          <p:spPr>
            <a:xfrm>
              <a:off x="4876920" y="29527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7"/>
            <p:cNvSpPr/>
            <p:nvPr/>
          </p:nvSpPr>
          <p:spPr>
            <a:xfrm>
              <a:off x="5181480" y="3562560"/>
              <a:ext cx="381240" cy="30456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8"/>
            <p:cNvSpPr/>
            <p:nvPr/>
          </p:nvSpPr>
          <p:spPr>
            <a:xfrm>
              <a:off x="5334120" y="257184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9"/>
            <p:cNvSpPr/>
            <p:nvPr/>
          </p:nvSpPr>
          <p:spPr>
            <a:xfrm>
              <a:off x="4495680" y="34099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0"/>
            <p:cNvSpPr/>
            <p:nvPr/>
          </p:nvSpPr>
          <p:spPr>
            <a:xfrm>
              <a:off x="6553080" y="47815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21"/>
            <p:cNvSpPr/>
            <p:nvPr/>
          </p:nvSpPr>
          <p:spPr>
            <a:xfrm>
              <a:off x="4419720" y="4934160"/>
              <a:ext cx="380880" cy="30456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22"/>
            <p:cNvSpPr/>
            <p:nvPr/>
          </p:nvSpPr>
          <p:spPr>
            <a:xfrm>
              <a:off x="3886200" y="52387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23"/>
            <p:cNvSpPr/>
            <p:nvPr/>
          </p:nvSpPr>
          <p:spPr>
            <a:xfrm>
              <a:off x="7162920" y="59245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24"/>
            <p:cNvSpPr/>
            <p:nvPr/>
          </p:nvSpPr>
          <p:spPr>
            <a:xfrm>
              <a:off x="3048120" y="34099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25"/>
            <p:cNvSpPr/>
            <p:nvPr/>
          </p:nvSpPr>
          <p:spPr>
            <a:xfrm>
              <a:off x="6553080" y="52387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26"/>
            <p:cNvSpPr/>
            <p:nvPr/>
          </p:nvSpPr>
          <p:spPr>
            <a:xfrm>
              <a:off x="609480" y="13525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27"/>
            <p:cNvSpPr/>
            <p:nvPr/>
          </p:nvSpPr>
          <p:spPr>
            <a:xfrm>
              <a:off x="1752480" y="4552920"/>
              <a:ext cx="381240" cy="304920"/>
            </a:xfrm>
            <a:custGeom>
              <a:avLst/>
              <a:gdLst>
                <a:gd name="textAreaLeft" fmla="*/ 156960 w 381240"/>
                <a:gd name="textAreaRight" fmla="*/ 224280 w 38124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8"/>
            <p:cNvSpPr/>
            <p:nvPr/>
          </p:nvSpPr>
          <p:spPr>
            <a:xfrm>
              <a:off x="304920" y="29527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29"/>
            <p:cNvSpPr/>
            <p:nvPr/>
          </p:nvSpPr>
          <p:spPr>
            <a:xfrm>
              <a:off x="762120" y="4095720"/>
              <a:ext cx="380880" cy="304920"/>
            </a:xfrm>
            <a:custGeom>
              <a:avLst/>
              <a:gdLst>
                <a:gd name="textAreaLeft" fmla="*/ 156960 w 380880"/>
                <a:gd name="textAreaRight" fmla="*/ 223920 w 380880"/>
                <a:gd name="textAreaTop" fmla="*/ 125640 h 304920"/>
                <a:gd name="textAreaBottom" fmla="*/ 179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Planning </a:t>
            </a:r>
            <a:r>
              <a:rPr b="0" i="1" lang="en-US" sz="40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Tour: Target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Planning </a:t>
            </a:r>
            <a:r>
              <a:rPr b="0" i="1" lang="en-US" sz="40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Tour: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248520" y="1752480"/>
            <a:ext cx="2666880" cy="4217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ITIES &amp;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th and Midwest love them some AoB… the NE and west coast, uh not so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gin &amp; end in Baltimore, Charm C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of 14 cities (allow time for aging vocal chords to r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play each city once (exceptions: NYC, Chicago, and Dall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 pre-selected potent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t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28600" y="1752480"/>
            <a:ext cx="2743200" cy="4210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VE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travel 700 miles/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tween 701-1200 miles two nights sta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eater than 1200 miles   incur a massive penal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buses, $4/gal (1 mile/ g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 rooms, $200/n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od, $3000/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retionary, $2000/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cost, $1.5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200400" y="1752480"/>
            <a:ext cx="2743200" cy="3388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NUES &amp; TI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timal stadium capacity approx 2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cket prices $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% of ticket buyers at each venue will purchase merchandise, average $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ch venue garners 40% of box-office ticket sales to cover overhead and space r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Planning </a:t>
            </a:r>
            <a:r>
              <a:rPr b="0" i="1" lang="en-US" sz="40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Tour: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0104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Planning </a:t>
            </a:r>
            <a:r>
              <a:rPr b="0" i="1" lang="en-US" sz="40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Tour: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2784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Stencil"/>
              </a:rPr>
              <a:t>USA Reunion Tour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0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367160" cy="302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9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4367160" cy="302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8" descr=""/>
          <p:cNvPicPr/>
          <p:nvPr/>
        </p:nvPicPr>
        <p:blipFill>
          <a:blip r:embed="rId3"/>
          <a:stretch/>
        </p:blipFill>
        <p:spPr>
          <a:xfrm>
            <a:off x="4419720" y="3124080"/>
            <a:ext cx="4367160" cy="3024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71"/>
          <p:cNvSpPr/>
          <p:nvPr/>
        </p:nvSpPr>
        <p:spPr>
          <a:xfrm>
            <a:off x="5030640" y="167652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Evolutionary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Broadway"/>
              </a:rPr>
              <a:t>The Ultimate </a:t>
            </a: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USA Re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usa-conic-1225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3150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7543800" y="3105000"/>
            <a:ext cx="457200" cy="457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8"/>
          <p:cNvCxnSpPr/>
          <p:nvPr/>
        </p:nvCxnSpPr>
        <p:spPr>
          <a:xfrm>
            <a:off x="8915040" y="3800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Line 9"/>
          <p:cNvSpPr/>
          <p:nvPr/>
        </p:nvSpPr>
        <p:spPr>
          <a:xfrm flipV="1">
            <a:off x="8001000" y="3028680"/>
            <a:ext cx="914400" cy="22860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7391520" y="333360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4419720" y="493380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/>
          <p:cNvSpPr/>
          <p:nvPr/>
        </p:nvSpPr>
        <p:spPr>
          <a:xfrm>
            <a:off x="7162920" y="592452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3048120" y="340992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9"/>
          <p:cNvSpPr/>
          <p:nvPr/>
        </p:nvSpPr>
        <p:spPr>
          <a:xfrm flipV="1">
            <a:off x="7772400" y="2971440"/>
            <a:ext cx="7632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0"/>
          <p:cNvSpPr/>
          <p:nvPr/>
        </p:nvSpPr>
        <p:spPr>
          <a:xfrm flipH="1">
            <a:off x="5410080" y="2971800"/>
            <a:ext cx="2362320" cy="6858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7620120" y="2800440"/>
            <a:ext cx="380880" cy="30456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1"/>
          <p:cNvSpPr/>
          <p:nvPr/>
        </p:nvSpPr>
        <p:spPr>
          <a:xfrm flipV="1">
            <a:off x="5334120" y="3047760"/>
            <a:ext cx="380880" cy="6858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5181480" y="3562200"/>
            <a:ext cx="381240" cy="304920"/>
          </a:xfrm>
          <a:custGeom>
            <a:avLst/>
            <a:gdLst>
              <a:gd name="textAreaLeft" fmla="*/ 156960 w 381240"/>
              <a:gd name="textAreaRight" fmla="*/ 224280 w 38124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2"/>
          <p:cNvSpPr/>
          <p:nvPr/>
        </p:nvSpPr>
        <p:spPr>
          <a:xfrm flipH="1" flipV="1">
            <a:off x="5562360" y="2742840"/>
            <a:ext cx="152280" cy="2286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5562720" y="287640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 flipH="1">
            <a:off x="4724280" y="3048120"/>
            <a:ext cx="914400" cy="457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5334120" y="2571840"/>
            <a:ext cx="380880" cy="30456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4"/>
          <p:cNvSpPr/>
          <p:nvPr/>
        </p:nvSpPr>
        <p:spPr>
          <a:xfrm flipH="1">
            <a:off x="4191120" y="3581280"/>
            <a:ext cx="457200" cy="17528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4495680" y="3409920"/>
            <a:ext cx="381240" cy="304920"/>
          </a:xfrm>
          <a:custGeom>
            <a:avLst/>
            <a:gdLst>
              <a:gd name="textAreaLeft" fmla="*/ 156960 w 381240"/>
              <a:gd name="textAreaRight" fmla="*/ 224280 w 38124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 flipH="1" flipV="1">
            <a:off x="3276720" y="3580920"/>
            <a:ext cx="761760" cy="17528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4114800" y="5334120"/>
            <a:ext cx="25146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3886200" y="5238720"/>
            <a:ext cx="380880" cy="304920"/>
          </a:xfrm>
          <a:custGeom>
            <a:avLst/>
            <a:gdLst>
              <a:gd name="textAreaLeft" fmla="*/ 156960 w 380880"/>
              <a:gd name="textAreaRight" fmla="*/ 223920 w 38088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7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4"/>
          <p:cNvSpPr/>
          <p:nvPr/>
        </p:nvSpPr>
        <p:spPr>
          <a:xfrm>
            <a:off x="6553080" y="5238720"/>
            <a:ext cx="381240" cy="304920"/>
          </a:xfrm>
          <a:custGeom>
            <a:avLst/>
            <a:gdLst>
              <a:gd name="textAreaLeft" fmla="*/ 156960 w 381240"/>
              <a:gd name="textAreaRight" fmla="*/ 224280 w 38124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 flipH="1" flipV="1">
            <a:off x="6781680" y="5029200"/>
            <a:ext cx="457200" cy="9144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 flipV="1">
            <a:off x="6781680" y="3581280"/>
            <a:ext cx="685800" cy="13716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6553080" y="4781520"/>
            <a:ext cx="381240" cy="304920"/>
          </a:xfrm>
          <a:custGeom>
            <a:avLst/>
            <a:gdLst>
              <a:gd name="textAreaLeft" fmla="*/ 156960 w 381240"/>
              <a:gd name="textAreaRight" fmla="*/ 224280 w 38124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3:07:03Z</dcterms:created>
  <dc:creator>Jaclyn B. Bliss</dc:creator>
  <dc:description/>
  <dc:language>en-US</dc:language>
  <cp:lastModifiedBy>Minkyung Kim</cp:lastModifiedBy>
  <dcterms:modified xsi:type="dcterms:W3CDTF">2008-05-05T01:57:05Z</dcterms:modified>
  <cp:revision>26</cp:revision>
  <dc:subject/>
  <dc:title>Slide 1</dc:title>
</cp:coreProperties>
</file>