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42C-652F-4D13-8F5B-55E72AED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34E-60C0-4ED1-9D35-3E01DEB7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B64-D34B-453A-8546-86248B38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D0A-0864-4B43-996A-AF3DE068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6B29-7D9A-442B-8A53-CBB19B3E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25E4-CC70-49F2-AB65-7CF7234F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E8DD-EE07-4346-AC53-DD03325F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F990-801D-4EA0-80B6-177E2EEB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BA7A-DD08-4FC8-88AB-8E46FBCE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9922-D4F3-47F2-8EEF-E46C53C9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4E66-C279-4F01-BF28-765A99D4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A6E-FD17-40B6-810C-3D22D19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5DEE-A23A-4FFB-AED3-3589A13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ED23-62A7-4902-87BE-B53D0E80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92EA-DBC0-4E67-8A38-A546098C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BBCB-DB9F-4FC8-AD0F-F413D260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5B84-0782-4EAE-8857-291A3C04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A8B-B970-412D-A05E-E20A6AA1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50D-B49D-4711-B0AB-7B1C0F7E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407-D91A-43FE-8668-F026EE94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683-198F-46B0-BCA9-AC30E8DE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843-3EDD-47DC-97FB-56D3CA0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8C6-2104-4058-985B-41429BC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C0E-B97F-4E6D-8811-A5B0DD0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D279-3D2E-4648-993F-65B731051C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4680" y="380880"/>
            <a:ext cx="895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4A3-7430-4D43-8E2F-2AB887F289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8555062&amp;id=92843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eaveyourimpression.com/" TargetMode="External"/><Relationship Id="rId2" Type="http://schemas.openxmlformats.org/officeDocument/2006/relationships/hyperlink" Target="http://www.leaveyourimpression.com/dynamic.asp?id=pledge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7171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cision Models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gacy Gift Strateg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3917880"/>
            <a:ext cx="74678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pril 28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isa Boyd • Ryan Nash • Henry Sham • Amy Ts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1498680"/>
            <a:ext cx="1273320" cy="1733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05920" y="640080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B23D-1A55-434C-A141-DCC1E867C441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Analysis 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und the most “typical” person in each cluster and selected them to be a member of the Legacy Gift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erson would have the most in common with everyone in the 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 clusters (and its cluster center) has its own unique defining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B53-F5E0-4586-867D-36D48FEC307A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Descrip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uster 1: Generally Satisfied Bank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B / S&amp;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a club offic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es to Beer Bl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nds many hour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 scho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E0B-8812-4BA9-9992-E54E5EC1E4EB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Descrip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uster 2: GMA Cheerlead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tends a lot of school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es on vacat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h Stern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y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ves Stern!!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19680" y="266688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E0B-4233-41F7-9781-9DC17A58E0FA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Descrip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uster 3: Future Media Mogu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nds a lot of time a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ited participat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club / school 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job through OC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448000" cy="32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323-4E2C-4F0C-BAA2-C33CEB89B6E1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te Carlo Sim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mulation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 10 simulations, one per clus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normal Distribution (min $0 don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: Cluster center’s do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d Deviation: Survey data’s cluster std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ec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expected donations of each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ation per student in each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430-7769-4B40-A347-B33EA0DC864F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te Carlo Sim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1: Generally Satisfied Bank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luster G$B has 19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re is a 90% probability that G$B will pledge at least $88.4k or $4.6k per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3176640"/>
          <a:ext cx="4572000" cy="28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76640"/>
                    <a:ext cx="457200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334120" y="4419720"/>
            <a:ext cx="3429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an Cluster Donation = $95,03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Dev = $5,3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90F-3839-47D9-A8FF-A5C14311775F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90% confidence that the minimum donation will be at least 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$220,672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ing sample data of 200 stud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n expected donation of $279,5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es an average donation of $1400 per stu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ing simple math, this implies a total of approximately $560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more properly estimate the entire class, run cluster analysis of all 400 stud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C62-B479-4DF9-B4AD-FEB1851FBA31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cluster centers to be part of Legacy Gift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them to solicit donations from all the other members in their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information collected on the clusters to help them develop tailored strategies for approaching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lusters with low expected do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argeted messa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te them to special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additional incen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6EF-8500-4F21-8786-A3D93790EF0E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all the MBA2’s who have not yet pledged to the Class of 2008 Legacy Gift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E NEED YOUR DONATION!!!!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www.leaveyourimpression.com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3809880"/>
            <a:ext cx="3676680" cy="11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B1F-860A-4A22-BD41-BDCEC87BCE7F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8860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2200" y="63237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rce: Juran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EA9-70F8-43EF-8DCC-B8BCC85A02F1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 and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e Carlo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and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849-C70C-4A0F-AB62-AA1576F288B4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year, the graduating MBA class donates to the Class Legacy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weeks prior to graduation, a committee of student volunteers solicits donations from th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ommittee volunteer is randomly assigned students to solicit based solely on common Block memb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CBC-7E7E-4DFD-BDD0-C974FEAEA210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goal is to improve the strategy for getting donations from MBA2’s for the Class Legacy Gift and to estimate the likely size of the Legacy Gi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believe there is a better way to select members of the Legacy Gift committee and assign which students each committee member solic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student is solicited by someone with whom they have a lot in common, they are more likely to don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student is solicited through a more tailored approach, they are likely to donate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model will help Stern identify Legacy Gift committee members and will help them anticipate the expected donation of the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1E6-A0F8-4CAD-8900-B69282EE24C5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Approa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a survey among all MBA2s and collect key available data on each stu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data to group students into clu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most “typical” student in each cluster and identify key characteristics of each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Monte Carlo Simulation for each cluster to determine each cluster’s expected do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strategy for soliciting donations from each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52D-F161-4E2F-BC38-6080B147467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vey and Data Coll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ach student in the class, collect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311560"/>
            <a:ext cx="350496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vailable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fession/Indu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ub Offi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Club Members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Beer Blasts Atten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School/Club Events Atten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rting Sal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ital Stat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Loans Outsta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b through OCD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NY after graduation?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311560"/>
            <a:ext cx="36576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ata Collected Through Surv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t / Mortg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urs Spent at School (per da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s Vacationing with Stern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y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hool Satisf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ected Do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624852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: For our model, we created dummy data for 200 students. The questions / variables used can vary from year to year, e.g., depending on the legacy gift select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F22-1696-4D20-B043-549ED6599266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Analysis Over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luster analysis to group all the students into clusters, based on their similarities in the data col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ur model, we clustered 200 students into 10 clusters, which resulted in cluster sizes between 11 and 32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ould expect that about 15-20 clusters would be necessary for all 400 MBA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944-6BB1-4963-82E3-1F2702F16D01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Analysis Form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ize data with a Z-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luster analysis using Evolutionary So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that represent the 10 cluster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zing the total sum of distance between the cluster center and cluster members (i.e., maximize inter-cluster similarit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a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body must be assigned to a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cluster must have a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3C3-59B8-4EDD-9E9B-2196F1FE273D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Analysis 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lver identifies Cluster Center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 minimizing total distances of attrib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4419720"/>
            <a:ext cx="5854680" cy="1584360"/>
            <a:chOff x="762120" y="4419720"/>
            <a:chExt cx="5854680" cy="15843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762120" y="4419720"/>
              <a:ext cx="364500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11976" t="0" r="0" b="0"/>
            <a:stretch/>
          </p:blipFill>
          <p:spPr>
            <a:xfrm>
              <a:off x="4398840" y="4419720"/>
              <a:ext cx="2217960" cy="15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7391160" cy="181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rcRect l="42071" t="0" r="0" b="0"/>
          <a:stretch/>
        </p:blipFill>
        <p:spPr>
          <a:xfrm>
            <a:off x="7010280" y="4191120"/>
            <a:ext cx="1379520" cy="1695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0800000">
            <a:off x="4191120" y="6324120"/>
            <a:ext cx="3124080" cy="304920"/>
          </a:xfrm>
          <a:prstGeom prst="wedgeRoundRectCallout">
            <a:avLst>
              <a:gd name="adj1" fmla="val -47361"/>
              <a:gd name="adj2" fmla="val 255726"/>
              <a:gd name="adj3" fmla="val 1666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mm, creamy cluster ce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2AE-D19A-442C-A9DF-A12B109236FE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04:14Z</dcterms:created>
  <dc:creator>Melisa</dc:creator>
  <dc:description/>
  <dc:language>en-US</dc:language>
  <cp:lastModifiedBy>AT</cp:lastModifiedBy>
  <dcterms:modified xsi:type="dcterms:W3CDTF">2008-04-27T19:24:20Z</dcterms:modified>
  <cp:revision>90</cp:revision>
  <dc:subject/>
  <dc:title>Slide 1</dc:title>
</cp:coreProperties>
</file>