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10.png" ContentType="image/png"/>
  <Override PartName="/ppt/media/image3.jpeg" ContentType="image/jpeg"/>
  <Override PartName="/ppt/media/image4.jpeg" ContentType="image/jpeg"/>
  <Override PartName="/ppt/media/image9.pct" ContentType="image/x-pict"/>
  <Override PartName="/ppt/media/image5.jpeg" ContentType="image/jpeg"/>
  <Override PartName="/ppt/media/image7.pct" ContentType="image/x-pict"/>
  <Override PartName="/ppt/media/image6.pct" ContentType="image/x-pict"/>
  <Override PartName="/ppt/media/image11.pct" ContentType="image/x-pict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D371-B86C-45D3-A4F0-D5F4838D2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B4C1-D211-4BD1-848F-BD9CA871E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AA4F-E45C-4111-933A-51E1735D3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FB2A-2638-4B0C-84FF-F988B8D0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27FC-0F61-43BC-87D1-E532D868C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B11A-ACDB-42AF-910A-C094BDE6B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E846-09E9-40B1-8643-840B6D21C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86E5-91CF-4DBE-BA2C-BC4C96680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2B43-9A2D-401D-9090-EE95F9A93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18D6-5F2E-4951-9501-00FA6519F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8C9F-AE6D-47CC-A837-1BBDC4886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2217-E7A4-401A-8274-BAC685C79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6BFC-C14E-4530-8297-D27D4B840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489-0067-4E36-9D19-88872D17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162-5E79-401A-B0C0-E9DD9BF2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5EB-D514-47FE-9B64-C90C926D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DDA-5309-4CC8-BDB2-E43D25DE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0CC9-D775-4206-8D02-A72132E6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31F9-C2DF-4EEA-A39D-15A77E0C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05EB-E9F2-410E-8A14-AC9D0568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8B8E-118F-4910-81AF-64FFACB9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5CDD-50E5-4D8B-85BE-8159048D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01EC-0619-4209-86D7-EDFE8E32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71FD-CE70-42EB-8573-982E2B37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CC9-1E5A-4161-AABC-45A66C8E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5B07-1D30-4AE7-B503-108F7B9A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95CC-D923-465E-BC0E-AFEEADA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8072-DFB5-4F19-99FD-65C8ABCA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30A8-067F-480A-A6EC-AED9C472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7C26-16C4-4C0F-8632-E38F8299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ACF-DC2B-44E9-8D0B-D6A8C2B9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1AF-F668-4806-BF44-E843ECD4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FB3-2E0F-42DB-A68A-379DAAE1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8A5-45E7-4934-93AA-2D0F853E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C92-72BF-49BC-B3FF-06EEDDA5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B67-4BC4-4601-A992-4D5BD002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F1E-E117-4F8F-A430-B7AD0561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2B07-296B-422D-846A-1EB81D854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B355-E109-47C2-ACEE-9BE45C8D7DB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: The Mis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ca Khu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quin V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annis Draka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 Ro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varo J. H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Rose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420920" y="2849400"/>
            <a:ext cx="6303960" cy="116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14600" y="914400"/>
            <a:ext cx="52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er Goggle”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246560" cy="164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1371600" y="4267080"/>
            <a:ext cx="6718320" cy="971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664360" y="990720"/>
            <a:ext cx="481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rcRect l="4667" t="29870" r="9333" b="30668"/>
          <a:stretch/>
        </p:blipFill>
        <p:spPr>
          <a:xfrm>
            <a:off x="228600" y="2209680"/>
            <a:ext cx="8767800" cy="2514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7760" y="914400"/>
            <a:ext cx="45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del dash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ncrease the chances of success in “The Mission”… Run the model before you leave your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ctangle 10" descr=""/>
          <p:cNvPicPr/>
          <p:nvPr/>
        </p:nvPicPr>
        <p:blipFill>
          <a:blip r:embed="rId1"/>
          <a:stretch/>
        </p:blipFill>
        <p:spPr>
          <a:xfrm>
            <a:off x="5145120" y="20178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signed a model that allows the user to decide which social gathering place to go out at night in order to accomplish the ultimate mission; to hook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e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38680" y="2286000"/>
            <a:ext cx="2733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e and Tu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502776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41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l Street Rock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50292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 L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38680" y="2286000"/>
            <a:ext cx="32194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la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ast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 Packing District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el/Sundeck Lou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r Blast/Bar B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610480" cy="2521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16160" y="146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4120" y="927000"/>
            <a:ext cx="680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scriptiv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0:47:36Z</dcterms:created>
  <dc:creator>Alvaro Haces</dc:creator>
  <dc:description/>
  <dc:language>en-US</dc:language>
  <cp:lastModifiedBy>Monica Khurana</cp:lastModifiedBy>
  <dcterms:modified xsi:type="dcterms:W3CDTF">2008-04-28T17:23:03Z</dcterms:modified>
  <cp:revision>21</cp:revision>
  <dc:subject/>
  <dc:title>Project: The Mission</dc:title>
</cp:coreProperties>
</file>