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10.png" ContentType="image/png"/>
  <Override PartName="/ppt/media/image3.jpeg" ContentType="image/jpeg"/>
  <Override PartName="/ppt/media/image4.jpeg" ContentType="image/jpeg"/>
  <Override PartName="/ppt/media/image9.pct" ContentType="image/x-pict"/>
  <Override PartName="/ppt/media/image5.jpeg" ContentType="image/jpeg"/>
  <Override PartName="/ppt/media/image7.pct" ContentType="image/x-pict"/>
  <Override PartName="/ppt/media/image6.pct" ContentType="image/x-pict"/>
  <Override PartName="/ppt/media/image11.pct" ContentType="image/x-pict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AD5D-CB5A-4F01-B303-81418EE1D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D73A-A3F7-4872-8A9E-725D44983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44AA-20FB-4F6C-910A-9FBED0E67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7D42-9E52-4071-816F-5516BE579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68BF-43E0-423C-BC0D-72EF697C0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23EB-B508-49A2-BCC7-34F7BACFE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C50D-6818-462B-BF39-48225E049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1FF8-5359-4088-9AA1-9843F9DA2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BB51-F420-41BA-AD9E-A1DC8B44A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840D-F9B5-47D8-9D3A-53FEE449A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7F30-CC67-4B73-86DB-C54BEE97F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17FD-B636-4A48-992B-B38D12B74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0463-5954-445F-BC97-C97715B60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9434-9C54-402B-B704-484A40B2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F94-96A6-4DCF-819F-EBA5A67C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1D4-EDC8-4307-9CE9-5E53E97A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176-94D3-404A-B9E9-66A4645A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0B11-0370-4D77-AD0A-49E51C92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656C-BFDB-45B5-ABA0-B3194D4D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4DBA-FD0A-429D-8061-F7B97C8F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01F9-BF6B-4F9B-A82D-6044281E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6319-E9A7-462E-87D6-713CFBA3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9593-70EC-4362-A8E5-940003B0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FDA5-BBA1-4605-98AF-B645A041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956-A7D6-4858-8A14-2BBA95E2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552B-5BCA-4CED-80ED-1B54B9A2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E02C-5690-4180-80EA-ADDF78CF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0E92-814B-4565-8603-9643E131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76FC-E3C0-4BE3-95D0-8AD415FC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DFA3-60A3-4AB9-8644-24ABDFE9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F095-5ADE-4C1C-92C4-C732E7CB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C3A-D974-4F2A-9397-8F49B737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0A7-535D-4E92-851C-C4A924D2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18A-98E8-420B-A3BC-8E6F6FF8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882-6987-45D5-BFFF-2108CDE6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411-9316-4C42-BE44-8467B482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92B-6AC1-46CD-B44E-74CC99E2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1B10-2F40-4E3F-9C4F-DCF502068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Rectangle 3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Rectangle 6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834A-804C-44B3-95EC-66F2916AD28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ject: The Mis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ca Khur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aquin V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annis Draka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i Ro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varo J. H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Rose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420920" y="2849400"/>
            <a:ext cx="6303960" cy="1163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14600" y="914400"/>
            <a:ext cx="527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er Goggle”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4246560" cy="164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1371600" y="4267080"/>
            <a:ext cx="6718320" cy="971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664360" y="990720"/>
            <a:ext cx="481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cision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rcRect l="4667" t="29870" r="9333" b="30668"/>
          <a:stretch/>
        </p:blipFill>
        <p:spPr>
          <a:xfrm>
            <a:off x="228600" y="2209680"/>
            <a:ext cx="8767800" cy="2514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7760" y="914400"/>
            <a:ext cx="450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del dash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increase the chances of success in “The Mission”… Run the model before you leave your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Rectangle 10" descr=""/>
          <p:cNvPicPr/>
          <p:nvPr/>
        </p:nvPicPr>
        <p:blipFill>
          <a:blip r:embed="rId1"/>
          <a:stretch/>
        </p:blipFill>
        <p:spPr>
          <a:xfrm>
            <a:off x="5145120" y="20178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designed a model that allows the user to decide which social gathering place to go out at night in order to accomplish the ultimate mission; to hook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aracter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e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638680" y="2286000"/>
            <a:ext cx="2733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aracter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dge and Tu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352680" y="2819520"/>
            <a:ext cx="502776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aracter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3141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aracter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l Street Rock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502920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aracter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n L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38680" y="2286000"/>
            <a:ext cx="321948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la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East 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t Packing District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el/Sundeck Lou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r Blast/Bar B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610480" cy="2521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16160" y="146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4120" y="927000"/>
            <a:ext cx="680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scriptiv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0:47:36Z</dcterms:created>
  <dc:creator>Alvaro Haces</dc:creator>
  <dc:description/>
  <dc:language>en-US</dc:language>
  <cp:lastModifiedBy>Monica Khurana</cp:lastModifiedBy>
  <dcterms:modified xsi:type="dcterms:W3CDTF">2008-04-28T17:23:03Z</dcterms:modified>
  <cp:revision>21</cp:revision>
  <dc:subject/>
  <dc:title>Project: The Mission</dc:title>
</cp:coreProperties>
</file>