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BF7-7006-4C04-9557-03FFD9C4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DF4-A9DA-4260-AC99-B3A53AE6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ADE-6F9E-4D81-B8D2-CFEF2657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D05-FDA3-4FEB-8426-44DE2C3D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888-2854-4922-B07E-7522787E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1EC-45EA-4180-AE9A-C142DE55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341-E87D-4787-851D-D6CA1C18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99B-F179-4A99-B0EF-4449A9DB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778-C9F3-4E83-98D9-2375E606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E25-F019-431C-8967-4315126A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A59-D4BB-47BE-B3D4-0F341954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9B7-C8F3-4940-B30D-E78B4EE8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Papyr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pyr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pyr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84B6-E956-4F88-B6B9-E0E31A950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0120" y="76320"/>
            <a:ext cx="1477800" cy="19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South East Asia Trek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April Ayala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Melina Moleskis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Mary O’Connel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8954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Decision Mode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April 28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Papyrus"/>
              </a:rPr>
              <a:t>Scenario 2 (No Time Constraint):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Papyrus"/>
              </a:rPr>
              <a:t>Flight Methodology and Solution</a:t>
            </a:r>
            <a:endParaRPr b="1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492200"/>
            <a:ext cx="71629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Scenario 2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Flight Recommendation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he optimal flight route is: 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New York City - Bangkok - Siem Reap - Phuket - Hanoi - Saigon – Chiang Mai - Bangkok - New York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otal Cost: $3,174 ($326 extra cash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Savings when time is not a constraint: $70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otal Time: 34.08 hours (13.18 hours longer than scenario 1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otal Stop-Overs: 3 stops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Activity Mode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Constraints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And we have some fun restrictions . . . . 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For each city, we have identified 3 activities and have ranked them based upon the expected fun they will provide (1 = most fun, 3 = least fun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We want to plan at least 2 activities in each city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We have a “fun” budget of $150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Activity Mode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Formulation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Objective: Maximize fun and minimize cost of fun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Decision Variables: Activities chosen for each city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Constraints: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We can only do each activity once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We must do exactly 2 activities in each city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Inputs: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Activity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Cost of Activity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Fun Ranking of Activity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Activity Mode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Methodology and Solution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2388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rot="417000">
            <a:off x="6248520" y="3352320"/>
            <a:ext cx="2412720" cy="164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Activity Mode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Recommendations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Bangkok </a:t>
            </a: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(Cost: $5.40, Fun Rating: 1.5)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Grand Palace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Wat Arun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Phuket </a:t>
            </a: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(Cost: $37.00, Fun Rating: 2.5)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Sirinat Marine National Park    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Khao Sok National Park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637800">
            <a:off x="2971440" y="4952880"/>
            <a:ext cx="2522520" cy="16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3"/>
          <a:srcRect l="5760" t="20570" r="2449" b="8796"/>
          <a:stretch/>
        </p:blipFill>
        <p:spPr>
          <a:xfrm rot="21071400">
            <a:off x="5943240" y="4952520"/>
            <a:ext cx="2459160" cy="164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372000">
            <a:off x="4190760" y="4038480"/>
            <a:ext cx="2184120" cy="1638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Chiang Mai </a:t>
            </a: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(Cost: $50.00, Fun Rating 2.5)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Doi Suthep Waterfall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Ban Sabai Massage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Hanoi </a:t>
            </a: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(Cost: $2.00, Fun Rating 1.5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Hanoi Museum of Fine Arts 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Hoan Kiem Lake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Activity Mode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Recommendations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264000">
            <a:off x="5333760" y="4495680"/>
            <a:ext cx="1643040" cy="2192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701400">
            <a:off x="6553080" y="2501640"/>
            <a:ext cx="1846440" cy="1384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 rot="512400">
            <a:off x="6915240" y="3581280"/>
            <a:ext cx="2228760" cy="16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 rot="288000">
            <a:off x="7238520" y="5105520"/>
            <a:ext cx="1360440" cy="2209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Activity Mode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Recommendations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rot="484200">
            <a:off x="3885840" y="4269960"/>
            <a:ext cx="3200400" cy="2130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447000">
            <a:off x="1828440" y="4724280"/>
            <a:ext cx="2666880" cy="1776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rot="655800">
            <a:off x="6400440" y="3428640"/>
            <a:ext cx="2514600" cy="1886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Saigon </a:t>
            </a: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(Cost: $1.65, Fun Rating 2.5)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Reunification Palace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Ho Chin Min City Museum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Siem Reap </a:t>
            </a: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(Cost: $13.00, Fun Rating 2.0)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Kabal Spean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Tonle Sap Lake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Conclusion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We will fly from New York  - Bangkok - Siem Reap - Phuket - Chiang Mai - Hanoi - Saigon - Bangkok - New York 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Our total flight cost is $3,244 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Our total fun cost is $109, with a fun rating of 2.1 out of 3.0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We are $297 under budget for our trip!!!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Objective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Overall Constraint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Flight Model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Constraints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Formulation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Methodology and Solution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Recommendations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Activity Model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Constraints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Formulation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Methodology and Solution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Recommendations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Objective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We would like to travel through South East Asia for 3 weeks and visit the following cities: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Bangkok (Thailand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Phuket (Thailand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Chiang Mai (Thailand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Hanoi (Vietnam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Saigon (Vietnam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Siem Reap (Cambodia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9865" t="15778" r="53251" b="51774"/>
          <a:stretch/>
        </p:blipFill>
        <p:spPr>
          <a:xfrm>
            <a:off x="5257800" y="3048120"/>
            <a:ext cx="3348000" cy="335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5867280" y="473400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Papyru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17320" y="33526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Papyru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9920" y="3890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Papyru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58080" y="530532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Papyru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2000" y="577692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Papyru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36240" y="50436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Papyru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Decision Models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Flight Mod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Objective:  Minimize flight costs, travel time, and stopovers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Activity Mod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Objective: Maximize Fun and Minimize Cost of Fun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Overall Constraints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There are a few things we need to keep in mind . . . . . 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We can only travel for 3 weeks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We need to reach each of the 6 cities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Our total travel budget for flights is $3,500 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and our travel budget for fun is $150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Flight Model: Constraints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And we have some flight restrictions . . . 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We will use Bangkok as a hub to enter and leave South East Asia – a round-trip ticket from New York to Bangkok is approximately $1,500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All flights fares are sourced from Kayak.com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Our budget for internal flights is $2,000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Flight Model: Formulation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Objective: Minimize flight costs, travel time, and minimize stop-overs 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Decision Variables: Order of cities visited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Constraints: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We have to begin and end our trip in Bangkok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We can visit each city only once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Inputs: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Flight Fare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Flight Time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# of Stop-Over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Scenario 1:</a:t>
            </a:r>
            <a:br>
              <a:rPr sz="4000"/>
            </a:br>
            <a:r>
              <a:rPr b="1" lang="en-US" sz="3200" spc="-1" strike="noStrike">
                <a:solidFill>
                  <a:srgbClr val="ffcc00"/>
                </a:solidFill>
                <a:latin typeface="Papyrus"/>
              </a:rPr>
              <a:t>Flight Methodology and Solution</a:t>
            </a:r>
            <a:endParaRPr b="1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1612800"/>
            <a:ext cx="64771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Scenario 1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Flight Recommendation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he optimal flight route is: 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New York  - Bangkok - Siem Reap - Phuket - Chiang Mai - Hanoi - Saigon - Bangkok - New York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otal Cost: $3,244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($256 extra cash)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otal Time: 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20.9 hour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otal Stop-Overs: 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3 stop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257800" y="2895480"/>
            <a:ext cx="3348000" cy="3353040"/>
            <a:chOff x="5257800" y="2895480"/>
            <a:chExt cx="3348000" cy="33530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9865" t="15778" r="53251" b="51774"/>
            <a:stretch/>
          </p:blipFill>
          <p:spPr>
            <a:xfrm>
              <a:off x="5257800" y="2895480"/>
              <a:ext cx="3348000" cy="3353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70" name=""/>
            <p:cNvSpPr/>
            <p:nvPr/>
          </p:nvSpPr>
          <p:spPr>
            <a:xfrm>
              <a:off x="5867280" y="473400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Papyru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17320" y="335268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Papyru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59920" y="389088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Papyru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58080" y="530532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Papyru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72000" y="577692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Papyru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36240" y="50436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Papyru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182200" y="4876920"/>
            <a:ext cx="16754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634000" y="5257800"/>
            <a:ext cx="2347200" cy="118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9" y="10"/>
                </a:moveTo>
                <a:arcTo wR="10800" hR="10800" stAng="-5546717" swAng="5546717"/>
                <a:lnTo>
                  <a:pt x="10800" y="10800"/>
                </a:lnTo>
                <a:close/>
              </a:path>
              <a:path fill="none" w="21600" h="21600">
                <a:moveTo>
                  <a:pt x="10339" y="10"/>
                </a:moveTo>
                <a:arcTo wR="10800" hR="10800" stAng="-5546717" swAng="5546717"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 rot="5400000">
            <a:off x="3976920" y="5562360"/>
            <a:ext cx="39312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087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08760"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134600">
            <a:off x="4906800" y="3570840"/>
            <a:ext cx="4204080" cy="36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897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8975"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225800">
            <a:off x="5302080" y="3334320"/>
            <a:ext cx="1870200" cy="37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57" y="179"/>
                </a:moveTo>
                <a:arcTo wR="10800" hR="10800" stAng="-4773472" swAng="4466575"/>
                <a:lnTo>
                  <a:pt x="10800" y="10800"/>
                </a:lnTo>
                <a:close/>
              </a:path>
              <a:path fill="none" w="21600" h="21600">
                <a:moveTo>
                  <a:pt x="12757" y="179"/>
                </a:moveTo>
                <a:arcTo wR="10800" hR="10800" stAng="-4773472" swAng="4466575"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019920" y="4266720"/>
            <a:ext cx="22852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9:56:56Z</dcterms:created>
  <dc:creator>Mary O'Connell</dc:creator>
  <dc:description/>
  <dc:language>en-US</dc:language>
  <cp:lastModifiedBy> Melina</cp:lastModifiedBy>
  <dcterms:modified xsi:type="dcterms:W3CDTF">2008-04-27T18:28:30Z</dcterms:modified>
  <cp:revision>32</cp:revision>
  <dc:subject/>
  <dc:title>South East Asia Trek</dc:title>
</cp:coreProperties>
</file>