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ABE-9139-420B-8849-200C5274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218-1A16-41E6-BAC8-039EC14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F92-557C-4510-A280-DADBEC7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13D-F695-4235-89E2-EDFF2F6C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DD4-DD65-4E2F-AA33-1DF02BD0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CA7-6EDF-45A3-97A2-3E5ECF2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00C-19D0-4090-A712-D136FD9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6B0-18A3-4099-8E27-7C55D05B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640-D43A-47F4-BFF6-C4AE93BD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5F0-108B-44E4-9662-D9FC47A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8B5-C1D7-4022-AFD9-967981B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508-C77A-46EC-A972-79F286D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pyr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325-7574-4EAE-A31A-967A26F1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0120" y="76320"/>
            <a:ext cx="1477800" cy="19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South East Asia Trek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pril Ayala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Melina Moleskis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Mary O’Connel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8954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Decision Mode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April 28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Papyrus"/>
              </a:rPr>
              <a:t>Scenario 2 (No Time Constraint):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Papyrus"/>
              </a:rPr>
              <a:t>Flight Methodology and Solution</a:t>
            </a:r>
            <a:endParaRPr b="1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92200"/>
            <a:ext cx="71629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Scenario 2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Flight Recommenda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he optimal flight route is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New York City - Bangkok - Siem Reap - Phuket - Hanoi - Saigon – Chiang Mai - Bangkok - New York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Cost: $3,174 ($326 extra cash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avings when time is not a constraint: $7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Time: 34.08 hours (13.18 hours longer than scenario 1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Stop-Overs: 3 stop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Constraint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nd we have some fun restrictions . . . .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For each city, we have identified 3 activities and have ranked them based upon the expected fun they will provide (1 = most fun, 3 = least fun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want to plan at least 2 activities in each city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have a “fun” budget of $15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Formula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Maximize fun and minimize cost of fun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Decision Variables: Activities chosen for each city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Constrain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can only do each activity onc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must do exactly 2 activities in each c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Inpu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Activ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Cost of Activ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un Ranking of Activity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Methodology and Solu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2388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417000">
            <a:off x="6248520" y="3352320"/>
            <a:ext cx="2412720" cy="164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Bangkok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5.40, Fun Rating: 1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Grand Palace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Wat Aru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Phuket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37.00, Fun Rating: 2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Sirinat Marine National Park    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Khao Sok National Park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637800">
            <a:off x="2971440" y="4952880"/>
            <a:ext cx="2522520" cy="16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rcRect l="5760" t="20570" r="2449" b="8796"/>
          <a:stretch/>
        </p:blipFill>
        <p:spPr>
          <a:xfrm rot="21071400">
            <a:off x="5943240" y="4952520"/>
            <a:ext cx="2459160" cy="164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372000">
            <a:off x="4190760" y="4038480"/>
            <a:ext cx="2184120" cy="163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Chiang Mai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50.00, Fun Rating 2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Doi Suthep Waterfall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Ban Sabai Massage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Hanoi </a:t>
            </a: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(Cost: $2.00, Fun Rating 1.5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Hanoi Museum of Fine Arts 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Hoan Kiem Lak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64000">
            <a:off x="5333760" y="4495680"/>
            <a:ext cx="1643040" cy="2192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701400">
            <a:off x="6553080" y="2501640"/>
            <a:ext cx="1846440" cy="138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512400">
            <a:off x="6915240" y="3581280"/>
            <a:ext cx="2228760" cy="16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 rot="288000">
            <a:off x="7238520" y="5105520"/>
            <a:ext cx="1360440" cy="220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Activity Mode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484200">
            <a:off x="3885840" y="4269960"/>
            <a:ext cx="320040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447000">
            <a:off x="1828440" y="4724280"/>
            <a:ext cx="2666880" cy="1776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655800">
            <a:off x="6400440" y="3428640"/>
            <a:ext cx="2514600" cy="188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aigon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1.65, Fun Rating 2.5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Reunification Palace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Ho Chin Min City Museum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iem Reap </a:t>
            </a: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Cost: $13.00, Fun Rating 2.0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Kabal Spea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Tonle Sap Lake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We will fly from New York  - Bangkok - Siem Reap - Phuket - Chiang Mai - Hanoi - Saigon - Bangkok - New York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Our total flight cost is $3,244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Our total fun cost is $109, with a fun rating of 2.1 out of 3.0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We are $297 under budget for our trip!!!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Objectiv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Overall Constraint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light Model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Constraint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Formula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Methodology and Solu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Activity Model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Constraint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Formula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Methodology and Solution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Papyrus"/>
              </a:rPr>
              <a:t>Recommendations</a:t>
            </a:r>
            <a:endParaRPr b="0" lang="en-US" sz="20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Objective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We would like to travel through South East Asia for 3 weeks and visit the following cities: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Bangkok (Thailand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Phuket (Thailand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Chiang Mai (Thailand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Hanoi (Vietnam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aigon (Vietnam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Siem Reap (Cambodia)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65" t="15778" r="53251" b="51774"/>
          <a:stretch/>
        </p:blipFill>
        <p:spPr>
          <a:xfrm>
            <a:off x="5257800" y="3048120"/>
            <a:ext cx="3348000" cy="335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5867280" y="47340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17320" y="3352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9920" y="3890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58080" y="53053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2000" y="57769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36240" y="50436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Papyru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Decision Models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Flight Mod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 Minimize flight costs, travel time, and stopover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ctivity Model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Maximize Fun and Minimize Cost of Fun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Overall Constraints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There are a few things we need to keep in mind . . . . .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can only travel for 3 week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need to reach each of the 6 cities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ur total travel budget for flights is $3,500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and our travel budget for fun is $15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Flight Model: Constraints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pyrus"/>
              </a:rPr>
              <a:t>And we have some flight restrictions . . . </a:t>
            </a:r>
            <a:endParaRPr b="0" lang="en-US" sz="32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We will use Bangkok as a hub to enter and leave South East Asia – a round-trip ticket from New York to Bangkok is approximately $1,50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All flights fares are sourced from Kayak.com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ur budget for internal flights is $2,000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Papyrus"/>
              </a:rPr>
              <a:t>Flight Model: Formulation</a:t>
            </a:r>
            <a:endParaRPr b="1" lang="en-US" sz="44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Objective: Minimize flight costs, travel time, and minimize stop-overs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Decision Variables: Order of cities visited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Constrain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have to begin and end our trip in Bangkok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We can visit each city only once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Inputs: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light Fare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Flight Time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# of Stop-Over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Scenario 1:</a:t>
            </a: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Papyrus"/>
              </a:rPr>
              <a:t>Flight Methodology and Solution</a:t>
            </a:r>
            <a:endParaRPr b="1" lang="en-US" sz="3200" spc="-1" strike="noStrike">
              <a:solidFill>
                <a:srgbClr val="ffcc00"/>
              </a:solidFill>
              <a:latin typeface="Papyru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612800"/>
            <a:ext cx="64771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Scenario 1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Papyrus"/>
              </a:rPr>
              <a:t>Flight Recommendation</a:t>
            </a:r>
            <a:endParaRPr b="1" lang="en-US" sz="4000" spc="-1" strike="noStrike">
              <a:solidFill>
                <a:srgbClr val="ffcc00"/>
              </a:solidFill>
              <a:latin typeface="Papyru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he optimal flight route is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Papyr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New York  - Bangkok - Siem Reap - Phuket - Chiang Mai - Hanoi - Saigon - Bangkok - New York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Cost: $3,244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($256 extra cash)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Time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20.9 hour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Papyrus"/>
              </a:rPr>
              <a:t>Total Stop-Overs: </a:t>
            </a:r>
            <a:endParaRPr b="0" lang="en-US" sz="2800" spc="-1" strike="noStrike">
              <a:solidFill>
                <a:srgbClr val="ffcc00"/>
              </a:solidFill>
              <a:latin typeface="Papyru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pyrus"/>
              </a:rPr>
              <a:t>3 stops</a:t>
            </a: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Papyru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57800" y="2895480"/>
            <a:ext cx="3348000" cy="3353040"/>
            <a:chOff x="5257800" y="2895480"/>
            <a:chExt cx="3348000" cy="33530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9865" t="15778" r="53251" b="51774"/>
            <a:stretch/>
          </p:blipFill>
          <p:spPr>
            <a:xfrm>
              <a:off x="5257800" y="2895480"/>
              <a:ext cx="3348000" cy="3353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0" name=""/>
            <p:cNvSpPr/>
            <p:nvPr/>
          </p:nvSpPr>
          <p:spPr>
            <a:xfrm>
              <a:off x="5867280" y="473400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17320" y="33526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59920" y="38908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8080" y="530532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72000" y="577692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36240" y="50436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Papyru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82200" y="4876920"/>
            <a:ext cx="16754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34000" y="5257800"/>
            <a:ext cx="2347200" cy="118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9" y="10"/>
                </a:moveTo>
                <a:arcTo wR="10800" hR="10800" stAng="-5546717" swAng="5546717"/>
                <a:lnTo>
                  <a:pt x="10800" y="10800"/>
                </a:lnTo>
                <a:close/>
              </a:path>
              <a:path fill="none" w="21600" h="21600">
                <a:moveTo>
                  <a:pt x="10339" y="10"/>
                </a:moveTo>
                <a:arcTo wR="10800" hR="10800" stAng="-5546717" swAng="5546717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 rot="5400000">
            <a:off x="3976920" y="5562360"/>
            <a:ext cx="3931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087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08760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134600">
            <a:off x="4906800" y="3570840"/>
            <a:ext cx="4204080" cy="36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897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8975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225800">
            <a:off x="5302080" y="3334320"/>
            <a:ext cx="1870200" cy="37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57" y="179"/>
                </a:moveTo>
                <a:arcTo wR="10800" hR="10800" stAng="-4773472" swAng="4466575"/>
                <a:lnTo>
                  <a:pt x="10800" y="10800"/>
                </a:lnTo>
                <a:close/>
              </a:path>
              <a:path fill="none" w="21600" h="21600">
                <a:moveTo>
                  <a:pt x="12757" y="179"/>
                </a:moveTo>
                <a:arcTo wR="10800" hR="10800" stAng="-4773472" swAng="4466575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019920" y="4266720"/>
            <a:ext cx="22852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9:56:56Z</dcterms:created>
  <dc:creator>Mary O'Connell</dc:creator>
  <dc:description/>
  <dc:language>en-US</dc:language>
  <cp:lastModifiedBy> Melina</cp:lastModifiedBy>
  <dcterms:modified xsi:type="dcterms:W3CDTF">2008-04-27T18:28:30Z</dcterms:modified>
  <cp:revision>32</cp:revision>
  <dc:subject/>
  <dc:title>South East Asia Trek</dc:title>
</cp:coreProperties>
</file>