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256-4EEC-4566-A2D2-D7E0A9F2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F2E-7306-4EDC-A891-7CE6ED19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C1D-019D-484E-ACAB-CB3A27C6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ED9-81FE-4E12-9E02-14D69F8F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99B-7A96-41F8-80FE-98A6F415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DFC-FA1B-4EA9-ADF9-E0986314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B68-FDAA-4478-94C4-7890B5B4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322-0A80-4874-BF46-8616FB61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2A9-0105-4117-9849-B5A29C77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B71-04FC-40F2-861F-CB0DE9CE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6F7-97AD-4226-B37A-AAD9E3FC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FA6-9A14-4837-911D-590322F5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3699-4E7A-4F8A-BA12-7F32B4C46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ernhardMod BT"/>
              </a:rPr>
              <a:t>Genghis Kahn Casino Management: “we will sack the competition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nathan Blankenhe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jandro Bon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nya Dheva-Aks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tleigh John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457200" y="914400"/>
            <a:ext cx="8229600" cy="5486400"/>
            <a:chOff x="457200" y="914400"/>
            <a:chExt cx="8229600" cy="548640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457200" y="914400"/>
              <a:ext cx="82296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 txBox="1"/>
            <p:nvPr/>
          </p:nvSpPr>
          <p:spPr>
            <a:xfrm>
              <a:off x="457200" y="914400"/>
              <a:ext cx="8229600" cy="548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048120" y="320040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952880"/>
            <a:ext cx="38088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4952880"/>
            <a:ext cx="38088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533412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571500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5334120"/>
            <a:ext cx="3812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571500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502920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4419720"/>
            <a:ext cx="1066680" cy="7617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304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Casinos (red) and Ferry Terminal (b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7692840" cy="1438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90720" y="137160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p allowed us to use the Pythagorean Theorem to determine the distance from each grid location marked “available” to the ferry and to the water; below is the worksheet that determined x and y coordinates for each location and the grid that determines the distance of each to each water location – then we took the minimum distance for each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r Max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288200" cy="35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r Max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used the GRG non-linear solver because there is a maximization formula in our objectiv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hould build the largest casino we can at site H9, which is adjacent to four casinos and relatively close to the ferry ter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little skewed, because construction and land costs will not be strictly linear – this will require more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457200" y="914400"/>
            <a:ext cx="8229600" cy="5486400"/>
            <a:chOff x="457200" y="914400"/>
            <a:chExt cx="8229600" cy="54864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457200" y="914400"/>
              <a:ext cx="82296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 txBox="1"/>
            <p:nvPr/>
          </p:nvSpPr>
          <p:spPr>
            <a:xfrm>
              <a:off x="457200" y="914400"/>
              <a:ext cx="8229600" cy="548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048120" y="320040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4952880"/>
            <a:ext cx="38088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952880"/>
            <a:ext cx="38088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33412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571500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5334120"/>
            <a:ext cx="3812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71500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5029200"/>
            <a:ext cx="3808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4419720"/>
            <a:ext cx="1066680" cy="7617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04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5257800"/>
            <a:ext cx="53352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au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au Special Administrative Re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ble tourist industry that boasts a wide range of hotels, resorts, stadiums, restaurants and casi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3 Million Visitor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23000" y="1219320"/>
            <a:ext cx="1981080" cy="256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how Macau became the world's no 1 gaming spot "/>
          <p:cNvPicPr/>
          <p:nvPr/>
        </p:nvPicPr>
        <p:blipFill>
          <a:blip r:embed="rId2"/>
          <a:stretch/>
        </p:blipFill>
        <p:spPr>
          <a:xfrm>
            <a:off x="5257800" y="3809880"/>
            <a:ext cx="29242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icop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g Kong to Macau: 16 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nzhen to Macau: 20 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au International Air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au Ferry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g Kong to Macau: 60 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nzhen to Macau: 70 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inos in Mac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 Total Casinos operating under a government franch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st Casino is the Venetian Mac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bling represents over 40% of Macau’s G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6 Gambling Revenues: 7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Vegas: 6.69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the core team of the Strategic Planning Office of a large casino company. Aligned with the board's strategic vision, our goal is to build a new casino in Macau, which is the fastest growing casino/gambling region of the world due to its close proximity to large proportion of Asian gamblers. Our task is to determine the optimal size and location in which to build a casino in Macau, with profit maximization as the sole obj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key revenue and cost drivers of Macau cas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the available properties to determine possible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olver to maximize the profits from a new casino based on size and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enue Dri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regressed EBITDA for Las Vegas casinos based on their size, distance to the airport, and proximity to other cas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ing equation can be used for Macau, substituting distance to the ferry for distance to the air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ITDA = -22 + 3.84xsqft(thou) – 11.6xdist to ferry + 73.4xadjacent cas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8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t Dri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cost drivers include the cost of purchasing the land and constructing the cas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cost is driven by size of the casino: $5,000 per sqft of casino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cost is correlated with distance to the ferry: penalty of 147xdistance to ferry (based on costs of recent casinos built in Vegas and Maca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 Available Prope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took a map of Macau and segmented the land into a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we marked the large existing casinos and the ferry terminal, as well as water and available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we converted it into an excel spreadsheet that can be used with solver to determine the best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0:17:20Z</dcterms:created>
  <dc:creator>Richard</dc:creator>
  <dc:description/>
  <dc:language>en-US</dc:language>
  <cp:lastModifiedBy>Jonathan Blankenheim</cp:lastModifiedBy>
  <dcterms:modified xsi:type="dcterms:W3CDTF">2008-04-28T16:11:46Z</dcterms:modified>
  <cp:revision>6</cp:revision>
  <dc:subject/>
  <dc:title>Slide 1</dc:title>
</cp:coreProperties>
</file>