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C083-FF5D-44D9-8EAA-9F99908E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3B7A-95D3-4041-B319-AE930F95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DC00-DFE0-418D-81C0-EE4620BF1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7CE1-3BA8-4F1D-B954-06599A99D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73D9-5CE3-4937-B5F4-FCA2DE7C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D344-BCA5-4916-A1AA-A9CF44FF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L &amp; Steph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39EC-B63D-4D38-B52D-0F0037DF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L &amp; Steph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4AE5-F5BE-4038-9AC6-68279C8A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L &amp; Steph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8B9-637B-4739-901F-F3A13D876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L &amp; Steph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DA17-B642-41CD-854A-DAD2F1355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772-F94A-483D-9C55-5A150C82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l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8C7-DA8B-4ED1-A32E-2D49DA0E0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2DF6-E54E-4F05-8BE4-B4A23448B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A689-2B67-4C89-9D8B-86500312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C5AD-F20B-4292-BAF5-900A63118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9CCF-2F67-41A9-BE10-D0AFFE626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B9B4-EFC7-4897-ACD4-F2A86D59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F64-8EF1-4656-9CC4-CA0F89C1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F8A-D971-4E13-9A9B-8D7D44F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C4D-9AFC-4895-89A4-1DC2F38A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E0C-3747-4D46-ADA3-20AE1F98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60A-A66B-4B54-A255-70982B93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2BD-3DF9-4A28-82E0-25B1F0E2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94E-C5E1-4879-A431-88DDE3FF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658-0140-465D-B17A-968FE6F6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E46-AC39-4039-8EB9-1CA22065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CCC-641B-4C09-B830-01C2C93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5C6-6A48-4AEB-95FF-7EFCBF99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1ED-D334-47E2-B10E-1E02F3C0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809F-90C7-4D2E-9353-2EE407898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0" y="6078600"/>
            <a:ext cx="91440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7467480" y="6296040"/>
            <a:ext cx="1285920" cy="4856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 Satellite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rah Li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sing Hsing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helle Yan Le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hanie 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helle Ce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3047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bate: Increased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8839440" cy="2263680"/>
          </a:xfrm>
          <a:prstGeom prst="rect">
            <a:avLst/>
          </a:prstGeom>
          <a:ln w="0">
            <a:noFill/>
          </a:ln>
        </p:spPr>
      </p:pic>
      <p:sp>
        <p:nvSpPr>
          <p:cNvPr id="84" name="Line 9"/>
          <p:cNvSpPr/>
          <p:nvPr/>
        </p:nvSpPr>
        <p:spPr>
          <a:xfrm flipV="1">
            <a:off x="2057400" y="2286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895480" y="1981080"/>
            <a:ext cx="31244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ssuming that rebates are 50% more effective than pric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bate: Incremental 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52280" y="2649600"/>
            <a:ext cx="8839440" cy="230328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 flipV="1">
            <a:off x="1981080" y="24382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819520" y="2133720"/>
            <a:ext cx="3124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ssuming that only 50% of rebates are redeem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533520" y="1600200"/>
          <a:ext cx="807696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mptio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prices schedule ($400 hardware + $12 monthly f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annual subscription 53 million in the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production cost = $254 M; variable cost = $456/ hardw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is assumed with triangular distrib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57200" y="1600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How many reception hardware boxes should  XM outsource to an OEM manufactur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227160" y="3657600"/>
            <a:ext cx="86896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olve the no. of reception boxes to achieve at least $2M annual profit from the sales of hard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952880" y="287352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 of reception boxes manufactured = 45M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% of the time XM makes $2M annual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609480" y="287352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 of reception boxes manufactured = 20M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% of the time XM makes $2M annual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876920" y="3559320"/>
            <a:ext cx="3657600" cy="207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559320"/>
            <a:ext cx="365760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stal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724280" y="228600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 of reception boxes manufactured =70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0% of the time XM can make annual revenue of $2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57200" y="228600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 of reception boxes manufactured = 5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2% of the time XM can make annual revenue of $2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876920" y="3276720"/>
            <a:ext cx="3657600" cy="207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365760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33520" y="1523880"/>
            <a:ext cx="4647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 Satellite Radio has never been profitable since it launched satellite radio broadcasting in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rius XM Radio, Inc. formed in July 2008 (&gt;18.5 million subscribers total) when Sirius acquired 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r was controversial because of FCC lic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ed investors of a possible bankruptcy filing before Liberty Media Corp.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struggling with debt and a significant downturn in sales due to the weakened automobil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486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997: XM a venture started by AMSC and recently partnered with WorldSpace Corporation, planned to deliver 50 or more high-quality, digital radio channels to the car and home via satellite. XM’s biggest threat is SIRIUS, which is the only other company in the United States to have been granted a license for satellite radio from the F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problem for XM is deciding whether to adopt a subscription-only model like SIRIUS, an advertising only model, or a mixture of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482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&amp;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" y="198108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our analysis we fou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Hardware Price = $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ubscription Price = $12/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price no rebate should be o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 should contract for the manufacturing of 70 million radio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0862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522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Variables: What type of pricing structure should XM ado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Maximize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2501" t="17001" r="23752" b="8999"/>
          <a:stretch/>
        </p:blipFill>
        <p:spPr>
          <a:xfrm>
            <a:off x="762120" y="2133720"/>
            <a:ext cx="800100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457200" y="24512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hat is the optimal pricing scheme for X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2501" t="17001" r="48127" b="17998"/>
          <a:stretch/>
        </p:blipFill>
        <p:spPr>
          <a:xfrm>
            <a:off x="1219320" y="1676520"/>
            <a:ext cx="6781680" cy="4397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57200" y="1752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hat is the optimal price for the subscription and hard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ubscription &amp; Hardwar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2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2240" cy="3054240"/>
          </a:xfrm>
          <a:prstGeom prst="rect">
            <a:avLst/>
          </a:prstGeom>
          <a:ln w="0">
            <a:noFill/>
          </a:ln>
        </p:spPr>
      </p:pic>
      <p:sp>
        <p:nvSpPr>
          <p:cNvPr id="70" name="Oval 153"/>
          <p:cNvSpPr/>
          <p:nvPr/>
        </p:nvSpPr>
        <p:spPr>
          <a:xfrm>
            <a:off x="2514600" y="2743200"/>
            <a:ext cx="11430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2501" t="18003" r="33126" b="11999"/>
          <a:stretch/>
        </p:blipFill>
        <p:spPr>
          <a:xfrm>
            <a:off x="914400" y="1600200"/>
            <a:ext cx="7659720" cy="4419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45720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hould XM use an advertising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ubscription &amp; Hardware Price with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Assumption - 30% drop in demand with adverti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86800" cy="2457720"/>
          </a:xfrm>
          <a:prstGeom prst="rect">
            <a:avLst/>
          </a:prstGeom>
          <a:ln w="0">
            <a:noFill/>
          </a:ln>
        </p:spPr>
      </p:pic>
      <p:sp>
        <p:nvSpPr>
          <p:cNvPr id="77" name="Oval 7"/>
          <p:cNvSpPr/>
          <p:nvPr/>
        </p:nvSpPr>
        <p:spPr>
          <a:xfrm>
            <a:off x="2666880" y="2743200"/>
            <a:ext cx="114300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rcRect l="2501" t="17001" r="23752" b="8999"/>
          <a:stretch/>
        </p:blipFill>
        <p:spPr>
          <a:xfrm>
            <a:off x="533520" y="1600200"/>
            <a:ext cx="8001000" cy="4419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457200" y="182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hould XM offer a $100 reb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03:26:11Z</dcterms:created>
  <dc:creator>Michelle</dc:creator>
  <dc:description/>
  <dc:language>en-US</dc:language>
  <cp:lastModifiedBy>Clay</cp:lastModifiedBy>
  <dcterms:modified xsi:type="dcterms:W3CDTF">2009-04-22T11:56:18Z</dcterms:modified>
  <cp:revision>39</cp:revision>
  <dc:subject/>
  <dc:title>Slide 1</dc:title>
</cp:coreProperties>
</file>