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22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10.wmf" ContentType="image/x-wmf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5.png" ContentType="image/png"/>
  <Override PartName="/ppt/media/image20.wmf" ContentType="image/x-wmf"/>
  <Override PartName="/ppt/media/image26.jpeg" ContentType="image/jpeg"/>
  <Override PartName="/ppt/media/image36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9.png" ContentType="image/png"/>
  <Override PartName="/ppt/media/image5.jpeg" ContentType="image/jpeg"/>
  <Override PartName="/ppt/media/image15.gif" ContentType="image/gif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D8BE-FE74-408E-B87E-EC5F53631E6A}" type="datetime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D00A-660A-47C6-BFD5-0A41CAB7150E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EC00-3EF0-4910-A8DA-D92CBCF45583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65C-50D0-483D-A99F-0C985029A662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19B4-554E-4CAF-9EA6-7524F69BF8D6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3DB-5E8D-4F12-A41D-BF35E54FF644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35DF-6780-4F79-B3DE-94041A313190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ACE-9BD9-4C10-8F63-60C37AECB0C1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0E6-BE9F-43C7-A24E-2499E555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69E-552D-4F5F-9AEC-DF699C95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8C3-4A00-4898-BA14-B910165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B83-BE16-4A0B-9AE4-0504E31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49E-915D-4EBD-8823-410535A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2D7-A228-44A1-86DF-AE6A686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39F-3BDF-4CFF-840E-C036920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6B7-5640-4D3B-A92E-695EB60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21E-626F-4C74-933E-8440E1F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166-3E35-475C-ABF5-0A2FA69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3C6-AC9A-4590-A530-200F22FD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A8D-1A04-440F-892B-5A57B576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FF8E-07A8-4B47-8C7F-4143D24A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79B-6E38-4D89-B418-A3B9A6A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2B5-0038-4DB9-B1BD-A4C7085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95C-E6FA-4B42-BB6D-19527672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29D2-4DA2-420E-B389-0D1AD685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A41-FC70-46F9-A9FF-2C124EE5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C8F-2559-446F-8B17-B131BAC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E82B-8CF6-4507-8F4C-EEE544C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A85A-87C2-4F4A-B3C2-0E3206F6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687-BC83-49AF-AECB-B10AD17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02F3-8DC6-4963-A283-FAB23DF6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DA05-70D4-485D-AD36-A9090031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8388-E813-4BF5-980B-B44B4D09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1F67-9111-4022-8019-DC3692C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296F-6BA7-479D-B420-A85CB0C7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7F74-F59A-4DC4-B15D-CFB68A0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0FF2-176E-4597-B626-9BB2749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0815-8823-4BF4-8091-8953B2C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D474-9259-4A65-96F1-04E860FD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E9E2-4852-40AE-861A-557AC79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F8BC-AB8B-496D-B9D1-984A94B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89AC-C050-4FE3-97A6-00D268EB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BC27-E560-4415-96BF-E5D8B67C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4234-53FA-4FC0-8790-0C1F54E7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9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B122-11B5-4577-94B3-D7DBF3B5B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F9EC-E2B9-4A87-8978-7D4B0308D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8"/>
          </p:nvPr>
        </p:nvSpPr>
        <p:spPr>
          <a:xfrm>
            <a:off x="2743200" y="6244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06D-161F-4221-8D2A-A385F421BA1D}" type="slidenum"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vbuys.org/photos/tvbuys_as_seen_on_tv.jpg&amp;imgrefurl=http://www.tvbuys.org/&amp;usg=__rCNkQSmQjEVZ2sM3cLbOmbm0ZLk=&amp;h=130&amp;w=160&amp;sz=7&amp;hl=en&amp;start=11&amp;um=1&amp;tbnid=d2Z7mzBRyZj0NM:&amp;tbnh=80&amp;tbnw=98&amp;prev=/images?q=as+seen+on+tv+logo&amp;hl=en&amp;rlz=1T4GGIH_enUS235US235&amp;um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kmoddesigns.com/store/images/Connoisseur%2520Red%2520Wine%2520Glass.jpg&amp;imgrefurl=http://kmoddesigns.com/store/index.php?cPath=35_52&amp;osCsid=0d5607ffc5d529c516d8324861578ace&amp;h=432&amp;w=432&amp;sz=10&amp;tbnid=9RVSQQNxi0EuZM::&amp;tbnh=126&amp;tbnw=126&amp;prev=/images?q=wine+glass+image&amp;hl=en&amp;usg=__B7Kd11ZIHNTA0aOKEGx38ICuSCc=&amp;ei=3nDwSYzWC5WdlAfZqYnbDA&amp;sa=X&amp;oi=image_result&amp;resnum=3&amp;ct=image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www.alcohol-stuff.co.uk/images/extra/mug.JPG&amp;imgrefurl=http://www.alcohol-stuff.co.uk/shop/beer-cooler.html&amp;h=328&amp;w=284&amp;sz=9&amp;tbnid=xZLGwHyXuzrF_M::&amp;tbnh=118&amp;tbnw=102&amp;prev=/images?q=beer+mug+image&amp;hl=en&amp;usg=__JqS8z2G3ACm_R5vak55CcfcKW8Y=&amp;ei=f3HwSayNLZfflQfOxrHXDA&amp;sa=X&amp;oi=image_result&amp;resnum=3&amp;ct=image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hyperlink" Target="http://images.google.com/imgres?imgurl=http://www.blastmedia.com/blogs/mediablast/two%2520thumbs%2520up.jpeg&amp;imgrefurl=http://www.blastmedia.com/blogs/mediablast/2008/12/&amp;usg=__QCMFsaJTHyqEysVB2wTBYBB7fds=&amp;h=447&amp;w=347&amp;sz=22&amp;hl=en&amp;start=11&amp;um=1&amp;tbnid=0-QIQg5JodB1PM:&amp;tbnh=127&amp;tbnw=99&amp;prev=/images?q=thumbs+up+image&amp;hl=en&amp;rlz=1T4GGIH_enUS235US235&amp;um=1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11" Type="http://schemas.openxmlformats.org/officeDocument/2006/relationships/image" Target="../media/image3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wmf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www.alcohol-stuff.co.uk/images/extra/mug.JPG&amp;imgrefurl=http://www.alcohol-stuff.co.uk/shop/beer-cooler.html&amp;h=328&amp;w=284&amp;sz=9&amp;tbnid=xZLGwHyXuzrF_M::&amp;tbnh=118&amp;tbnw=102&amp;prev=/images?q=beer+mug+image&amp;hl=en&amp;usg=__JqS8z2G3ACm_R5vak55CcfcKW8Y=&amp;ei=f3HwSayNLZfflQfOxrHXDA&amp;sa=X&amp;oi=image_result&amp;resnum=3&amp;ct=image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www.google.com/imgres?imgurl=http://kmoddesigns.com/store/images/Connoisseur%2520Red%2520Wine%2520Glass.jpg&amp;imgrefurl=http://kmoddesigns.com/store/index.php?cPath=35_52&amp;osCsid=0d5607ffc5d529c516d8324861578ace&amp;h=432&amp;w=432&amp;sz=10&amp;tbnid=9RVSQQNxi0EuZM::&amp;tbnh=126&amp;tbnw=126&amp;prev=/images?q=wine+glass+image&amp;hl=en&amp;usg=__B7Kd11ZIHNTA0aOKEGx38ICuSCc=&amp;ei=3nDwSYzWC5WdlAfZqYnbDA&amp;sa=X&amp;oi=image_result&amp;resnum=3&amp;ct=image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hyperlink" Target="http://www.google.com/imgres?imgurl=http://im.rediff.com/us/pix/aswath_damodaran.jpg&amp;imgrefurl=http://www.rediff.com/us/aswathdamodaran_top50.html&amp;h=294&amp;w=400&amp;sz=24&amp;tbnid=oAxm9-qFx1XqKM::&amp;tbnh=91&amp;tbnw=124&amp;prev=/images?q=aswath+damodaran+image&amp;usg=__al0a3ekD2HY80jBHB1R_f2MVyew=&amp;ei=umPySdqIKpvmlQfhxITDDA&amp;sa=X&amp;oi=image_result&amp;resnum=1&amp;ct=image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vbuys.org/photos/tvbuys_as_seen_on_tv.jpg&amp;imgrefurl=http://www.tvbuys.org/&amp;usg=__rCNkQSmQjEVZ2sM3cLbOmbm0ZLk=&amp;h=130&amp;w=160&amp;sz=7&amp;hl=en&amp;start=11&amp;um=1&amp;tbnid=d2Z7mzBRyZj0NM:&amp;tbnh=80&amp;tbnw=98&amp;prev=/images?q=as+seen+on+tv+logo&amp;hl=en&amp;rlz=1T4GGIH_enUS235US235&amp;um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71" name="Picture 8" descr="Sterninator Logo"/>
          <p:cNvPicPr/>
          <p:nvPr/>
        </p:nvPicPr>
        <p:blipFill>
          <a:blip r:embed="rId1"/>
          <a:stretch/>
        </p:blipFill>
        <p:spPr>
          <a:xfrm>
            <a:off x="3505320" y="1752480"/>
            <a:ext cx="203040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tvbuys_as_seen_on_t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63600"/>
            <a:ext cx="1981080" cy="1617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 rot="19638600">
            <a:off x="1448280" y="220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28600" y="4381560"/>
            <a:ext cx="8610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radley Hand ITC"/>
              </a:rPr>
              <a:t>Downtown. Down to Earth. Down for BiznASS.</a:t>
            </a:r>
            <a:endParaRPr b="0" lang="en-US" sz="33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80880" y="5562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Tom Catherwood. Shauna Ginsberg. MJ Soifer. Nevin Vages. Michelle Westhoefer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2553480" y="6095880"/>
            <a:ext cx="41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DECISION MODELS/QVC. APRIL 27, 2009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77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 rot="19463400">
            <a:off x="5908680" y="948960"/>
            <a:ext cx="29700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torch">
            <a:hlinkClick r:id="rId6"/>
          </p:cNvPr>
          <p:cNvPicPr/>
          <p:nvPr/>
        </p:nvPicPr>
        <p:blipFill>
          <a:blip r:embed="rId7"/>
          <a:stretch/>
        </p:blipFill>
        <p:spPr>
          <a:xfrm rot="3172200">
            <a:off x="5500080" y="316440"/>
            <a:ext cx="2775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millionaire-big-pile-of-cash.gif"/>
          <p:cNvPicPr/>
          <p:nvPr/>
        </p:nvPicPr>
        <p:blipFill>
          <a:blip r:embed="rId1"/>
          <a:stretch/>
        </p:blipFill>
        <p:spPr>
          <a:xfrm>
            <a:off x="631800" y="498600"/>
            <a:ext cx="7597800" cy="6097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h Money… all drinks are not created equal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4572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34290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4008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$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17" name="Picture 7" descr="Beer-Bottle-Flashing-pin-19070418913.gif"/>
          <p:cNvPicPr/>
          <p:nvPr/>
        </p:nvPicPr>
        <p:blipFill>
          <a:blip r:embed="rId2"/>
          <a:stretch/>
        </p:blipFill>
        <p:spPr>
          <a:xfrm>
            <a:off x="1066680" y="2816280"/>
            <a:ext cx="685800" cy="251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Red_Wine_Glas.jpg"/>
          <p:cNvPicPr/>
          <p:nvPr/>
        </p:nvPicPr>
        <p:blipFill>
          <a:blip r:embed="rId3"/>
          <a:stretch/>
        </p:blipFill>
        <p:spPr>
          <a:xfrm>
            <a:off x="3809880" y="28368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top_invisible.jpg"/>
          <p:cNvPicPr/>
          <p:nvPr/>
        </p:nvPicPr>
        <p:blipFill>
          <a:blip r:embed="rId4"/>
          <a:srcRect l="16415" t="0" r="9702" b="2990"/>
          <a:stretch/>
        </p:blipFill>
        <p:spPr>
          <a:xfrm>
            <a:off x="6934320" y="3228840"/>
            <a:ext cx="1295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created a model that allows the user to create a custom drinking schedule for any event or occa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lurred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red wine stains on your dress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oliciting of corporate recru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371600" y="60948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22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1440" y="576360"/>
            <a:ext cx="17460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80880"/>
            <a:ext cx="838080" cy="192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8"/>
          <p:cNvSpPr/>
          <p:nvPr/>
        </p:nvSpPr>
        <p:spPr>
          <a:xfrm rot="19997400">
            <a:off x="1282680" y="4965840"/>
            <a:ext cx="838080" cy="11430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Decision Variabl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many beers, glasses of wine, and cocktails can YOU consume, and in which hours can YOU consume them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http://kmoddesigns.com/store/index.php?cPath=35_52&amp;osCsid=0d5607ffc5d529c516d8324861578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55800" y="5423040"/>
            <a:ext cx="835200" cy="9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http://www.alcohol-stuff.co.uk/shop/beer-cooler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435640"/>
            <a:ext cx="839880" cy="971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30" descr=""/>
          <p:cNvPicPr/>
          <p:nvPr/>
        </p:nvPicPr>
        <p:blipFill>
          <a:blip r:embed="rId5"/>
          <a:stretch/>
        </p:blipFill>
        <p:spPr>
          <a:xfrm>
            <a:off x="241200" y="3251160"/>
            <a:ext cx="8686800" cy="14414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31"/>
          <p:cNvSpPr/>
          <p:nvPr/>
        </p:nvSpPr>
        <p:spPr>
          <a:xfrm>
            <a:off x="1104840" y="566424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2" name="Text Box 332"/>
          <p:cNvSpPr/>
          <p:nvPr/>
        </p:nvSpPr>
        <p:spPr>
          <a:xfrm>
            <a:off x="1625760" y="5486400"/>
            <a:ext cx="53316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3" name="Text Box 333"/>
          <p:cNvSpPr/>
          <p:nvPr/>
        </p:nvSpPr>
        <p:spPr>
          <a:xfrm>
            <a:off x="2146320" y="542448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4" name="Text Box 339"/>
          <p:cNvSpPr/>
          <p:nvPr/>
        </p:nvSpPr>
        <p:spPr>
          <a:xfrm>
            <a:off x="367020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5" name="Text Box 340"/>
          <p:cNvSpPr/>
          <p:nvPr/>
        </p:nvSpPr>
        <p:spPr>
          <a:xfrm>
            <a:off x="622296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6" name="Text Box 341"/>
          <p:cNvSpPr/>
          <p:nvPr/>
        </p:nvSpPr>
        <p:spPr>
          <a:xfrm>
            <a:off x="6730920" y="5486400"/>
            <a:ext cx="53352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7" name="Text Box 342"/>
          <p:cNvSpPr/>
          <p:nvPr/>
        </p:nvSpPr>
        <p:spPr>
          <a:xfrm>
            <a:off x="4229280" y="5486400"/>
            <a:ext cx="53316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8" name="Text Box 343"/>
          <p:cNvSpPr/>
          <p:nvPr/>
        </p:nvSpPr>
        <p:spPr>
          <a:xfrm>
            <a:off x="4749840" y="541008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9" name="Text Box 344"/>
          <p:cNvSpPr/>
          <p:nvPr/>
        </p:nvSpPr>
        <p:spPr>
          <a:xfrm>
            <a:off x="732780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40" name="Picture 346" descr="two%2520thumbs%2520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96080" y="4876920"/>
            <a:ext cx="1239840" cy="1590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51" descr="torch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95760" y="380880"/>
            <a:ext cx="762120" cy="139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52" descr="to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62520" y="520560"/>
            <a:ext cx="177840" cy="838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top_invisible.jpg"/>
          <p:cNvPicPr/>
          <p:nvPr/>
        </p:nvPicPr>
        <p:blipFill>
          <a:blip r:embed="rId12"/>
          <a:srcRect l="16415" t="0" r="9702" b="2990"/>
          <a:stretch/>
        </p:blipFill>
        <p:spPr>
          <a:xfrm>
            <a:off x="5410080" y="5435640"/>
            <a:ext cx="754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Objective Function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objective of the STERNINATOR is to avoid                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IMIZING TOTAL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549440" y="323856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6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1562040" y="435600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9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549440" y="5537160"/>
            <a:ext cx="99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13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1219320" y="5562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219320" y="3276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1219320" y="4419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53" name="Picture 37" descr="empty_wallet_2"/>
          <p:cNvPicPr/>
          <p:nvPr/>
        </p:nvPicPr>
        <p:blipFill>
          <a:blip r:embed="rId1"/>
          <a:stretch/>
        </p:blipFill>
        <p:spPr>
          <a:xfrm>
            <a:off x="2374920" y="2133720"/>
            <a:ext cx="1600200" cy="119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4" name="Picture 38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5791320" cy="11988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9"/>
          <p:cNvSpPr/>
          <p:nvPr/>
        </p:nvSpPr>
        <p:spPr>
          <a:xfrm rot="5400000">
            <a:off x="5790960" y="3047760"/>
            <a:ext cx="152388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56" name="Picture 18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95760" y="380880"/>
            <a:ext cx="762120" cy="139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tor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495360"/>
            <a:ext cx="17748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http://www.alcohol-stuff.co.uk/shop/beer-cooler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048120"/>
            <a:ext cx="839880" cy="971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4" descr="http://kmoddesigns.com/store/index.php?cPath=35_52&amp;osCsid=0d5607ffc5d529c516d8324861578ac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191120"/>
            <a:ext cx="835200" cy="99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top_invisible.jpg"/>
          <p:cNvPicPr/>
          <p:nvPr/>
        </p:nvPicPr>
        <p:blipFill>
          <a:blip r:embed="rId11"/>
          <a:srcRect l="16415" t="0" r="9702" b="2990"/>
          <a:stretch/>
        </p:blipFill>
        <p:spPr>
          <a:xfrm>
            <a:off x="254160" y="5359320"/>
            <a:ext cx="75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Constraint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3" name="Picture 3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5560" y="406440"/>
            <a:ext cx="762120" cy="12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533520"/>
            <a:ext cx="203040" cy="838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9680" y="1752480"/>
            <a:ext cx="71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TERNINATOR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nimizes Co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but still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ximizes Fu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via 7 Easy T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TOTAL BAC &lt;= BAC UPP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TOTAL BAC &gt;= BAC LOW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DECISION VARIABLES = INTEG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TOTAL BAC (for each hour drinking) &lt;= BAC UPP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for the Real Fu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TOTAL  COCKTAILS  CONSUMED &gt;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) TOTAL GLASSES OF WINE CONSUMED &gt;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) TOTAL BEERS CONSUMED &gt;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3" descr="Michelle"/>
          <p:cNvPicPr/>
          <p:nvPr/>
        </p:nvPicPr>
        <p:blipFill>
          <a:blip r:embed="rId5"/>
          <a:stretch/>
        </p:blipFill>
        <p:spPr>
          <a:xfrm>
            <a:off x="8191440" y="-126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Nevin"/>
          <p:cNvPicPr/>
          <p:nvPr/>
        </p:nvPicPr>
        <p:blipFill>
          <a:blip r:embed="rId6"/>
          <a:stretch/>
        </p:blipFill>
        <p:spPr>
          <a:xfrm>
            <a:off x="8193240" y="1371600"/>
            <a:ext cx="10141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MJ"/>
          <p:cNvPicPr/>
          <p:nvPr/>
        </p:nvPicPr>
        <p:blipFill>
          <a:blip r:embed="rId7"/>
          <a:stretch/>
        </p:blipFill>
        <p:spPr>
          <a:xfrm>
            <a:off x="8180280" y="2882880"/>
            <a:ext cx="102708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Tom"/>
          <p:cNvPicPr/>
          <p:nvPr/>
        </p:nvPicPr>
        <p:blipFill>
          <a:blip r:embed="rId8"/>
          <a:stretch/>
        </p:blipFill>
        <p:spPr>
          <a:xfrm>
            <a:off x="8178840" y="426708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0" descr="drinking before wedding"/>
          <p:cNvPicPr/>
          <p:nvPr/>
        </p:nvPicPr>
        <p:blipFill>
          <a:blip r:embed="rId9"/>
          <a:stretch/>
        </p:blipFill>
        <p:spPr>
          <a:xfrm>
            <a:off x="8194680" y="5651640"/>
            <a:ext cx="1012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33520" y="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The Model</a:t>
            </a:r>
            <a:endParaRPr b="0" lang="en-US" sz="3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73" name="Picture 18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152280"/>
            <a:ext cx="914400" cy="22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80880"/>
            <a:ext cx="22860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59436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Right Arrow 15"/>
          <p:cNvSpPr/>
          <p:nvPr/>
        </p:nvSpPr>
        <p:spPr>
          <a:xfrm>
            <a:off x="304920" y="137160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7" name="Right Arrow 16"/>
          <p:cNvSpPr/>
          <p:nvPr/>
        </p:nvSpPr>
        <p:spPr>
          <a:xfrm>
            <a:off x="304920" y="419112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8" name="Right Arrow 17"/>
          <p:cNvSpPr/>
          <p:nvPr/>
        </p:nvSpPr>
        <p:spPr>
          <a:xfrm>
            <a:off x="304920" y="556272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9" name="Right Arrow 18"/>
          <p:cNvSpPr/>
          <p:nvPr/>
        </p:nvSpPr>
        <p:spPr>
          <a:xfrm>
            <a:off x="304920" y="276696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38088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Inputs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38088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BAC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279360" y="3135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Decision VaR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380880" y="4572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Cost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Dat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743200" y="624528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13640" cy="1947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736560" y="3124080"/>
            <a:ext cx="7699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Cheerleader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39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Kicker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90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Quarterback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86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181480" y="4800240"/>
            <a:ext cx="2895840" cy="106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JOB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10080" cy="122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Rectangle 12"/>
          <p:cNvSpPr/>
          <p:nvPr/>
        </p:nvSpPr>
        <p:spPr>
          <a:xfrm>
            <a:off x="3124080" y="4495680"/>
            <a:ext cx="5791320" cy="10670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NETWORK</a:t>
            </a:r>
            <a:endParaRPr b="0" lang="en-US" sz="6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2895480" y="1828800"/>
            <a:ext cx="2819520" cy="2514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276720" y="4648320"/>
            <a:ext cx="5790960" cy="106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DRINKING</a:t>
            </a:r>
            <a:endParaRPr b="0" lang="en-US" sz="6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5410080" cy="122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3334 -0.63333 E">
                                      <p:cBhvr>
                                        <p:cTn id="2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3334 -0.63333 E">
                                      <p:cBhvr>
                                        <p:cTn id="2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4 -0.58889 E">
                                      <p:cBhvr>
                                        <p:cTn id="4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5 -0.61111 E">
                                      <p:cBhvr>
                                        <p:cTn id="5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Linem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295280" y="1768320"/>
            <a:ext cx="6934320" cy="376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ran Examp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609480" y="1384200"/>
            <a:ext cx="8153640" cy="5151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4068720" y="3379680"/>
            <a:ext cx="2789280" cy="459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VLOOKUP(G8,Sheet2!B:N,2,FALSE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4064040" y="4049640"/>
            <a:ext cx="46990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5=Q2,0.4,IF(B5=Q3,0.3,IF(B5=Q4,0.23,IF(B5=Q5,0.17,0)))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4064040" y="4368960"/>
            <a:ext cx="12700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0.016*(60/40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4067280" y="3733920"/>
            <a:ext cx="469584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5=Q2,0.3,IF(B5=Q3,0.2,IF(B5=Q4,0.13,IF(B5=Q5,0.07,0))))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572000" y="6019920"/>
            <a:ext cx="236232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IF($B$4-C13&gt;=0,"Yes","No"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04" name="Straight Arrow Connector 11"/>
          <p:cNvCxnSpPr/>
          <p:nvPr/>
        </p:nvCxnSpPr>
        <p:spPr>
          <a:xfrm flipH="1" flipV="1">
            <a:off x="3885840" y="5257440"/>
            <a:ext cx="838800" cy="83880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05" name="Explosion 1 15"/>
          <p:cNvSpPr/>
          <p:nvPr/>
        </p:nvSpPr>
        <p:spPr>
          <a:xfrm>
            <a:off x="6248520" y="1600200"/>
            <a:ext cx="1371600" cy="15238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6" name="7-Point Star 17"/>
          <p:cNvSpPr/>
          <p:nvPr/>
        </p:nvSpPr>
        <p:spPr>
          <a:xfrm>
            <a:off x="7162920" y="1523880"/>
            <a:ext cx="1981080" cy="1524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7" name="TextBox 18"/>
          <p:cNvSpPr/>
          <p:nvPr/>
        </p:nvSpPr>
        <p:spPr>
          <a:xfrm>
            <a:off x="7419960" y="1928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Showcard Gothic"/>
              </a:rPr>
              <a:t>Objective Function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08" name="Straight Arrow Connector 20"/>
          <p:cNvCxnSpPr>
            <a:stCxn id="307" idx="1"/>
          </p:cNvCxnSpPr>
          <p:nvPr/>
        </p:nvCxnSpPr>
        <p:spPr>
          <a:xfrm flipH="1" flipV="1">
            <a:off x="6857280" y="1980720"/>
            <a:ext cx="562680" cy="270720"/>
          </a:xfrm>
          <a:prstGeom prst="straightConnector1">
            <a:avLst/>
          </a:prstGeom>
          <a:ln w="28440">
            <a:solidFill>
              <a:srgbClr val="008080"/>
            </a:solidFill>
            <a:miter/>
            <a:tailEnd len="med" type="arrow" w="med"/>
          </a:ln>
        </p:spPr>
      </p:cxnSp>
      <p:sp>
        <p:nvSpPr>
          <p:cNvPr id="309" name="TextBox 21"/>
          <p:cNvSpPr/>
          <p:nvPr/>
        </p:nvSpPr>
        <p:spPr>
          <a:xfrm>
            <a:off x="6248520" y="2743200"/>
            <a:ext cx="137160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SUM(J33:J35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391520" cy="5460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ran Example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3276720" y="3048120"/>
            <a:ext cx="187956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14="Yes",B15,0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4" name="Straight Arrow Connector 7"/>
          <p:cNvCxnSpPr/>
          <p:nvPr/>
        </p:nvCxnSpPr>
        <p:spPr>
          <a:xfrm flipH="1" flipV="1">
            <a:off x="2666160" y="2133360"/>
            <a:ext cx="839160" cy="91512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5" name="TextBox 9"/>
          <p:cNvSpPr/>
          <p:nvPr/>
        </p:nvSpPr>
        <p:spPr>
          <a:xfrm>
            <a:off x="5943600" y="3124080"/>
            <a:ext cx="10666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$O$9*F25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6" name="Straight Arrow Connector 11"/>
          <p:cNvCxnSpPr/>
          <p:nvPr/>
        </p:nvCxnSpPr>
        <p:spPr>
          <a:xfrm flipH="1">
            <a:off x="4876200" y="3351600"/>
            <a:ext cx="1067400" cy="76284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7" name="TextBox 16"/>
          <p:cNvSpPr/>
          <p:nvPr/>
        </p:nvSpPr>
        <p:spPr>
          <a:xfrm>
            <a:off x="3429000" y="4876920"/>
            <a:ext cx="167652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C24*$C$8*$S$10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8" name="Straight Arrow Connector 17"/>
          <p:cNvCxnSpPr/>
          <p:nvPr/>
        </p:nvCxnSpPr>
        <p:spPr>
          <a:xfrm flipH="1">
            <a:off x="3276000" y="5181480"/>
            <a:ext cx="610200" cy="45792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9" name="TextBox 20"/>
          <p:cNvSpPr/>
          <p:nvPr/>
        </p:nvSpPr>
        <p:spPr>
          <a:xfrm>
            <a:off x="3200400" y="6248520"/>
            <a:ext cx="51814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SUM(G42:G44)+F46-$J$12&lt;=0,0,SUM(G42:G45)+F46-$J$12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ran</a:t>
            </a:r>
            <a:r>
              <a:rPr b="0" lang="en-US" sz="36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622440" y="1523880"/>
            <a:ext cx="6583320" cy="1595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2438280" y="3733920"/>
            <a:ext cx="3895920" cy="213336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 flipV="1" rot="8935800">
            <a:off x="7315200" y="2132280"/>
            <a:ext cx="12952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25" name="AutoShape 8"/>
          <p:cNvSpPr/>
          <p:nvPr/>
        </p:nvSpPr>
        <p:spPr>
          <a:xfrm flipV="1" rot="8935800">
            <a:off x="6477120" y="3884760"/>
            <a:ext cx="12952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bout Damodaran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09080" cy="16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3276720" cy="1795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http://www.rediff.com/us/aswathdamodaran_top50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4432320"/>
            <a:ext cx="2438280" cy="17906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8"/>
          <p:cNvSpPr/>
          <p:nvPr/>
        </p:nvSpPr>
        <p:spPr>
          <a:xfrm>
            <a:off x="6553080" y="3505320"/>
            <a:ext cx="190512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50505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2"/>
          <p:cNvSpPr/>
          <p:nvPr/>
        </p:nvSpPr>
        <p:spPr>
          <a:xfrm>
            <a:off x="1371600" y="99072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33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990720"/>
            <a:ext cx="174600" cy="761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5105520" cy="36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65760" y="795240"/>
            <a:ext cx="838080" cy="192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3"/>
          <p:cNvSpPr/>
          <p:nvPr/>
        </p:nvSpPr>
        <p:spPr>
          <a:xfrm>
            <a:off x="609480" y="762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4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2819520" y="3200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3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5791320" y="5105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2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1295280" y="175248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Assume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Showcard Gothic"/>
              </a:rPr>
              <a:t>$19.95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Of our Debt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And its yours…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41" name="Picture 8" descr="Sterninator Logo"/>
          <p:cNvPicPr/>
          <p:nvPr/>
        </p:nvPicPr>
        <p:blipFill>
          <a:blip r:embed="rId1"/>
          <a:stretch/>
        </p:blipFill>
        <p:spPr>
          <a:xfrm>
            <a:off x="3505320" y="1752480"/>
            <a:ext cx="2030400" cy="2381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tvbuys_as_seen_on_t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63600"/>
            <a:ext cx="1981080" cy="1617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2"/>
          <p:cNvSpPr/>
          <p:nvPr/>
        </p:nvSpPr>
        <p:spPr>
          <a:xfrm rot="19638600">
            <a:off x="1448280" y="220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380880" y="5562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Tom Catherwood. Shauna Ginsberg. MJ Soifer. Nevin Vages. Michelle Westhoefer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2553480" y="6095880"/>
            <a:ext cx="41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DECISION MODELS/QVC. APRIL 27, 2009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46" name="Picture 20" descr="torch"/>
          <p:cNvPicPr/>
          <p:nvPr/>
        </p:nvPicPr>
        <p:blipFill>
          <a:blip r:embed="rId4"/>
          <a:stretch/>
        </p:blipFill>
        <p:spPr>
          <a:xfrm rot="19463400">
            <a:off x="5908680" y="948960"/>
            <a:ext cx="297000" cy="1295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5" descr="torch"/>
          <p:cNvPicPr/>
          <p:nvPr/>
        </p:nvPicPr>
        <p:blipFill>
          <a:blip r:embed="rId5"/>
          <a:stretch/>
        </p:blipFill>
        <p:spPr>
          <a:xfrm rot="3172200">
            <a:off x="5500080" y="316440"/>
            <a:ext cx="277560" cy="1324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3"/>
          <p:cNvSpPr/>
          <p:nvPr/>
        </p:nvSpPr>
        <p:spPr>
          <a:xfrm>
            <a:off x="228600" y="4381560"/>
            <a:ext cx="8610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radley Hand ITC"/>
              </a:rPr>
              <a:t>Downtown. Down to Earth. Down for BiznASS.</a:t>
            </a:r>
            <a:endParaRPr b="0" lang="en-US" sz="33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his happened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Picture 4" descr="drunk%20salaryman"/>
          <p:cNvPicPr/>
          <p:nvPr/>
        </p:nvPicPr>
        <p:blipFill>
          <a:blip r:embed="rId1"/>
          <a:stretch/>
        </p:blipFill>
        <p:spPr>
          <a:xfrm>
            <a:off x="137160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th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Picture 4" descr="drunk pic"/>
          <p:cNvPicPr/>
          <p:nvPr/>
        </p:nvPicPr>
        <p:blipFill>
          <a:blip r:embed="rId1"/>
          <a:stretch/>
        </p:blipFill>
        <p:spPr>
          <a:xfrm>
            <a:off x="1676520" y="1600200"/>
            <a:ext cx="5778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th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Picture 4" descr="empty_wallet_2"/>
          <p:cNvPicPr/>
          <p:nvPr/>
        </p:nvPicPr>
        <p:blipFill>
          <a:blip r:embed="rId1"/>
          <a:stretch/>
        </p:blipFill>
        <p:spPr>
          <a:xfrm>
            <a:off x="2209680" y="1905120"/>
            <a:ext cx="4419720" cy="33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avoid these situations, we proudly present to you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371600" y="190512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93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828800"/>
            <a:ext cx="17460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2057400" y="2654280"/>
            <a:ext cx="5105520" cy="362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65760" y="1633680"/>
            <a:ext cx="83808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Alcohol Content (BAC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Picture 1467" descr=""/>
          <p:cNvPicPr/>
          <p:nvPr/>
        </p:nvPicPr>
        <p:blipFill>
          <a:blip r:embed="rId1"/>
          <a:stretch/>
        </p:blipFill>
        <p:spPr>
          <a:xfrm>
            <a:off x="90360" y="2133720"/>
            <a:ext cx="8977320" cy="4114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0" y="1054080"/>
            <a:ext cx="88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ric of intoxication 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od alcohol level is dependent on body weight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rt of various BAC that corresponds to body weight and number of drinks consumed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Alcohol Cont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52480" y="1168560"/>
          <a:ext cx="5639040" cy="5078160"/>
        </p:xfrm>
        <a:graphic>
          <a:graphicData uri="http://schemas.openxmlformats.org/drawingml/2006/table">
            <a:tbl>
              <a:tblPr/>
              <a:tblGrid>
                <a:gridCol w="1143000"/>
                <a:gridCol w="2210040"/>
                <a:gridCol w="2286000"/>
              </a:tblGrid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Feelings &amp; Personality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&amp; Mental Impair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01-0.06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nse of Well-be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s of Inhibi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wered Alert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Joyou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Though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Judg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Coordina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Concentra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06-0.10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lunted Feeling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isinhibi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Extrover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Impaired Sexual Pleasur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flexes Impaired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ason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pth Percep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istance Acuity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Peripheral Vi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11-0.20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Over-Expres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Emotional Swing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Angry or Sad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oisterou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action Tim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Gross Motor Control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tagger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lurred Speech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21-0.29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tupor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e Understand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Impaired Sensation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vere Motor Impair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s of 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Memory Blackou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30-0.39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vere Depres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Un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ath Possibl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ladder Func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reath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40-?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Un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ath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reath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cohol Dissip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ipation Rate/Hour = 0.016 * 60/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Toasting.jpg"/>
          <p:cNvPicPr/>
          <p:nvPr/>
        </p:nvPicPr>
        <p:blipFill>
          <a:blip r:embed="rId1"/>
          <a:stretch/>
        </p:blipFill>
        <p:spPr>
          <a:xfrm>
            <a:off x="228600" y="4729320"/>
            <a:ext cx="1365120" cy="171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beer-mug.jpg"/>
          <p:cNvPicPr/>
          <p:nvPr/>
        </p:nvPicPr>
        <p:blipFill>
          <a:blip r:embed="rId2"/>
          <a:srcRect l="0" t="0" r="0" b="4429"/>
          <a:stretch/>
        </p:blipFill>
        <p:spPr>
          <a:xfrm>
            <a:off x="7273800" y="4724280"/>
            <a:ext cx="1557360" cy="171936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6"/>
          <p:cNvCxnSpPr>
            <a:stCxn id="206" idx="2"/>
          </p:cNvCxnSpPr>
          <p:nvPr/>
        </p:nvCxnSpPr>
        <p:spPr>
          <a:xfrm>
            <a:off x="7429320" y="1631880"/>
            <a:ext cx="572040" cy="8071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207" name="Straight Arrow Connector 7"/>
          <p:cNvCxnSpPr/>
          <p:nvPr/>
        </p:nvCxnSpPr>
        <p:spPr>
          <a:xfrm flipV="1">
            <a:off x="6476760" y="3077640"/>
            <a:ext cx="881640" cy="7027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208" name="Straight Arrow Connector 11"/>
          <p:cNvCxnSpPr/>
          <p:nvPr/>
        </p:nvCxnSpPr>
        <p:spPr>
          <a:xfrm>
            <a:off x="5307120" y="1736280"/>
            <a:ext cx="713520" cy="7261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pic>
        <p:nvPicPr>
          <p:cNvPr id="209" name="Picture 15" descr="cocktails.jpg"/>
          <p:cNvPicPr/>
          <p:nvPr/>
        </p:nvPicPr>
        <p:blipFill>
          <a:blip r:embed="rId3"/>
          <a:stretch/>
        </p:blipFill>
        <p:spPr>
          <a:xfrm>
            <a:off x="3276720" y="4724280"/>
            <a:ext cx="2590560" cy="17193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31240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Average BAC burned off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6019920" y="990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Every 40 minutes a drink can be burned off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457200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60 minutes in an hour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44:14Z</dcterms:created>
  <dc:creator>Tom</dc:creator>
  <dc:description/>
  <dc:language>en-US</dc:language>
  <cp:lastModifiedBy>Shauna</cp:lastModifiedBy>
  <dcterms:modified xsi:type="dcterms:W3CDTF">2009-04-27T14:03:43Z</dcterms:modified>
  <cp:revision>38</cp:revision>
  <dc:subject/>
  <dc:title>The Sterninator</dc:title>
</cp:coreProperties>
</file>