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22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10.wmf" ContentType="image/x-wmf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5.png" ContentType="image/png"/>
  <Override PartName="/ppt/media/image20.wmf" ContentType="image/x-wmf"/>
  <Override PartName="/ppt/media/image26.jpeg" ContentType="image/jpeg"/>
  <Override PartName="/ppt/media/image36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39.png" ContentType="image/png"/>
  <Override PartName="/ppt/media/image5.jpeg" ContentType="image/jpeg"/>
  <Override PartName="/ppt/media/image15.gif" ContentType="image/gif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5B1-3C63-452C-A293-A3ECE3694123}" type="datetime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44B8-3853-449B-9610-41BABE02FA07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F3DF-612D-4BAF-A894-4850B1CFA8C8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231-ACCD-4680-A4A6-3FB96E0DC2DA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8DCA-E814-4983-9A7E-D0D826AE5710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26E2-1489-4513-9781-229B24900DCC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DF20-D9B6-4741-9BD5-35B00AEDED48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A35-91C1-44F6-BEFD-0ED3AACBB337}" type="slidenum">
              <a:rPr b="0" lang="en-US" sz="1200" spc="-1" strike="noStrike">
                <a:solidFill>
                  <a:srgbClr val="1f497d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EBB-2223-4393-AE8C-61C817F1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B99-18C5-444A-9432-16C457C2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7CA-CEBF-4DFC-8745-A64360F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0FE-E26F-48B1-A589-1A8379A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110-41B0-4280-AAEA-21B80D1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70C-CFC3-4F24-BC34-844F9A85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ECC-CFAC-4334-BE09-AE857F3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997-2FDF-4332-B0C3-DE044FD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FC2-A0D1-407E-98D5-63211B0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3FA-A149-44F2-A0FC-CB74A26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3DF-CDF6-48AA-9AF2-FB7004BD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B69-9D3C-401A-A937-FDC658BE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580C-677A-4413-9116-E115809A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BD9E-523C-4237-A68A-78ACD1E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AA9-0D90-442C-93C8-2A3120BA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B01-D15F-430D-8E0B-9B583C77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462-2F9D-486A-BAB0-481FF36D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B2EB-719A-41A6-BB9D-E400053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0C4B-ECF7-4BBC-9DEC-E91E266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4244-7D82-4A05-97D4-8D0F6B8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D1B-DB63-4976-A8D6-1120B0A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D4D2-CE6E-413D-8969-2C3D54AD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5167-4546-4E49-8DCB-B7A56248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704D-A532-42CA-8927-0756FD6D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7883-9AEB-4917-B97B-A1E243EA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8914-02A6-4711-A39F-1003B92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CF48-FCD0-4D9C-8A37-3476A4C2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1E43-18A6-4544-AC32-2BFB9072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ED18-5677-4C9A-8059-0B9ABBC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66C2-66F4-4D84-8433-BCAD34E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738B-73A3-4CF9-BBF3-EED53FD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54841-2C3A-408C-A618-B00E0DB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E453-5BE1-4652-A693-3D492CCC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5BA0-5410-4CBC-993F-83FB0CD0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8FA1-5500-4635-8F96-DFB27276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23F0-8520-4B49-9943-0C98BDAF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9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33C2-A554-40AE-B785-A820BE41D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827-92FF-4D5C-82B1-26133309B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traight Connector 7"/>
          <p:cNvSpPr/>
          <p:nvPr/>
        </p:nvSpPr>
        <p:spPr>
          <a:xfrm>
            <a:off x="0" y="304920"/>
            <a:ext cx="9144000" cy="144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57240">
            <a:solidFill>
              <a:srgbClr val="05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8"/>
          </p:nvPr>
        </p:nvSpPr>
        <p:spPr>
          <a:xfrm>
            <a:off x="2743200" y="6244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C29-917D-43C5-B091-AE9E276B1464}" type="slidenum"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vbuys.org/photos/tvbuys_as_seen_on_tv.jpg&amp;imgrefurl=http://www.tvbuys.org/&amp;usg=__rCNkQSmQjEVZ2sM3cLbOmbm0ZLk=&amp;h=130&amp;w=160&amp;sz=7&amp;hl=en&amp;start=11&amp;um=1&amp;tbnid=d2Z7mzBRyZj0NM:&amp;tbnh=80&amp;tbnw=98&amp;prev=/images?q=as+seen+on+tv+logo&amp;hl=en&amp;rlz=1T4GGIH_enUS235US235&amp;um=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kmoddesigns.com/store/images/Connoisseur%2520Red%2520Wine%2520Glass.jpg&amp;imgrefurl=http://kmoddesigns.com/store/index.php?cPath=35_52&amp;osCsid=0d5607ffc5d529c516d8324861578ace&amp;h=432&amp;w=432&amp;sz=10&amp;tbnid=9RVSQQNxi0EuZM::&amp;tbnh=126&amp;tbnw=126&amp;prev=/images?q=wine+glass+image&amp;hl=en&amp;usg=__B7Kd11ZIHNTA0aOKEGx38ICuSCc=&amp;ei=3nDwSYzWC5WdlAfZqYnbDA&amp;sa=X&amp;oi=image_result&amp;resnum=3&amp;ct=image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www.alcohol-stuff.co.uk/images/extra/mug.JPG&amp;imgrefurl=http://www.alcohol-stuff.co.uk/shop/beer-cooler.html&amp;h=328&amp;w=284&amp;sz=9&amp;tbnid=xZLGwHyXuzrF_M::&amp;tbnh=118&amp;tbnw=102&amp;prev=/images?q=beer+mug+image&amp;hl=en&amp;usg=__JqS8z2G3ACm_R5vak55CcfcKW8Y=&amp;ei=f3HwSayNLZfflQfOxrHXDA&amp;sa=X&amp;oi=image_result&amp;resnum=3&amp;ct=image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hyperlink" Target="http://images.google.com/imgres?imgurl=http://www.blastmedia.com/blogs/mediablast/two%2520thumbs%2520up.jpeg&amp;imgrefurl=http://www.blastmedia.com/blogs/mediablast/2008/12/&amp;usg=__QCMFsaJTHyqEysVB2wTBYBB7fds=&amp;h=447&amp;w=347&amp;sz=22&amp;hl=en&amp;start=11&amp;um=1&amp;tbnid=0-QIQg5JodB1PM:&amp;tbnh=127&amp;tbnw=99&amp;prev=/images?q=thumbs+up+image&amp;hl=en&amp;rlz=1T4GGIH_enUS235US235&amp;um=1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11" Type="http://schemas.openxmlformats.org/officeDocument/2006/relationships/image" Target="../media/image3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wmf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www.alcohol-stuff.co.uk/images/extra/mug.JPG&amp;imgrefurl=http://www.alcohol-stuff.co.uk/shop/beer-cooler.html&amp;h=328&amp;w=284&amp;sz=9&amp;tbnid=xZLGwHyXuzrF_M::&amp;tbnh=118&amp;tbnw=102&amp;prev=/images?q=beer+mug+image&amp;hl=en&amp;usg=__JqS8z2G3ACm_R5vak55CcfcKW8Y=&amp;ei=f3HwSayNLZfflQfOxrHXDA&amp;sa=X&amp;oi=image_result&amp;resnum=3&amp;ct=image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www.google.com/imgres?imgurl=http://kmoddesigns.com/store/images/Connoisseur%2520Red%2520Wine%2520Glass.jpg&amp;imgrefurl=http://kmoddesigns.com/store/index.php?cPath=35_52&amp;osCsid=0d5607ffc5d529c516d8324861578ace&amp;h=432&amp;w=432&amp;sz=10&amp;tbnid=9RVSQQNxi0EuZM::&amp;tbnh=126&amp;tbnw=126&amp;prev=/images?q=wine+glass+image&amp;hl=en&amp;usg=__B7Kd11ZIHNTA0aOKEGx38ICuSCc=&amp;ei=3nDwSYzWC5WdlAfZqYnbDA&amp;sa=X&amp;oi=image_result&amp;resnum=3&amp;ct=image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hyperlink" Target="http://www.google.com/imgres?imgurl=http://im.rediff.com/us/pix/aswath_damodaran.jpg&amp;imgrefurl=http://www.rediff.com/us/aswathdamodaran_top50.html&amp;h=294&amp;w=400&amp;sz=24&amp;tbnid=oAxm9-qFx1XqKM::&amp;tbnh=91&amp;tbnw=124&amp;prev=/images?q=aswath+damodaran+image&amp;usg=__al0a3ekD2HY80jBHB1R_f2MVyew=&amp;ei=umPySdqIKpvmlQfhxITDDA&amp;sa=X&amp;oi=image_result&amp;resnum=1&amp;ct=image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vbuys.org/photos/tvbuys_as_seen_on_tv.jpg&amp;imgrefurl=http://www.tvbuys.org/&amp;usg=__rCNkQSmQjEVZ2sM3cLbOmbm0ZLk=&amp;h=130&amp;w=160&amp;sz=7&amp;hl=en&amp;start=11&amp;um=1&amp;tbnid=d2Z7mzBRyZj0NM:&amp;tbnh=80&amp;tbnw=98&amp;prev=/images?q=as+seen+on+tv+logo&amp;hl=en&amp;rlz=1T4GGIH_enUS235US235&amp;um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hyperlink" Target="http://images.google.com/imgres?imgurl=http://homepages.nyu.edu/~cww213/cg_fall03/torch.gif&amp;imgrefurl=http://homepages.nyu.edu/~cww213/cg_fall03/nyu.html&amp;usg=__amkosOjT6isQUhr4gbwTB03JZTs=&amp;h=70&amp;w=44&amp;sz=2&amp;hl=en&amp;start=6&amp;um=1&amp;tbnid=UIoki0oilpmpuM:&amp;tbnh=68&amp;tbnw=43&amp;prev=/images?q=nyu+stern+torch+image&amp;hl=en&amp;rlz=1T4GGIH_enUS235US235&amp;um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71" name="Picture 8" descr="Sterninator Logo"/>
          <p:cNvPicPr/>
          <p:nvPr/>
        </p:nvPicPr>
        <p:blipFill>
          <a:blip r:embed="rId1"/>
          <a:stretch/>
        </p:blipFill>
        <p:spPr>
          <a:xfrm>
            <a:off x="3505320" y="1752480"/>
            <a:ext cx="2030400" cy="238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tvbuys_as_seen_on_t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63600"/>
            <a:ext cx="1981080" cy="1617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 rot="19638600">
            <a:off x="1448280" y="220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28600" y="4381560"/>
            <a:ext cx="8610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radley Hand ITC"/>
              </a:rPr>
              <a:t>Downtown. Down to Earth. Down for BiznASS.</a:t>
            </a:r>
            <a:endParaRPr b="0" lang="en-US" sz="33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80880" y="5562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Tom Catherwood. Shauna Ginsberg. MJ Soifer. Nevin Vages. Michelle Westhoefer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2553480" y="6095880"/>
            <a:ext cx="41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DECISION MODELS/QVC. APRIL 27, 2009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77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 rot="19463400">
            <a:off x="5908680" y="948960"/>
            <a:ext cx="29700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torch">
            <a:hlinkClick r:id="rId6"/>
          </p:cNvPr>
          <p:cNvPicPr/>
          <p:nvPr/>
        </p:nvPicPr>
        <p:blipFill>
          <a:blip r:embed="rId7"/>
          <a:stretch/>
        </p:blipFill>
        <p:spPr>
          <a:xfrm rot="3172200">
            <a:off x="5500080" y="316440"/>
            <a:ext cx="2775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millionaire-big-pile-of-cash.gif"/>
          <p:cNvPicPr/>
          <p:nvPr/>
        </p:nvPicPr>
        <p:blipFill>
          <a:blip r:embed="rId1"/>
          <a:stretch/>
        </p:blipFill>
        <p:spPr>
          <a:xfrm>
            <a:off x="631800" y="498600"/>
            <a:ext cx="7597800" cy="6097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h Money… all drinks are not created equal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4572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34290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400800" y="13716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Showcard Gothic"/>
              </a:rPr>
              <a:t>$$$</a:t>
            </a:r>
            <a:endParaRPr b="0" lang="en-US" sz="8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17" name="Picture 7" descr="Beer-Bottle-Flashing-pin-19070418913.gif"/>
          <p:cNvPicPr/>
          <p:nvPr/>
        </p:nvPicPr>
        <p:blipFill>
          <a:blip r:embed="rId2"/>
          <a:stretch/>
        </p:blipFill>
        <p:spPr>
          <a:xfrm>
            <a:off x="1066680" y="2816280"/>
            <a:ext cx="685800" cy="251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Red_Wine_Glas.jpg"/>
          <p:cNvPicPr/>
          <p:nvPr/>
        </p:nvPicPr>
        <p:blipFill>
          <a:blip r:embed="rId3"/>
          <a:stretch/>
        </p:blipFill>
        <p:spPr>
          <a:xfrm>
            <a:off x="3809880" y="2836800"/>
            <a:ext cx="1295640" cy="2421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top_invisible.jpg"/>
          <p:cNvPicPr/>
          <p:nvPr/>
        </p:nvPicPr>
        <p:blipFill>
          <a:blip r:embed="rId4"/>
          <a:srcRect l="16415" t="0" r="9702" b="2990"/>
          <a:stretch/>
        </p:blipFill>
        <p:spPr>
          <a:xfrm>
            <a:off x="6934320" y="3228840"/>
            <a:ext cx="1295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created a model that allows the user to create a custom drinking schedule for any event or occa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lurred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red wine stains on your dress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oliciting of corporate recru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371600" y="60948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22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21440" y="576360"/>
            <a:ext cx="17460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80880"/>
            <a:ext cx="838080" cy="192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8"/>
          <p:cNvSpPr/>
          <p:nvPr/>
        </p:nvSpPr>
        <p:spPr>
          <a:xfrm rot="19997400">
            <a:off x="1282680" y="4965840"/>
            <a:ext cx="838080" cy="11430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9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Decision Variable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many beers, glasses of wine, and cocktails can YOU consume, and in which hours can YOU consume them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http://kmoddesigns.com/store/index.php?cPath=35_52&amp;osCsid=0d5607ffc5d529c516d8324861578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55800" y="5423040"/>
            <a:ext cx="835200" cy="9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http://www.alcohol-stuff.co.uk/shop/beer-cooler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435640"/>
            <a:ext cx="839880" cy="971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30" descr=""/>
          <p:cNvPicPr/>
          <p:nvPr/>
        </p:nvPicPr>
        <p:blipFill>
          <a:blip r:embed="rId5"/>
          <a:stretch/>
        </p:blipFill>
        <p:spPr>
          <a:xfrm>
            <a:off x="241200" y="3251160"/>
            <a:ext cx="8686800" cy="14414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31"/>
          <p:cNvSpPr/>
          <p:nvPr/>
        </p:nvSpPr>
        <p:spPr>
          <a:xfrm>
            <a:off x="1104840" y="566424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2" name="Text Box 332"/>
          <p:cNvSpPr/>
          <p:nvPr/>
        </p:nvSpPr>
        <p:spPr>
          <a:xfrm>
            <a:off x="1625760" y="5486400"/>
            <a:ext cx="53316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3" name="Text Box 333"/>
          <p:cNvSpPr/>
          <p:nvPr/>
        </p:nvSpPr>
        <p:spPr>
          <a:xfrm>
            <a:off x="2146320" y="542448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4" name="Text Box 339"/>
          <p:cNvSpPr/>
          <p:nvPr/>
        </p:nvSpPr>
        <p:spPr>
          <a:xfrm>
            <a:off x="367020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5" name="Text Box 340"/>
          <p:cNvSpPr/>
          <p:nvPr/>
        </p:nvSpPr>
        <p:spPr>
          <a:xfrm>
            <a:off x="622296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6" name="Text Box 341"/>
          <p:cNvSpPr/>
          <p:nvPr/>
        </p:nvSpPr>
        <p:spPr>
          <a:xfrm>
            <a:off x="6730920" y="5486400"/>
            <a:ext cx="53352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7" name="Text Box 342"/>
          <p:cNvSpPr/>
          <p:nvPr/>
        </p:nvSpPr>
        <p:spPr>
          <a:xfrm>
            <a:off x="4229280" y="5486400"/>
            <a:ext cx="533160" cy="794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iral"/>
              </a:rPr>
              <a:t>?</a:t>
            </a:r>
            <a:endParaRPr b="0" lang="en-US" sz="4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8" name="Text Box 343"/>
          <p:cNvSpPr/>
          <p:nvPr/>
        </p:nvSpPr>
        <p:spPr>
          <a:xfrm>
            <a:off x="4749840" y="541008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39" name="Text Box 344"/>
          <p:cNvSpPr/>
          <p:nvPr/>
        </p:nvSpPr>
        <p:spPr>
          <a:xfrm>
            <a:off x="7327800" y="563868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40" name="Picture 346" descr="two%2520thumbs%2520u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96080" y="4876920"/>
            <a:ext cx="1239840" cy="1590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51" descr="torch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695760" y="380880"/>
            <a:ext cx="762120" cy="139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52" descr="to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62520" y="520560"/>
            <a:ext cx="177840" cy="838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top_invisible.jpg"/>
          <p:cNvPicPr/>
          <p:nvPr/>
        </p:nvPicPr>
        <p:blipFill>
          <a:blip r:embed="rId12"/>
          <a:srcRect l="16415" t="0" r="9702" b="2990"/>
          <a:stretch/>
        </p:blipFill>
        <p:spPr>
          <a:xfrm>
            <a:off x="5410080" y="5435640"/>
            <a:ext cx="754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Objective Function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objective of the STERNINATOR is to avoid                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IMIZING TOTAL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549440" y="323856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6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1562040" y="435600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9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549440" y="5537160"/>
            <a:ext cx="99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$13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1219320" y="5562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219320" y="3276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1219320" y="4419720"/>
            <a:ext cx="4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4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53" name="Picture 37" descr="empty_wallet_2"/>
          <p:cNvPicPr/>
          <p:nvPr/>
        </p:nvPicPr>
        <p:blipFill>
          <a:blip r:embed="rId1"/>
          <a:stretch/>
        </p:blipFill>
        <p:spPr>
          <a:xfrm>
            <a:off x="2374920" y="2133720"/>
            <a:ext cx="1600200" cy="119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4" name="Picture 38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5791320" cy="11988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9"/>
          <p:cNvSpPr/>
          <p:nvPr/>
        </p:nvSpPr>
        <p:spPr>
          <a:xfrm rot="5400000">
            <a:off x="5790960" y="3047760"/>
            <a:ext cx="1523880" cy="9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56" name="Picture 18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95760" y="380880"/>
            <a:ext cx="762120" cy="139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9" descr="tor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495360"/>
            <a:ext cx="17748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http://www.alcohol-stuff.co.uk/shop/beer-cooler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048120"/>
            <a:ext cx="839880" cy="971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4" descr="http://kmoddesigns.com/store/index.php?cPath=35_52&amp;osCsid=0d5607ffc5d529c516d8324861578ac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4191120"/>
            <a:ext cx="835200" cy="99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top_invisible.jpg"/>
          <p:cNvPicPr/>
          <p:nvPr/>
        </p:nvPicPr>
        <p:blipFill>
          <a:blip r:embed="rId11"/>
          <a:srcRect l="16415" t="0" r="9702" b="2990"/>
          <a:stretch/>
        </p:blipFill>
        <p:spPr>
          <a:xfrm>
            <a:off x="254160" y="5359320"/>
            <a:ext cx="75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Constraints</a:t>
            </a:r>
            <a:endParaRPr b="0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3" name="Picture 3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65560" y="406440"/>
            <a:ext cx="762120" cy="127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533520"/>
            <a:ext cx="203040" cy="838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9680" y="1752480"/>
            <a:ext cx="71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TERNINATOR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nimizes Co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but still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ximizes Fu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via 7 Easy T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TOTAL BAC &lt;= BAC UPP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TOTAL BAC &gt;= BAC LOW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DECISION VARIABLES = INTEG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TOTAL BAC (for each hour drinking) &lt;= BAC UPPER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for the Real Fu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TOTAL  COCKTAILS  CONSUMED &gt;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) TOTAL GLASSES OF WINE CONSUMED &gt;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) TOTAL BEERS CONSUMED &gt;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3" descr="Michelle"/>
          <p:cNvPicPr/>
          <p:nvPr/>
        </p:nvPicPr>
        <p:blipFill>
          <a:blip r:embed="rId5"/>
          <a:stretch/>
        </p:blipFill>
        <p:spPr>
          <a:xfrm>
            <a:off x="8191440" y="-126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Nevin"/>
          <p:cNvPicPr/>
          <p:nvPr/>
        </p:nvPicPr>
        <p:blipFill>
          <a:blip r:embed="rId6"/>
          <a:stretch/>
        </p:blipFill>
        <p:spPr>
          <a:xfrm>
            <a:off x="8193240" y="1371600"/>
            <a:ext cx="10141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MJ"/>
          <p:cNvPicPr/>
          <p:nvPr/>
        </p:nvPicPr>
        <p:blipFill>
          <a:blip r:embed="rId7"/>
          <a:stretch/>
        </p:blipFill>
        <p:spPr>
          <a:xfrm>
            <a:off x="8180280" y="2882880"/>
            <a:ext cx="102708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Tom"/>
          <p:cNvPicPr/>
          <p:nvPr/>
        </p:nvPicPr>
        <p:blipFill>
          <a:blip r:embed="rId8"/>
          <a:stretch/>
        </p:blipFill>
        <p:spPr>
          <a:xfrm>
            <a:off x="8178840" y="426708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0" descr="drinking before wedding"/>
          <p:cNvPicPr/>
          <p:nvPr/>
        </p:nvPicPr>
        <p:blipFill>
          <a:blip r:embed="rId9"/>
          <a:stretch/>
        </p:blipFill>
        <p:spPr>
          <a:xfrm>
            <a:off x="8194680" y="5651640"/>
            <a:ext cx="1012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33520" y="5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THE STERNINA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50505"/>
                </a:solidFill>
                <a:latin typeface="Rockwell Extra Bold"/>
              </a:rPr>
              <a:t>OR</a:t>
            </a:r>
            <a:r>
              <a:rPr b="0" lang="en-US" sz="30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 The Model</a:t>
            </a:r>
            <a:endParaRPr b="0" lang="en-US" sz="3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73" name="Picture 18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560" y="152280"/>
            <a:ext cx="914400" cy="22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9" descr="to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80880"/>
            <a:ext cx="22860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5"/>
          <a:stretch/>
        </p:blipFill>
        <p:spPr>
          <a:xfrm>
            <a:off x="2819520" y="1295280"/>
            <a:ext cx="59436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Right Arrow 15"/>
          <p:cNvSpPr/>
          <p:nvPr/>
        </p:nvSpPr>
        <p:spPr>
          <a:xfrm>
            <a:off x="304920" y="137160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7" name="Right Arrow 16"/>
          <p:cNvSpPr/>
          <p:nvPr/>
        </p:nvSpPr>
        <p:spPr>
          <a:xfrm>
            <a:off x="304920" y="419112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8" name="Right Arrow 17"/>
          <p:cNvSpPr/>
          <p:nvPr/>
        </p:nvSpPr>
        <p:spPr>
          <a:xfrm>
            <a:off x="304920" y="556272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79" name="Right Arrow 18"/>
          <p:cNvSpPr/>
          <p:nvPr/>
        </p:nvSpPr>
        <p:spPr>
          <a:xfrm>
            <a:off x="304920" y="2766960"/>
            <a:ext cx="2209680" cy="11430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0" name="TextBox 19"/>
          <p:cNvSpPr/>
          <p:nvPr/>
        </p:nvSpPr>
        <p:spPr>
          <a:xfrm>
            <a:off x="38088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Inputs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380880" y="5943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BAC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279360" y="3135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Decision VaR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83" name="TextBox 22"/>
          <p:cNvSpPr/>
          <p:nvPr/>
        </p:nvSpPr>
        <p:spPr>
          <a:xfrm>
            <a:off x="380880" y="4572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Showcard Gothic"/>
              </a:rPr>
              <a:t>Cost</a:t>
            </a:r>
            <a:endParaRPr b="0" lang="en-US" sz="2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Dat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743200" y="624528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13640" cy="1947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736560" y="3124080"/>
            <a:ext cx="76993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Cheerleader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39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Kicker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38880" cy="390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Quarterback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162920" cy="386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181480" y="4800240"/>
            <a:ext cx="2895840" cy="106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JOB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10080" cy="122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Rectangle 12"/>
          <p:cNvSpPr/>
          <p:nvPr/>
        </p:nvSpPr>
        <p:spPr>
          <a:xfrm>
            <a:off x="3124080" y="4495680"/>
            <a:ext cx="5791320" cy="10670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NETWORK</a:t>
            </a:r>
            <a:endParaRPr b="0" lang="en-US" sz="6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2895480" y="1828800"/>
            <a:ext cx="2819520" cy="2514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276720" y="4648320"/>
            <a:ext cx="5790960" cy="106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lephant"/>
              </a:rPr>
              <a:t>DRINKING</a:t>
            </a:r>
            <a:endParaRPr b="0" lang="en-US" sz="6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84" name="Picture 16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5410080" cy="122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3334 -0.63333 E">
                                      <p:cBhvr>
                                        <p:cTn id="2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3334 -0.63333 E">
                                      <p:cBhvr>
                                        <p:cTn id="2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0834 -0.58889 E">
                                      <p:cBhvr>
                                        <p:cTn id="4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5 -0.61111 E">
                                      <p:cBhvr>
                                        <p:cTn id="5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Variables – Linem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295280" y="1768320"/>
            <a:ext cx="6934320" cy="376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it 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ran Examp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609480" y="1384200"/>
            <a:ext cx="8153640" cy="51516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4068720" y="3379680"/>
            <a:ext cx="2789280" cy="459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VLOOKUP(G8,Sheet2!B:N,2,FALSE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4064040" y="4049640"/>
            <a:ext cx="46990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5=Q2,0.4,IF(B5=Q3,0.3,IF(B5=Q4,0.23,IF(B5=Q5,0.17,0)))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4064040" y="4368960"/>
            <a:ext cx="12700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0.016*(60/40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4067280" y="3733920"/>
            <a:ext cx="469584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5=Q2,0.3,IF(B5=Q3,0.2,IF(B5=Q4,0.13,IF(B5=Q5,0.07,0))))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572000" y="6019920"/>
            <a:ext cx="236232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IF($B$4-C13&gt;=0,"Yes","No"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04" name="Straight Arrow Connector 11"/>
          <p:cNvCxnSpPr/>
          <p:nvPr/>
        </p:nvCxnSpPr>
        <p:spPr>
          <a:xfrm flipH="1" flipV="1">
            <a:off x="3885840" y="5257440"/>
            <a:ext cx="838800" cy="83880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05" name="Explosion 1 15"/>
          <p:cNvSpPr/>
          <p:nvPr/>
        </p:nvSpPr>
        <p:spPr>
          <a:xfrm>
            <a:off x="6248520" y="1600200"/>
            <a:ext cx="1371600" cy="15238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6" name="7-Point Star 17"/>
          <p:cNvSpPr/>
          <p:nvPr/>
        </p:nvSpPr>
        <p:spPr>
          <a:xfrm>
            <a:off x="7162920" y="1523880"/>
            <a:ext cx="1981080" cy="1524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07" name="TextBox 18"/>
          <p:cNvSpPr/>
          <p:nvPr/>
        </p:nvSpPr>
        <p:spPr>
          <a:xfrm>
            <a:off x="7419960" y="1928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Showcard Gothic"/>
              </a:rPr>
              <a:t>Objective Function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08" name="Straight Arrow Connector 20"/>
          <p:cNvCxnSpPr>
            <a:stCxn id="307" idx="1"/>
          </p:cNvCxnSpPr>
          <p:nvPr/>
        </p:nvCxnSpPr>
        <p:spPr>
          <a:xfrm flipH="1" flipV="1">
            <a:off x="6857280" y="1980720"/>
            <a:ext cx="562680" cy="270720"/>
          </a:xfrm>
          <a:prstGeom prst="straightConnector1">
            <a:avLst/>
          </a:prstGeom>
          <a:ln w="28440">
            <a:solidFill>
              <a:srgbClr val="008080"/>
            </a:solidFill>
            <a:miter/>
            <a:tailEnd len="med" type="arrow" w="med"/>
          </a:ln>
        </p:spPr>
      </p:cxnSp>
      <p:sp>
        <p:nvSpPr>
          <p:cNvPr id="309" name="TextBox 21"/>
          <p:cNvSpPr/>
          <p:nvPr/>
        </p:nvSpPr>
        <p:spPr>
          <a:xfrm>
            <a:off x="6248520" y="2743200"/>
            <a:ext cx="137160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SUM(J33:J35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914400" y="1262160"/>
            <a:ext cx="7391520" cy="5460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ran Example</a:t>
            </a:r>
            <a:br>
              <a:rPr sz="3600"/>
            </a:b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3276720" y="3048120"/>
            <a:ext cx="187956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B14="Yes",B15,0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4" name="Straight Arrow Connector 7"/>
          <p:cNvCxnSpPr/>
          <p:nvPr/>
        </p:nvCxnSpPr>
        <p:spPr>
          <a:xfrm flipH="1" flipV="1">
            <a:off x="2666160" y="2133360"/>
            <a:ext cx="839160" cy="91512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5" name="TextBox 9"/>
          <p:cNvSpPr/>
          <p:nvPr/>
        </p:nvSpPr>
        <p:spPr>
          <a:xfrm>
            <a:off x="5943600" y="3124080"/>
            <a:ext cx="10666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$O$9*F25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6" name="Straight Arrow Connector 11"/>
          <p:cNvCxnSpPr/>
          <p:nvPr/>
        </p:nvCxnSpPr>
        <p:spPr>
          <a:xfrm flipH="1">
            <a:off x="4876200" y="3351600"/>
            <a:ext cx="1067400" cy="76284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7" name="TextBox 16"/>
          <p:cNvSpPr/>
          <p:nvPr/>
        </p:nvSpPr>
        <p:spPr>
          <a:xfrm>
            <a:off x="3429000" y="4876920"/>
            <a:ext cx="167652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C24*$C$8*$S$10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  <p:cxnSp>
        <p:nvCxnSpPr>
          <p:cNvPr id="318" name="Straight Arrow Connector 17"/>
          <p:cNvCxnSpPr/>
          <p:nvPr/>
        </p:nvCxnSpPr>
        <p:spPr>
          <a:xfrm flipH="1">
            <a:off x="3276000" y="5181480"/>
            <a:ext cx="610200" cy="457920"/>
          </a:xfrm>
          <a:prstGeom prst="straightConnector1">
            <a:avLst/>
          </a:prstGeom>
          <a:ln w="28440">
            <a:solidFill>
              <a:srgbClr val="005a58"/>
            </a:solidFill>
            <a:miter/>
            <a:tailEnd len="med" type="arrow" w="med"/>
          </a:ln>
        </p:spPr>
      </p:cxnSp>
      <p:sp>
        <p:nvSpPr>
          <p:cNvPr id="319" name="TextBox 20"/>
          <p:cNvSpPr/>
          <p:nvPr/>
        </p:nvSpPr>
        <p:spPr>
          <a:xfrm>
            <a:off x="3200400" y="6248520"/>
            <a:ext cx="5181480" cy="276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IF(SUM(G42:G44)+F46-$J$12&lt;=0,0,SUM(G42:G45)+F46-$J$12)</a:t>
            </a:r>
            <a:endParaRPr b="0" lang="en-US" sz="12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ran</a:t>
            </a:r>
            <a:r>
              <a:rPr b="0" lang="en-US" sz="36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622440" y="1523880"/>
            <a:ext cx="6583320" cy="1595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2"/>
          <a:stretch/>
        </p:blipFill>
        <p:spPr>
          <a:xfrm>
            <a:off x="2438280" y="3733920"/>
            <a:ext cx="3895920" cy="213336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 flipV="1" rot="8935800">
            <a:off x="7315200" y="2132280"/>
            <a:ext cx="12952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25" name="AutoShape 8"/>
          <p:cNvSpPr/>
          <p:nvPr/>
        </p:nvSpPr>
        <p:spPr>
          <a:xfrm flipV="1" rot="8935800">
            <a:off x="6477120" y="3884760"/>
            <a:ext cx="1295280" cy="80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bout Damodaran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09080" cy="16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3276720" cy="1795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http://www.rediff.com/us/aswathdamodaran_top50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4432320"/>
            <a:ext cx="2438280" cy="17906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8"/>
          <p:cNvSpPr/>
          <p:nvPr/>
        </p:nvSpPr>
        <p:spPr>
          <a:xfrm>
            <a:off x="6553080" y="3505320"/>
            <a:ext cx="190512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50505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2"/>
          <p:cNvSpPr/>
          <p:nvPr/>
        </p:nvSpPr>
        <p:spPr>
          <a:xfrm>
            <a:off x="1371600" y="99072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33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990720"/>
            <a:ext cx="174600" cy="761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5105520" cy="3625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65760" y="795240"/>
            <a:ext cx="838080" cy="192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3"/>
          <p:cNvSpPr/>
          <p:nvPr/>
        </p:nvSpPr>
        <p:spPr>
          <a:xfrm>
            <a:off x="609480" y="762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4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2819520" y="32004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3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5791320" y="5105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Showcard Gothic"/>
              </a:rPr>
              <a:t>$29.95</a:t>
            </a:r>
            <a:endParaRPr b="0" lang="en-US" sz="72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1295280" y="1752480"/>
            <a:ext cx="6705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Assume 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Showcard Gothic"/>
              </a:rPr>
              <a:t>$19.95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Of our Debt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And its yours…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Showcard Gothic"/>
              </a:rPr>
              <a:t>.</a:t>
            </a:r>
            <a:endParaRPr b="0" lang="en-US" sz="6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41" name="Picture 8" descr="Sterninator Logo"/>
          <p:cNvPicPr/>
          <p:nvPr/>
        </p:nvPicPr>
        <p:blipFill>
          <a:blip r:embed="rId1"/>
          <a:stretch/>
        </p:blipFill>
        <p:spPr>
          <a:xfrm>
            <a:off x="3505320" y="1752480"/>
            <a:ext cx="2030400" cy="2381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tvbuys_as_seen_on_t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63600"/>
            <a:ext cx="1981080" cy="1617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2"/>
          <p:cNvSpPr/>
          <p:nvPr/>
        </p:nvSpPr>
        <p:spPr>
          <a:xfrm rot="19638600">
            <a:off x="1448280" y="220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380880" y="5562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Tom Catherwood. Shauna Ginsberg. MJ Soifer. Nevin Vages. Michelle Westhoefer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2553480" y="6095880"/>
            <a:ext cx="41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</a:rPr>
              <a:t>DECISION MODELS/QVC. APRIL 27, 2009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346" name="Picture 20" descr="torch"/>
          <p:cNvPicPr/>
          <p:nvPr/>
        </p:nvPicPr>
        <p:blipFill>
          <a:blip r:embed="rId4"/>
          <a:stretch/>
        </p:blipFill>
        <p:spPr>
          <a:xfrm rot="19463400">
            <a:off x="5908680" y="948960"/>
            <a:ext cx="297000" cy="1295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5" descr="torch"/>
          <p:cNvPicPr/>
          <p:nvPr/>
        </p:nvPicPr>
        <p:blipFill>
          <a:blip r:embed="rId5"/>
          <a:stretch/>
        </p:blipFill>
        <p:spPr>
          <a:xfrm rot="3172200">
            <a:off x="5500080" y="316440"/>
            <a:ext cx="277560" cy="1324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3"/>
          <p:cNvSpPr/>
          <p:nvPr/>
        </p:nvSpPr>
        <p:spPr>
          <a:xfrm>
            <a:off x="228600" y="4381560"/>
            <a:ext cx="8610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Bradley Hand ITC"/>
              </a:rPr>
              <a:t>Downtown. Down to Earth. Down for BiznASS.</a:t>
            </a:r>
            <a:endParaRPr b="0" lang="en-US" sz="33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his happened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Picture 4" descr="drunk%20salaryman"/>
          <p:cNvPicPr/>
          <p:nvPr/>
        </p:nvPicPr>
        <p:blipFill>
          <a:blip r:embed="rId1"/>
          <a:stretch/>
        </p:blipFill>
        <p:spPr>
          <a:xfrm>
            <a:off x="137160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th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Picture 4" descr="drunk pic"/>
          <p:cNvPicPr/>
          <p:nvPr/>
        </p:nvPicPr>
        <p:blipFill>
          <a:blip r:embed="rId1"/>
          <a:stretch/>
        </p:blipFill>
        <p:spPr>
          <a:xfrm>
            <a:off x="1676520" y="1600200"/>
            <a:ext cx="57783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 thi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Picture 4" descr="empty_wallet_2"/>
          <p:cNvPicPr/>
          <p:nvPr/>
        </p:nvPicPr>
        <p:blipFill>
          <a:blip r:embed="rId1"/>
          <a:stretch/>
        </p:blipFill>
        <p:spPr>
          <a:xfrm>
            <a:off x="2209680" y="1905120"/>
            <a:ext cx="4419720" cy="33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avoid these situations, we proudly present to you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371600" y="1905120"/>
            <a:ext cx="61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Rockwell Extra Bold"/>
              </a:rPr>
              <a:t>THE STERNINA    OR</a:t>
            </a:r>
            <a:r>
              <a:rPr b="1" lang="en-US" sz="4000" spc="-1" strike="noStrike">
                <a:solidFill>
                  <a:srgbClr val="050505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Showcard Gothic"/>
            </a:endParaRPr>
          </a:p>
        </p:txBody>
      </p:sp>
      <p:pic>
        <p:nvPicPr>
          <p:cNvPr id="193" name="Picture 20" descr="tor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828800"/>
            <a:ext cx="17460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2057400" y="2654280"/>
            <a:ext cx="5105520" cy="362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tor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65760" y="1633680"/>
            <a:ext cx="83808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Alcohol Content (BAC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Picture 1467" descr=""/>
          <p:cNvPicPr/>
          <p:nvPr/>
        </p:nvPicPr>
        <p:blipFill>
          <a:blip r:embed="rId1"/>
          <a:stretch/>
        </p:blipFill>
        <p:spPr>
          <a:xfrm>
            <a:off x="90360" y="2133720"/>
            <a:ext cx="8977320" cy="4114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0" y="1054080"/>
            <a:ext cx="88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ric of intoxication 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od alcohol level is dependent on body weight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  <a:p>
            <a:pPr indent="119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rt of various BAC that corresponds to body weight and number of drinks consumed</a:t>
            </a:r>
            <a:endParaRPr b="0" lang="en-US" sz="16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od Alcohol Cont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52480" y="1168560"/>
          <a:ext cx="5639040" cy="5078160"/>
        </p:xfrm>
        <a:graphic>
          <a:graphicData uri="http://schemas.openxmlformats.org/drawingml/2006/table">
            <a:tbl>
              <a:tblPr/>
              <a:tblGrid>
                <a:gridCol w="1143000"/>
                <a:gridCol w="2210040"/>
                <a:gridCol w="2286000"/>
              </a:tblGrid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in Feelings &amp; Personality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&amp; Mental Impair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01-0.06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nse of Well-be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s of Inhibi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wered Alert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Joyou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Though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Judg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Coordina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Concentra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06-0.10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lunted Feeling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isinhibi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Extrover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Impaired Sexual Pleasur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flexes Impaired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ason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pth Percep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istance Acuity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Peripheral Vi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11-0.20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Over-Expres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Emotional Swing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Angry or Sad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oisterou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Reaction Tim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Gross Motor Control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tagger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lurred Speech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21-0.29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tupor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e Understand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Impaired Sensation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vere Motor Impairmen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Loss of 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Memory Blackout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30-0.39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Severe Depress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Un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ath Possibl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ladder Function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reath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0.40-?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Unconsciousness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Death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Breathing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5a58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ffff99"/>
                        </a:solidFill>
                        <a:latin typeface="Showcard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4fb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cohol Dissip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ipation Rate/Hour = 0.016 * 60/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Toasting.jpg"/>
          <p:cNvPicPr/>
          <p:nvPr/>
        </p:nvPicPr>
        <p:blipFill>
          <a:blip r:embed="rId1"/>
          <a:stretch/>
        </p:blipFill>
        <p:spPr>
          <a:xfrm>
            <a:off x="228600" y="4729320"/>
            <a:ext cx="1365120" cy="171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beer-mug.jpg"/>
          <p:cNvPicPr/>
          <p:nvPr/>
        </p:nvPicPr>
        <p:blipFill>
          <a:blip r:embed="rId2"/>
          <a:srcRect l="0" t="0" r="0" b="4429"/>
          <a:stretch/>
        </p:blipFill>
        <p:spPr>
          <a:xfrm>
            <a:off x="7273800" y="4724280"/>
            <a:ext cx="1557360" cy="171936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6"/>
          <p:cNvCxnSpPr>
            <a:stCxn id="206" idx="2"/>
          </p:cNvCxnSpPr>
          <p:nvPr/>
        </p:nvCxnSpPr>
        <p:spPr>
          <a:xfrm>
            <a:off x="7429320" y="1631880"/>
            <a:ext cx="572040" cy="8071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207" name="Straight Arrow Connector 7"/>
          <p:cNvCxnSpPr/>
          <p:nvPr/>
        </p:nvCxnSpPr>
        <p:spPr>
          <a:xfrm flipV="1">
            <a:off x="6476760" y="3077640"/>
            <a:ext cx="881640" cy="7027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208" name="Straight Arrow Connector 11"/>
          <p:cNvCxnSpPr/>
          <p:nvPr/>
        </p:nvCxnSpPr>
        <p:spPr>
          <a:xfrm>
            <a:off x="5307120" y="1736280"/>
            <a:ext cx="713520" cy="726120"/>
          </a:xfrm>
          <a:prstGeom prst="straightConnector1">
            <a:avLst/>
          </a:prstGeom>
          <a:ln w="28440">
            <a:solidFill>
              <a:srgbClr val="800000"/>
            </a:solidFill>
            <a:miter/>
            <a:tailEnd len="med" type="arrow" w="med"/>
          </a:ln>
        </p:spPr>
      </p:cxnSp>
      <p:pic>
        <p:nvPicPr>
          <p:cNvPr id="209" name="Picture 15" descr="cocktails.jpg"/>
          <p:cNvPicPr/>
          <p:nvPr/>
        </p:nvPicPr>
        <p:blipFill>
          <a:blip r:embed="rId3"/>
          <a:stretch/>
        </p:blipFill>
        <p:spPr>
          <a:xfrm>
            <a:off x="3276720" y="4724280"/>
            <a:ext cx="2590560" cy="17193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3124080" y="1371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Average BAC burned off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6019920" y="990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Every 40 minutes a drink can be burned off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457200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60 minutes in an hour</a:t>
            </a:r>
            <a:endParaRPr b="0" lang="en-US" sz="1800" spc="-1" strike="noStrike">
              <a:solidFill>
                <a:srgbClr val="ffff99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44:14Z</dcterms:created>
  <dc:creator>Tom</dc:creator>
  <dc:description/>
  <dc:language>en-US</dc:language>
  <cp:lastModifiedBy>Shauna</cp:lastModifiedBy>
  <dcterms:modified xsi:type="dcterms:W3CDTF">2009-04-27T14:03:43Z</dcterms:modified>
  <cp:revision>38</cp:revision>
  <dc:subject/>
  <dc:title>The Sterninator</dc:title>
</cp:coreProperties>
</file>