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D2B-E662-48A7-AF6E-63C587BF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E5C-DE84-4454-8E41-CA68D188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FF4-B75E-4339-90D4-5C63662C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6B7-6025-40F8-B5BF-C9600D84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8D0-23A1-4299-A7E7-90A0534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06C-9481-4146-BB31-4D6DFB08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29E-3131-46FA-B0B1-B128F84C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4DE-1E99-4BAE-985B-7A816078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6F8-02BC-4FCF-971F-A8E5D3F6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449-7F96-40E8-8E13-44235CAE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94A-D943-423E-908E-5418498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911-B460-44EE-A561-AEDC091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BA39-134F-4C74-8821-2C763EE16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Discussion o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“Good Discussio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ud Bokste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ve Housing and Real Estate Index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 Average = 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2017800"/>
            <a:ext cx="5791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Blame it on the Rain?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at is falling, falling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shine Factor: based on average number of hours of sunshine per daylight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Factor: Adjustment based on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standardization of solar power; lower temperature improves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477800"/>
            <a:ext cx="7238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240840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2000" y="240840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477036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572000" y="4770360"/>
            <a:ext cx="4572000" cy="2011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52480" y="990720"/>
            <a:ext cx="1295640" cy="1218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3854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54100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s of Profitability = 1 – 91.961% = 8.03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NPV = -$7,382,1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n N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7,382,1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0,994,7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0,656,4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2,036,1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4,937,5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20,335,4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ability of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03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1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100,000 trials given a 18 year (1990-2007) commercial historical annual price change mean and standard deviation with available power output sold at prevailing market price, and 25 year operating life for solar p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New York the “Winner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starting prices for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higher mean increases per year, and highest price vola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Cost, already a small proportion of the costs of a plant, are not enough to pu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Weather isn’t explicitly bad for solar power, and actually improves efficiency output (but clouds a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w?  If not now, when?  If not us,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gains i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ecrease of solar pa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hanges and volatility by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government subsi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: 70,000 yen (approx. $700) per kilowatt of solar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30MW = 30000*700 = $21MM sub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THIS SHIT 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n again, the government would get to regulate the price – there goes your N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we wait to build in New York, given continued improvements in output effici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809720"/>
          <a:ext cx="822960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09720"/>
                    <a:ext cx="822960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Limitations and Final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250 acres of empty land in New York…re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grid able to support solar energy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ity of demand for energy with 30MW extra inpu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C Annual KWh Usage: ~38.6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plant would account for 0.043% of NYC market’s annual powe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sell it?  Government influence for allo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urchase agreement and long-term contra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tracked the number of “Good Discussion” comments over the course of the semester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246204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3885840" y="3962520"/>
            <a:ext cx="12193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429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Juran-free days…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4083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OLE MONTH OF GOOD-DISCUSSION FREE DA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4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T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? (no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regressed it against the S&amp;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1600200"/>
          <a:ext cx="7467840" cy="50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191120" y="259092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: 0.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 serio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838080"/>
            <a:ext cx="8458200" cy="3020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H NO HE DID’N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!!!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ran controls the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Good Discussions strongly correlates to marke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4495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Put Solar P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ud Bokste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Might We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1711440"/>
            <a:ext cx="8610480" cy="4460760"/>
            <a:chOff x="304920" y="1711440"/>
            <a:chExt cx="8610480" cy="4460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37495" t="38510" r="9374" b="15627"/>
            <a:stretch/>
          </p:blipFill>
          <p:spPr>
            <a:xfrm>
              <a:off x="304920" y="1711440"/>
              <a:ext cx="8610480" cy="44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286000" y="4495680"/>
              <a:ext cx="380880" cy="38124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3809880"/>
              <a:ext cx="380880" cy="38124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464832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8320" y="525780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304812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2400" y="320040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ata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, lifetime, and efficiency of a typical solar power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ing market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estat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Rate: assumed to be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ypical Solar Power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24280" y="1874520"/>
            <a:ext cx="42674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3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Cost: ~$3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Area: ~250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: $0.01/K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Operating Temperature: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Gain: 0.25% per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fespan: 2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8547"/>
          <a:stretch/>
        </p:blipFill>
        <p:spPr>
          <a:xfrm>
            <a:off x="1371600" y="4114800"/>
            <a:ext cx="3200400" cy="251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1432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sts in Our Six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478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assumption going forward: Energy price changes will be normally distributed around the mean and standard deviation of the 17-year historical annual price changes, based on commercial energy costs in each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5:18:03Z</dcterms:created>
  <dc:creator>Andrew Ward</dc:creator>
  <dc:description/>
  <dc:language>en-US</dc:language>
  <cp:lastModifiedBy>Andrew Ward</cp:lastModifiedBy>
  <dcterms:modified xsi:type="dcterms:W3CDTF">2009-04-22T00:45:45Z</dcterms:modified>
  <cp:revision>73</cp:revision>
  <dc:subject/>
  <dc:title>Slide 1</dc:title>
</cp:coreProperties>
</file>